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0BA-4F9E-4963-9233-81225898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8001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829080" y="4956120"/>
            <a:ext cx="8001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DE2-3F13-4DC2-9195-9591D07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82908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7060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EB6-3368-4293-9029-5F789696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76320" y="249228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81720" y="249228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829080" y="495612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76320" y="495612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81720" y="495612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2EA-0B59-4E3D-9448-754C685E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EB9D-910A-4C64-B3A9-86F1E5AE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829080" y="2492280"/>
            <a:ext cx="80010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D5F5-5EEB-4316-A220-03EF5B38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8001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9E1-ADA2-4438-BBFF-1C673F5A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D1AE-751C-4E9B-9762-03AD489E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13AD-27C4-46FB-A1B5-F9F5D6A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B6E2-1B51-49B9-B1B9-182445D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-82908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141-E84B-40FE-8D49-6CBC92B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829080" y="2492280"/>
            <a:ext cx="80010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822-5B6B-47D2-93F7-5A1CCC29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7060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3EC7-6153-4803-A4CA-E6A5CBEF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-829080" y="4956120"/>
            <a:ext cx="8001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0DC-E3DF-40ED-A6EA-3B0D526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8001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-829080" y="4956120"/>
            <a:ext cx="8001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E2B9-2867-436E-83DF-A4A03A8D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-82908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27060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D46-2A09-4B96-B980-7DB01450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876320" y="249228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81720" y="249228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-829080" y="495612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1876320" y="495612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4581720" y="4956120"/>
            <a:ext cx="257616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5AAC-15F5-49F8-896F-6E310BC9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8001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9C2-ADCF-4678-8FFF-50BE3681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7A4-5CDB-4156-89C3-6B3E8D2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3D5-66C8-4E2E-8FBC-854C760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83D-114E-46E7-94E5-CD3178FC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82908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7C9-99A5-4FEB-B449-DFB8284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70600" y="495612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AC4-66C2-4D10-96EB-171C08C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82908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70600" y="2492280"/>
            <a:ext cx="39042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829080" y="4956120"/>
            <a:ext cx="80010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20A-E453-4525-A9A2-583CDB5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829080" y="2492280"/>
            <a:ext cx="8001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0720" y="6248520"/>
            <a:ext cx="5867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GB" sz="9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3333cc"/>
                </a:solidFill>
                <a:latin typeface="Arial"/>
              </a:rPr>
              <a:t>Paper presented at the “Knowledge for Regional Innovation – Towards Regions for Economic Change” ERIK Network Conference, Brussels, 10-11 May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5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9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9BE5-A84C-4C9B-B803-626ADAF74FDA}" type="slidenum">
              <a:rPr b="1" lang="en-US" sz="1200" spc="-1" strike="noStrike">
                <a:solidFill>
                  <a:srgbClr val="99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The image “file://///Uk-ac-man-ec-fs1/vol1/PREST/LOGOS/new%20university%20logo%20-%20do%20not%20use%20before%201st%20oct%20under%20pain%20of%20death/powerpoint%20or%20web/logo_mbs_v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276720" y="0"/>
            <a:ext cx="2743200" cy="457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Institute of Innovation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E2B-F9E1-4CAD-A8B2-F83EAE3CFA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052280"/>
            <a:ext cx="72388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The Role and Significance of Knowledge in Regional Innovation and Economic Development:</a:t>
            </a:r>
            <a:br>
              <a:rPr sz="3200"/>
            </a:br>
            <a:r>
              <a:rPr b="1" lang="en-US" sz="3200" spc="-1" strike="noStrike">
                <a:solidFill>
                  <a:srgbClr val="7e9ce8"/>
                </a:solidFill>
                <a:latin typeface="Arial"/>
                <a:ea typeface="Times New Roman"/>
              </a:rPr>
              <a:t>Academic and Research Perspective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76360" cy="219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19280" y="422100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Jeremy How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FB2-F7A1-4527-896A-C8A5A572E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26920" y="1052640"/>
          <a:ext cx="8001000" cy="50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8001000" cy="50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843280" y="589752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* based on co-authorship of ISI papers, 1993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AA3-A9F7-4512-BDEB-058929CFF1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755640" y="1125360"/>
          <a:ext cx="7848720" cy="532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25360"/>
                    <a:ext cx="784872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81E-63FA-457D-B35D-B58B047FF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173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3. Universities and Regions: II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60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Universities &amp; Regional Knowledg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rm-HEI (university) links within this…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ttl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idenc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f dense highly inter-dependen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nowledge and learning networks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…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when you look at the firm’s total interactions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ually only a small involvement with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w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olum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f firm-HEI links (and firm-firm)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w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gnificanc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lso (CIS-2/3/4 data for UK –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ry low ra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mand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biggest single barrier to developi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ccessful university-industry collaboration (UK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mbert Review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E17-A21C-4A11-9756-04E958E2B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17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3. Universities and Regions: IV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278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Universities &amp; Regional Knowledg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reover f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cus of thos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‘in’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e knowledge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arni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twork, very little regard for tho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clud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ttle or no analysis of those individuals or firm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utside the knowledge networks (Who are they?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y not participating in such networks,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tc.?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. how they could be included in such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A8F-7663-47BA-AFE4-A621AD281D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7251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4. Key Concer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eterogeneit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f regional experiences mak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licy making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alysis often still vague and concept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mpre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ill focus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‘high peaks’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f high technolog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innovation (c.f. mass of ‘ordinary firms’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verplay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local and regional knowledg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nd to look at what is there and overlook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‘disposed’, i.e. thos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 networks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no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cknowledged regions act as key loci f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mand for innova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novelty seeking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reativity, but little or no evidence on t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C90-2806-4BAE-B768-19491006C8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981000"/>
            <a:ext cx="68580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Times New Roman"/>
              </a:rPr>
              <a:t>Thank You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332000" y="2630880"/>
            <a:ext cx="7315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76360" cy="219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200" y="2971800"/>
            <a:ext cx="6645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Jeremy How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eremy.howells@mbs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918-F4D2-457A-8A8B-1B4653F30D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10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1. Introduc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ents in light of the ERIK report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lcome the report and recommendations….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gnificant and growing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ake two perspectives: 1) briefly highlight som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y issues and problems; the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2) take this up from a more specific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iversity/HEI perspect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508-AA1F-49B9-9B19-F752D5D3C6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17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2. Regions, Knowledge and Innovation: 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regions important in the context of knowledge and innov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atial proximity matters in knowledge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) Importance of skilled professional/technical workforce - again TTWA/regional i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) Regions are significant learn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291-1071-4A86-8E0C-B0C387C9C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559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2. Regions, Knowledge and Innovation: I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20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1) Proximity matters in knowledge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Geography still counts in terms of knowledg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activity (Morgan 2001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erhaps more surprising given the assum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spatially unconstrained nature of codifi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knowledge is that both measures of taci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codified knowledge suggest localised patterns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action (Howells 2002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EEC-645B-4C9B-8A8B-60981AC2F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71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2. Regions, Knowledge and Innovation: II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2) Skilled professional/technical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Most, if not all studies, emphasis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mportance of skilled labour in knowledge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learn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These ‘labour pools’ need to be stable but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net in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egions need to b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attrac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to attract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etain such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‘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Labour pools’ need to be socially integrated b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diverse, refreshed with ‘new blood’ to avoid ‘lock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’ and 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D3A-49EE-4FF8-A51D-2B11050F6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561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2. Regions, Knowledge and Innovation: IV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994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3) Regions provide good learn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s can provide a rich, combinatorial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vironment which combines: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atial proxi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pportunities for inter-organizational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ac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mand criteria which supports novelt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eking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novation in terms of new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arning routines (but see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od supply conditions in terms skilled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mportant social and cultur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B2A-27D6-4BC0-ACC0-157D498DC3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32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2. Regions, Knowledge and Innovation: V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But Problem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re studies, more variety between regions unearthed… ever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eat heterogeneit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e.g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mie et al. 200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l (vague?) concepts accepted, but difficult to find specific findings/agreement, e.g. on what makes a good region for knowledge and innovation? Even what is knowled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fficult to provide generalisations and policy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93D-2274-42CE-9B01-E493B528BA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17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3. Universities and Regions: 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bout the role of universities/HEIs (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) in this contex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ak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K North Wes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region (dominated b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nchester and Liverpool ‘city regions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below av. GVA for UK; ranked 56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o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novative in Europe (EU-25; Hollanders 2007);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6 HEIs + few PREs/quasi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; mature well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stablished knowledg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 we find re. regional knowledge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C5F-DE0B-461B-9C19-ECE665AFF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17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3. Universities and Regions: I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Universities &amp; Regional Knowledg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ke to think that regions are spaces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n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cal circuits of knowledge with inten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action between within and between differen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‘actor’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firms, universities, etc.)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ut is this true even with compatible, peer-to-pee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oups, e.g. high technology, research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ctually very weak industry-academic link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379-C6D7-4156-BCD9-5F14869F24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7:45:41Z</dcterms:created>
  <dc:creator>Khaleel Malik</dc:creator>
  <dc:description/>
  <dc:language>en-US</dc:language>
  <cp:lastModifiedBy>huntingford</cp:lastModifiedBy>
  <dcterms:modified xsi:type="dcterms:W3CDTF">2007-05-08T09:43:10Z</dcterms:modified>
  <cp:revision>140</cp:revision>
  <dc:subject/>
  <dc:title>Technology Foresight for Fi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0313003</vt:r8>
  </property>
  <property fmtid="{D5CDD505-2E9C-101B-9397-08002B2CF9AE}" pid="3" name="_AuthorEmail">
    <vt:lpwstr>huntingford@regionicentroitalia.org</vt:lpwstr>
  </property>
  <property fmtid="{D5CDD505-2E9C-101B-9397-08002B2CF9AE}" pid="4" name="_AuthorEmailDisplayName">
    <vt:lpwstr>Jessica Huntingford</vt:lpwstr>
  </property>
  <property fmtid="{D5CDD505-2E9C-101B-9397-08002B2CF9AE}" pid="5" name="_EmailSubject">
    <vt:lpwstr>howells</vt:lpwstr>
  </property>
</Properties>
</file>