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DC63B-85BF-412F-81B4-C121E5B37A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8000" y="457200"/>
            <a:ext cx="885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8000" y="1980720"/>
            <a:ext cx="8856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8000" y="4010760"/>
            <a:ext cx="8856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CC0BC-202F-428C-9B13-7309E853B3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8000" y="457200"/>
            <a:ext cx="885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000" y="1980720"/>
            <a:ext cx="4321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46160" y="1980720"/>
            <a:ext cx="4321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8000" y="4010760"/>
            <a:ext cx="4321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46160" y="4010760"/>
            <a:ext cx="4321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5D7DE-DAF3-4D03-BB61-AA27DDC0DD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8000" y="457200"/>
            <a:ext cx="885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980720"/>
            <a:ext cx="2851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02480" y="1980720"/>
            <a:ext cx="2851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6960" y="1980720"/>
            <a:ext cx="2851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8000" y="4010760"/>
            <a:ext cx="2851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02480" y="4010760"/>
            <a:ext cx="2851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6960" y="4010760"/>
            <a:ext cx="2851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A56FD-4E6E-48FB-901B-ED7E24F930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457200"/>
            <a:ext cx="885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8000" y="1980720"/>
            <a:ext cx="8856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8000" y="457200"/>
            <a:ext cx="885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000" y="1980720"/>
            <a:ext cx="8856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8000" y="457200"/>
            <a:ext cx="885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00" y="1980720"/>
            <a:ext cx="4321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6160" y="1980720"/>
            <a:ext cx="4321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457200"/>
            <a:ext cx="885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8000" y="457200"/>
            <a:ext cx="8856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8000" y="457200"/>
            <a:ext cx="885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000" y="1980720"/>
            <a:ext cx="4321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6160" y="1980720"/>
            <a:ext cx="4321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8000" y="4010760"/>
            <a:ext cx="4321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8000" y="457200"/>
            <a:ext cx="885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8000" y="1980720"/>
            <a:ext cx="8856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ECE33-CD89-4E03-89C5-81DEE4648C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8000" y="457200"/>
            <a:ext cx="885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8000" y="1980720"/>
            <a:ext cx="4321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6160" y="1980720"/>
            <a:ext cx="4321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46160" y="4010760"/>
            <a:ext cx="4321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8000" y="457200"/>
            <a:ext cx="885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8000" y="1980720"/>
            <a:ext cx="4321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6160" y="1980720"/>
            <a:ext cx="4321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8000" y="4010760"/>
            <a:ext cx="8856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8000" y="457200"/>
            <a:ext cx="885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1980720"/>
            <a:ext cx="8856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8000" y="4010760"/>
            <a:ext cx="8856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8000" y="457200"/>
            <a:ext cx="885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980720"/>
            <a:ext cx="4321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6160" y="1980720"/>
            <a:ext cx="4321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8000" y="4010760"/>
            <a:ext cx="4321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46160" y="4010760"/>
            <a:ext cx="4321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000" y="457200"/>
            <a:ext cx="885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980720"/>
            <a:ext cx="2851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02480" y="1980720"/>
            <a:ext cx="2851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6960" y="1980720"/>
            <a:ext cx="2851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8000" y="4010760"/>
            <a:ext cx="2851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02480" y="4010760"/>
            <a:ext cx="2851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96960" y="4010760"/>
            <a:ext cx="28515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8000" y="457200"/>
            <a:ext cx="885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1980720"/>
            <a:ext cx="8856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54F5D-C3D9-4758-86EB-9FA30EE8B9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8000" y="457200"/>
            <a:ext cx="885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000" y="1980720"/>
            <a:ext cx="4321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6160" y="1980720"/>
            <a:ext cx="4321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03628-037E-48C1-A434-190F3E9EEB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8000" y="457200"/>
            <a:ext cx="885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695B0-6D7C-4F83-83FA-A92BEBD07C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8000" y="457200"/>
            <a:ext cx="8856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9F85E-898F-4250-97AF-92BA90FCD1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8000" y="457200"/>
            <a:ext cx="885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8000" y="1980720"/>
            <a:ext cx="4321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6160" y="1980720"/>
            <a:ext cx="4321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8000" y="4010760"/>
            <a:ext cx="4321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F289D-C506-4B3A-ABB4-2CEF82CE4C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8000" y="457200"/>
            <a:ext cx="885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1980720"/>
            <a:ext cx="4321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6160" y="1980720"/>
            <a:ext cx="4321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46160" y="4010760"/>
            <a:ext cx="4321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7D8DB-01A3-442A-8A96-48692EDD18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8000" y="457200"/>
            <a:ext cx="885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8000" y="1980720"/>
            <a:ext cx="4321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6160" y="1980720"/>
            <a:ext cx="4321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8000" y="4010760"/>
            <a:ext cx="8856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8ABD9-8D41-4037-AB8B-1D3AC26D46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ps.ic.ac.uk/news.htm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hyperlink" Target="http://www.ps.ic.ac.uk/news.htm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CAB8-090E-4BD4-8600-C18FD46F6B5A}" type="datetime">
              <a:rPr b="0" lang="en-GB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8000" y="457200"/>
            <a:ext cx="885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108000" y="1980720"/>
            <a:ext cx="8856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rcRect l="0" t="9252" r="0" b="0"/>
          <a:stretch/>
        </p:blipFill>
        <p:spPr>
          <a:xfrm>
            <a:off x="123840" y="115920"/>
            <a:ext cx="9020160" cy="7016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The Queen's Anniversary Prizes 2002">
            <a:hlinkClick r:id="rId3"/>
          </p:cNvPr>
          <p:cNvPicPr/>
          <p:nvPr/>
        </p:nvPicPr>
        <p:blipFill>
          <a:blip r:embed="rId4">
            <a:lum contrast="66000"/>
          </a:blip>
          <a:srcRect l="0" t="0" r="0" b="30333"/>
          <a:stretch/>
        </p:blipFill>
        <p:spPr>
          <a:xfrm>
            <a:off x="3789360" y="247680"/>
            <a:ext cx="379440" cy="349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816240" y="1969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600" spc="-1" strike="noStrike">
                <a:solidFill>
                  <a:srgbClr val="254b71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85F1-167F-4934-A90F-752FBADB5D7D}" type="slidenum">
              <a:rPr b="0" lang="en-GB" sz="2600" spc="-1" strike="noStrike">
                <a:solidFill>
                  <a:srgbClr val="254b71"/>
                </a:solidFill>
                <a:latin typeface="Arial Rounded MT Bold"/>
              </a:rPr>
              <a:t>&lt;number&gt;</a:t>
            </a:fld>
            <a:r>
              <a:rPr b="0" lang="en-GB" sz="2000" spc="-1" strike="noStrike">
                <a:solidFill>
                  <a:srgbClr val="254b71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rcRect l="6930" t="8654" r="0" b="15368"/>
          <a:stretch/>
        </p:blipFill>
        <p:spPr>
          <a:xfrm>
            <a:off x="4457880" y="189000"/>
            <a:ext cx="1366560" cy="43164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117360" y="115920"/>
            <a:ext cx="8917200" cy="6630840"/>
            <a:chOff x="117360" y="115920"/>
            <a:chExt cx="8917200" cy="6630840"/>
          </a:xfrm>
        </p:grpSpPr>
        <p:sp>
          <p:nvSpPr>
            <p:cNvPr id="8" name=""/>
            <p:cNvSpPr/>
            <p:nvPr/>
          </p:nvSpPr>
          <p:spPr>
            <a:xfrm>
              <a:off x="8962920" y="115920"/>
              <a:ext cx="71640" cy="6629400"/>
            </a:xfrm>
            <a:prstGeom prst="rect">
              <a:avLst/>
            </a:prstGeom>
            <a:gradFill rotWithShape="0">
              <a:gsLst>
                <a:gs pos="0">
                  <a:srgbClr val="254b71"/>
                </a:gs>
                <a:gs pos="50000">
                  <a:srgbClr val="4c88c4"/>
                </a:gs>
                <a:gs pos="100000">
                  <a:srgbClr val="254b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17360" y="115920"/>
              <a:ext cx="71640" cy="6629400"/>
            </a:xfrm>
            <a:prstGeom prst="rect">
              <a:avLst/>
            </a:prstGeom>
            <a:gradFill rotWithShape="0">
              <a:gsLst>
                <a:gs pos="0">
                  <a:srgbClr val="254b71"/>
                </a:gs>
                <a:gs pos="50000">
                  <a:srgbClr val="4c88c4"/>
                </a:gs>
                <a:gs pos="100000">
                  <a:srgbClr val="254b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5400000">
              <a:off x="4537800" y="2262600"/>
              <a:ext cx="71280" cy="8896320"/>
            </a:xfrm>
            <a:prstGeom prst="rect">
              <a:avLst/>
            </a:prstGeom>
            <a:gradFill rotWithShape="0">
              <a:gsLst>
                <a:gs pos="0">
                  <a:srgbClr val="254b71"/>
                </a:gs>
                <a:gs pos="50000">
                  <a:srgbClr val="4c88c4"/>
                </a:gs>
                <a:gs pos="100000">
                  <a:srgbClr val="254b7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5400000">
              <a:off x="4533120" y="-4296600"/>
              <a:ext cx="71280" cy="8896320"/>
            </a:xfrm>
            <a:prstGeom prst="rect">
              <a:avLst/>
            </a:prstGeom>
            <a:gradFill rotWithShape="0">
              <a:gsLst>
                <a:gs pos="0">
                  <a:srgbClr val="254b71"/>
                </a:gs>
                <a:gs pos="50000">
                  <a:srgbClr val="4c88c4"/>
                </a:gs>
                <a:gs pos="100000">
                  <a:srgbClr val="254b7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" name="" descr=""/>
          <p:cNvPicPr/>
          <p:nvPr/>
        </p:nvPicPr>
        <p:blipFill>
          <a:blip r:embed="rId6"/>
          <a:stretch/>
        </p:blipFill>
        <p:spPr>
          <a:xfrm>
            <a:off x="7121520" y="228600"/>
            <a:ext cx="936720" cy="39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rcRect l="0" t="0" r="5644" b="315"/>
          <a:stretch/>
        </p:blipFill>
        <p:spPr>
          <a:xfrm>
            <a:off x="111240" y="1440"/>
            <a:ext cx="9034200" cy="6853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The Queen's Anniversary Prizes 20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66000" y="260280"/>
            <a:ext cx="1015920" cy="1349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rcRect l="0" t="0" r="98129" b="252"/>
          <a:stretch/>
        </p:blipFill>
        <p:spPr>
          <a:xfrm>
            <a:off x="0" y="1440"/>
            <a:ext cx="179280" cy="685656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117360" y="115920"/>
            <a:ext cx="8917200" cy="6630840"/>
            <a:chOff x="117360" y="115920"/>
            <a:chExt cx="8917200" cy="6630840"/>
          </a:xfrm>
        </p:grpSpPr>
        <p:sp>
          <p:nvSpPr>
            <p:cNvPr id="54" name=""/>
            <p:cNvSpPr/>
            <p:nvPr/>
          </p:nvSpPr>
          <p:spPr>
            <a:xfrm>
              <a:off x="8962920" y="115920"/>
              <a:ext cx="71640" cy="6629400"/>
            </a:xfrm>
            <a:prstGeom prst="rect">
              <a:avLst/>
            </a:prstGeom>
            <a:gradFill rotWithShape="0">
              <a:gsLst>
                <a:gs pos="0">
                  <a:srgbClr val="254b71"/>
                </a:gs>
                <a:gs pos="50000">
                  <a:srgbClr val="4c88c4"/>
                </a:gs>
                <a:gs pos="100000">
                  <a:srgbClr val="254b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7360" y="115920"/>
              <a:ext cx="71640" cy="6629400"/>
            </a:xfrm>
            <a:prstGeom prst="rect">
              <a:avLst/>
            </a:prstGeom>
            <a:gradFill rotWithShape="0">
              <a:gsLst>
                <a:gs pos="0">
                  <a:srgbClr val="254b71"/>
                </a:gs>
                <a:gs pos="50000">
                  <a:srgbClr val="4c88c4"/>
                </a:gs>
                <a:gs pos="100000">
                  <a:srgbClr val="254b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5400000">
              <a:off x="4537800" y="2262600"/>
              <a:ext cx="71280" cy="8896320"/>
            </a:xfrm>
            <a:prstGeom prst="rect">
              <a:avLst/>
            </a:prstGeom>
            <a:gradFill rotWithShape="0">
              <a:gsLst>
                <a:gs pos="0">
                  <a:srgbClr val="254b71"/>
                </a:gs>
                <a:gs pos="50000">
                  <a:srgbClr val="4c88c4"/>
                </a:gs>
                <a:gs pos="100000">
                  <a:srgbClr val="254b7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4533120" y="-4296600"/>
              <a:ext cx="71280" cy="8896320"/>
            </a:xfrm>
            <a:prstGeom prst="rect">
              <a:avLst/>
            </a:prstGeom>
            <a:gradFill rotWithShape="0">
              <a:gsLst>
                <a:gs pos="0">
                  <a:srgbClr val="254b71"/>
                </a:gs>
                <a:gs pos="50000">
                  <a:srgbClr val="4c88c4"/>
                </a:gs>
                <a:gs pos="100000">
                  <a:srgbClr val="254b7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6"/>
          <a:srcRect l="11021" t="33206" r="24010" b="38376"/>
          <a:stretch/>
        </p:blipFill>
        <p:spPr>
          <a:xfrm>
            <a:off x="187200" y="1684440"/>
            <a:ext cx="8786880" cy="2558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rcRect l="6930" t="0" r="0" b="0"/>
          <a:stretch/>
        </p:blipFill>
        <p:spPr>
          <a:xfrm>
            <a:off x="255600" y="1636560"/>
            <a:ext cx="1724040" cy="6796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98560" y="2421000"/>
            <a:ext cx="8353440" cy="24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NETWORK OVERVIEW &amp;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POLICY RECOMMEND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520720" y="4632120"/>
            <a:ext cx="701964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fessor Stratos Pistikopou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RIK Network Conference: Knowledge for Regional Innovation   Brussels, 10-11/05/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35280" y="1650960"/>
            <a:ext cx="72882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ERIK Network</a:t>
            </a:r>
            <a:br>
              <a:rPr sz="4400"/>
            </a:br>
            <a:r>
              <a:rPr b="0" i="1" lang="en-US" sz="1800" spc="-1" strike="noStrike">
                <a:solidFill>
                  <a:srgbClr val="ffffff"/>
                </a:solidFill>
                <a:latin typeface="Arial Rounded MT Bold"/>
              </a:rPr>
              <a:t>Regional Policies for Innovation </a:t>
            </a:r>
            <a:br>
              <a:rPr sz="1800"/>
            </a:br>
            <a:r>
              <a:rPr b="0" i="1" lang="en-US" sz="1800" spc="-1" strike="noStrike">
                <a:solidFill>
                  <a:srgbClr val="ffffff"/>
                </a:solidFill>
                <a:latin typeface="Arial Rounded MT Bold"/>
              </a:rPr>
              <a:t>through the Knowledge-Based Society</a:t>
            </a:r>
            <a:br>
              <a:rPr sz="1800"/>
            </a:br>
            <a:br>
              <a:rPr sz="36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14360" y="4476600"/>
            <a:ext cx="1800360" cy="785880"/>
          </a:xfrm>
          <a:prstGeom prst="rect">
            <a:avLst/>
          </a:prstGeom>
          <a:ln w="0">
            <a:noFill/>
          </a:ln>
        </p:spPr>
      </p:pic>
      <p:pic>
        <p:nvPicPr>
          <p:cNvPr id="101" name="eu_logo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395280" y="5407200"/>
            <a:ext cx="18003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42920" y="1700280"/>
            <a:ext cx="8893080" cy="43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Collaboration &amp; idea exchange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among EU regions: many strengths &amp; experienc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Innovation: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a real, pressing and long-term challenge that must be explored in E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Thematic Working Groups (TWGs)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have clear goals: flexibility for ERIK members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Dynamic and flexible structure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: rapid policy transfer, adaptation to new are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Long operation time (4 years):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wide variety of activities, intensive transfer of skill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Unique experience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in production and management of knowledge and polic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Well known in many EU regions: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academic, corporate, administration contac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840" y="620640"/>
            <a:ext cx="8507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c88c4"/>
                </a:solidFill>
                <a:latin typeface="Arial Rounded MT Bold"/>
              </a:rPr>
              <a:t>SWOT Analysis: </a:t>
            </a:r>
            <a:r>
              <a:rPr b="0" lang="en-US" sz="3600" spc="-1" strike="noStrike">
                <a:solidFill>
                  <a:srgbClr val="0099cc"/>
                </a:solidFill>
                <a:latin typeface="Arial Rounded MT Bold"/>
              </a:rPr>
              <a:t>Strengths (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705AE-E581-495F-9144-5994D98DAF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2920" y="1844640"/>
            <a:ext cx="8893080" cy="31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Many EU member regions: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inevitable organisational, work management challen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Large management structure: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internal communication and administration bur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Several other EU policy study networks exist: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collaboration desirable but limi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Lack of complementary concrete a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No tool to ensure participation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&amp; commitment from regional policy mak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840" y="620640"/>
            <a:ext cx="8507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c88c4"/>
                </a:solidFill>
                <a:latin typeface="Arial Rounded MT Bold"/>
              </a:rPr>
              <a:t>SWOT Analysis: </a:t>
            </a:r>
            <a:r>
              <a:rPr b="0" lang="en-US" sz="3600" spc="-1" strike="noStrike">
                <a:solidFill>
                  <a:srgbClr val="cc6600"/>
                </a:solidFill>
                <a:latin typeface="Arial Rounded MT Bold"/>
              </a:rPr>
              <a:t>Weaknesses (W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8E612-DD14-4391-950A-113A1BD49A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2920" y="1844640"/>
            <a:ext cx="8893080" cy="43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EU regions can gain unique ideas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for planning, development and policy ma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Recent EU Enlargement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&amp; New Programming Period increase need for network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- ERIK operation experience: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very valuable for large-scale network experimen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- ERIK knowledge database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accelerates experience and best practices transf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Knowledge-driven innovation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, best practices improve regions’ econ. stand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ERIK dynamism and adaptability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allows evolution and expansion in new for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-   Possible to pursue REC participation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(Regions for Economic Change initiativ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2840" y="620640"/>
            <a:ext cx="8507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c88c4"/>
                </a:solidFill>
                <a:latin typeface="Arial Rounded MT Bold"/>
              </a:rPr>
              <a:t>SWOT Analysis: </a:t>
            </a:r>
            <a:r>
              <a:rPr b="0" lang="en-US" sz="3600" spc="-1" strike="noStrike">
                <a:solidFill>
                  <a:srgbClr val="00cc66"/>
                </a:solidFill>
                <a:latin typeface="Arial Rounded MT Bold"/>
              </a:rPr>
              <a:t>Opportunities (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630E4-97D1-4872-9222-E75F4D190A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2840" y="620640"/>
            <a:ext cx="8507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c88c4"/>
                </a:solidFill>
                <a:latin typeface="Arial Rounded MT Bold"/>
              </a:rPr>
              <a:t>SWOT Analysis: </a:t>
            </a:r>
            <a:r>
              <a:rPr b="0" lang="en-US" sz="3600" spc="-1" strike="noStrike">
                <a:solidFill>
                  <a:srgbClr val="cc0000"/>
                </a:solidFill>
                <a:latin typeface="Arial Rounded MT Bold"/>
              </a:rPr>
              <a:t>Threats (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2920" y="1844640"/>
            <a:ext cx="8893080" cy="37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Possible EU policy/budget changes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may cause diminished financial suppor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- EU admin. &amp; financial support changes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may limit national &amp; local govt. interes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National strategy changes/differences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may impede regional commitment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Human/organisational changes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in regional structures impact policy priori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Extreme variability 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in the duration of regional/national decision-making proc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- shift in prior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8A6E0-9FC2-40D1-98F3-B725FF3509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42920" y="1700280"/>
            <a:ext cx="918216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Learn from excellence as well as from mistakes 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in Pro-Active Environ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Move towards concrete actions 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in knowledge/experience exchange &amp; innov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Ensure basic services 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to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(and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 frequent communication 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of)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network member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Ensure growth 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by open dialogue, adaptive transfer of ideas, actions &amp; struct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- Cooperate with the wider world 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(outside EU) on innovation iss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Ensure a future 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by intra- and inter-network cooperation and commun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- Identify inevitable overlaps 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among partners to minimize effort du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Identify vital interlinks 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of the methodological approaches to promote coope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840" y="620640"/>
            <a:ext cx="8507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c88c4"/>
                </a:solidFill>
                <a:latin typeface="Arial Rounded MT Bold"/>
              </a:rPr>
              <a:t>Network Policy Recommend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30009-8941-4FF7-B122-BB72D6E8B6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12840" y="620640"/>
            <a:ext cx="8507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c88c4"/>
                </a:solidFill>
                <a:latin typeface="Arial Rounded MT Bold"/>
              </a:rPr>
              <a:t>General Policy Recommend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2920" y="1700280"/>
            <a:ext cx="9001080" cy="43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Build policies from territorial strengths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by systematic study of regions’ potent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-  Acquire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a systematic, detailed and quantified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understanding of each reg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Emphasize education: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encourage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innovation at the sources of knowled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lan for success as well as failure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by accepting uncertainty and financial ris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Introduce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ultiple, flexible and consistent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support measures for innov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Encourage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established &amp; novel vehicles for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fin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Reg. governments: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se EU funds to experiment &amp; kick-start sustainable innov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66204-718F-4E08-99B5-F798952F08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42920" y="1924200"/>
            <a:ext cx="900108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Finance academic R&amp;D outreach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events, innovation open days, reg. exhibi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Researchers, entrepreneurs and administrators must interact and communic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Emphasize ways 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for identifying, protecting and managing 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intellectual proper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Vehicles: Patent acquisition, expert R&amp;D pipeline management (PSE, ParO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Introduce financial incentives 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for quicker, profitable univ.-business collabo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Financial rewards, equitable participation and extrovert attitude: all substant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907920"/>
            <a:ext cx="8507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c88c4"/>
                </a:solidFill>
                <a:latin typeface="Arial Rounded MT Bold"/>
              </a:rPr>
              <a:t>Specific Policy Recommend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196F1-8449-4CFE-86BE-AEBA9DF69A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2920" y="1989000"/>
            <a:ext cx="9253440" cy="39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Provide access 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to basic infrastructure, technology parks &amp; expert innov. medi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GB" sz="2200" spc="-1" strike="noStrike">
                <a:solidFill>
                  <a:srgbClr val="000000"/>
                </a:solidFill>
                <a:latin typeface="Arial Narrow"/>
              </a:rPr>
              <a:t>Imperial Innovations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(expert suppor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Identify existing triple-helix clusters of excellence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: periodic quantitative surve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Capture meta-knowledge 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by systematic compilation of success &amp; failure stor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Privileged (restricted/customisable access) online databases are instrumental 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SzPct val="75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2840" y="905040"/>
            <a:ext cx="8507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c88c4"/>
                </a:solidFill>
                <a:latin typeface="Arial Rounded MT Bold"/>
              </a:rPr>
              <a:t>Specific Policy Recommend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9F872-BE4A-433D-AF56-6DC5A4CB97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42920" y="1557360"/>
            <a:ext cx="9253440" cy="28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Catalyse the creation of new clusters 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by providing forums for R&amp;D, tech. transf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GB" sz="2200" spc="-1" strike="noStrike">
                <a:solidFill>
                  <a:srgbClr val="000000"/>
                </a:solidFill>
                <a:latin typeface="Arial Narrow"/>
              </a:rPr>
              <a:t>MIT-Cambridge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Univ. Alliance, </a:t>
            </a:r>
            <a:r>
              <a:rPr b="0" i="1" lang="en-GB" sz="2200" spc="-1" strike="noStrike">
                <a:solidFill>
                  <a:srgbClr val="000000"/>
                </a:solidFill>
                <a:latin typeface="Arial Narrow"/>
              </a:rPr>
              <a:t>iCPSE Centre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(Imperial College-Georgia Tech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Fund case studies: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analyse large-scale paradigms in knowledge-driven innova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Distribute financial support: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identify strategic priorities &amp; outstanding perform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00" y="907920"/>
            <a:ext cx="8507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c88c4"/>
                </a:solidFill>
                <a:latin typeface="Arial Rounded MT Bold"/>
              </a:rPr>
              <a:t>Specific Policy Recommend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9A869-7710-49D7-813F-465B504796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12840" y="905040"/>
            <a:ext cx="8507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c88c4"/>
                </a:solidFill>
                <a:latin typeface="Arial Rounded MT Bold"/>
              </a:rPr>
              <a:t>ERIK Network: Conclusions &amp;</a:t>
            </a:r>
            <a:br>
              <a:rPr sz="3600"/>
            </a:br>
            <a:r>
              <a:rPr b="0" lang="en-US" sz="3600" spc="-1" strike="noStrike">
                <a:solidFill>
                  <a:srgbClr val="4c88c4"/>
                </a:solidFill>
                <a:latin typeface="Arial Rounded MT Bold"/>
              </a:rPr>
              <a:t>Summary of Recommend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2920" y="2174760"/>
            <a:ext cx="92534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People are the most important resource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: initiate and apply innov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Triple helix 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(researchers, entrepreneurs, administrators):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 Narrow"/>
              </a:rPr>
              <a:t>foundation of innov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Knowledge 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must be continuously generated, protected and implemented with e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Rapid support for start-ups/spin-offs 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is essential, over life-cy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Clusters of innovation excellence 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(new &amp; existing) must be identified &amp; nurtur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Innovation finance 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and venture capital firms must encourage entrepreneurial spir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4c88c4"/>
                </a:solidFill>
                <a:latin typeface="Arial Rounded MT Bold"/>
              </a:rPr>
              <a:t>CORNERSTONE POLICY RECOMMEND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 Narrow"/>
              </a:rPr>
              <a:t>EU Regions must enthusiastically invest in the development, mobility and prolife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 Narrow"/>
              </a:rPr>
              <a:t>of human, intellectual and financial capital, if they are to pursue sustainable innov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89371-C016-48CD-B69C-1D7895E838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944440" y="495360"/>
            <a:ext cx="1953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88c4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28720" y="2134800"/>
            <a:ext cx="8856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– who w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 of First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IK – SWOT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Policy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Policy Recommendations – Regional Inno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-driven innovation -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6022B-5DE4-4596-A29A-ACB5BD5821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785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1301"/>
              </a:spcBef>
              <a:spcAft>
                <a:spcPts val="64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 Narrow"/>
              </a:rPr>
              <a:t>Multi-disciplinary, multi-university engineering research centr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22 academic staff (Lecturers, Sen. Lecturers, Readers, Profess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90 full time research staff and PhD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urrently over 60 research projects (UK-funded, EU-funded, internat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£40m of research over 15 years by industry and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rong, consistent industrial support (15-member Industrial Consort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trong technology transfer programme – spin-ff companies, licen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International Centre for Process Systems Engineering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(iCP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PSE - recipient of Queen’s Award for Excellence (2002) – in research &amp; technology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2360" y="473040"/>
            <a:ext cx="8856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c88c4"/>
                </a:solidFill>
                <a:latin typeface="Arial Rounded MT Bold"/>
              </a:rPr>
              <a:t>CPSE: Facts and Figures (200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F4E72-9316-41A7-9157-73939061DE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66840" y="1484280"/>
            <a:ext cx="14475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 Narrow"/>
              </a:rPr>
              <a:t>Industrial Research Consort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92160" y="1979640"/>
            <a:ext cx="14479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Partnershi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92360" y="1989000"/>
            <a:ext cx="16765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issem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4880" y="3718080"/>
            <a:ext cx="12956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ase Stud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82800" y="3718080"/>
            <a:ext cx="16002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ollaborative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278400" y="2819520"/>
            <a:ext cx="2614680" cy="337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007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Licen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00720" y="2406600"/>
            <a:ext cx="2592360" cy="337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007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Graduates, Second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56440" y="3236760"/>
            <a:ext cx="2636640" cy="337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007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Spin-off Compan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56440" y="3595680"/>
            <a:ext cx="263664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SE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Britest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OS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1760" y="2532240"/>
            <a:ext cx="1447560" cy="99036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00007d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44760" y="2532240"/>
            <a:ext cx="2209680" cy="99036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68" y="0"/>
                </a:lnTo>
                <a:lnTo>
                  <a:pt x="21600" y="10800"/>
                </a:lnTo>
                <a:lnTo>
                  <a:pt x="17968" y="21600"/>
                </a:lnTo>
                <a:lnTo>
                  <a:pt x="0" y="21600"/>
                </a:lnTo>
                <a:lnTo>
                  <a:pt x="3632" y="10800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00007d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Fundam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49520" y="2532240"/>
            <a:ext cx="2210040" cy="99036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99" y="0"/>
                </a:lnTo>
                <a:lnTo>
                  <a:pt x="21600" y="10800"/>
                </a:lnTo>
                <a:lnTo>
                  <a:pt x="17999" y="21600"/>
                </a:lnTo>
                <a:lnTo>
                  <a:pt x="0" y="21600"/>
                </a:lnTo>
                <a:lnTo>
                  <a:pt x="3601" y="10800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00007d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velopmen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mons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3718080"/>
            <a:ext cx="1371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PRESTO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09" idx="0"/>
            <a:endCxn id="115" idx="0"/>
          </p:cNvCxnSpPr>
          <p:nvPr/>
        </p:nvCxnSpPr>
        <p:spPr>
          <a:xfrm flipH="1" flipV="1">
            <a:off x="942480" y="3521880"/>
            <a:ext cx="14040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10" idx="0"/>
            <a:endCxn id="116" idx="0"/>
          </p:cNvCxnSpPr>
          <p:nvPr/>
        </p:nvCxnSpPr>
        <p:spPr>
          <a:xfrm flipH="1" flipV="1">
            <a:off x="2461320" y="3521880"/>
            <a:ext cx="22140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" name=""/>
          <p:cNvCxnSpPr>
            <a:stCxn id="118" idx="0"/>
            <a:endCxn id="117" idx="0"/>
          </p:cNvCxnSpPr>
          <p:nvPr/>
        </p:nvCxnSpPr>
        <p:spPr>
          <a:xfrm flipV="1">
            <a:off x="4320720" y="3521880"/>
            <a:ext cx="5004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" name=""/>
          <p:cNvCxnSpPr>
            <a:stCxn id="106" idx="2"/>
            <a:endCxn id="115" idx="1"/>
          </p:cNvCxnSpPr>
          <p:nvPr/>
        </p:nvCxnSpPr>
        <p:spPr>
          <a:xfrm flipH="1">
            <a:off x="943920" y="2319120"/>
            <a:ext cx="14652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>
            <a:stCxn id="107" idx="2"/>
            <a:endCxn id="116" idx="1"/>
          </p:cNvCxnSpPr>
          <p:nvPr/>
        </p:nvCxnSpPr>
        <p:spPr>
          <a:xfrm flipH="1">
            <a:off x="2461680" y="2325600"/>
            <a:ext cx="154800" cy="207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" name=""/>
          <p:cNvCxnSpPr>
            <a:stCxn id="108" idx="2"/>
            <a:endCxn id="117" idx="1"/>
          </p:cNvCxnSpPr>
          <p:nvPr/>
        </p:nvCxnSpPr>
        <p:spPr>
          <a:xfrm>
            <a:off x="4330800" y="2334960"/>
            <a:ext cx="4032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5435640" y="25830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91240" y="3021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35640" y="350676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473040"/>
            <a:ext cx="9061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c88c4"/>
                </a:solidFill>
                <a:latin typeface="Arial Rounded MT Bold"/>
              </a:rPr>
              <a:t>CPSE Research: Technology Trans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Centre for Process Systems Engineering"/>
          <p:cNvPicPr/>
          <p:nvPr/>
        </p:nvPicPr>
        <p:blipFill>
          <a:blip r:embed="rId1"/>
          <a:stretch/>
        </p:blipFill>
        <p:spPr>
          <a:xfrm>
            <a:off x="8028000" y="1557360"/>
            <a:ext cx="720720" cy="708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14280" y="4349880"/>
            <a:ext cx="8893080" cy="16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Clr>
                <a:srgbClr val="00007d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7d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loser, pro-active collaboration with industrial part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7d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nderstanding the changing needs of tomorrow’s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cess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7d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&amp;D ‘hub’ – sustaining research and development excell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82960" y="6183360"/>
            <a:ext cx="6818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99cc"/>
                </a:solidFill>
                <a:latin typeface="Arial Narrow"/>
              </a:rPr>
              <a:t>       …</a:t>
            </a:r>
            <a:r>
              <a:rPr b="1" i="1" lang="en-GB" sz="2600" spc="-1" strike="noStrike">
                <a:solidFill>
                  <a:srgbClr val="0099cc"/>
                </a:solidFill>
                <a:latin typeface="Arial Narrow"/>
              </a:rPr>
              <a:t>Technology transfer is central to our strateg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9F1EE-46AD-4D34-A1F4-F5A7691FB2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12840" y="905040"/>
            <a:ext cx="8507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c88c4"/>
                </a:solidFill>
                <a:latin typeface="Arial Rounded MT Bold"/>
              </a:rPr>
              <a:t>ERIK Network: Conclusions of Day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2920" y="2174760"/>
            <a:ext cx="925344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IS1 – actions to reduce gap between industry and science b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IS2 – transfer innovation to institutions, end-users &amp; different fiel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IS3 – from local input to global suc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IS4 – need to harmonise different languages (technology, admin, busines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E2E99-9D5B-4BE7-A19C-116F3463FC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24000" y="1052640"/>
            <a:ext cx="8507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c88c4"/>
                </a:solidFill>
                <a:latin typeface="Arial Rounded MT Bold"/>
              </a:rPr>
              <a:t>ERIK Network: Conclusions of Day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2276640"/>
            <a:ext cx="92538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SPIN1 – create entrepreneurial culture, raise awaren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SPIN2 – management, support, finance, market – all import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SPIN3 –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region start-up strategy is nee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SPIN4 –  financial support &amp; strategy during life-cycle, exit strategy for public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81BDC-5F8F-4E96-B354-BA7EED7DBF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24000" y="1052640"/>
            <a:ext cx="8507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c88c4"/>
                </a:solidFill>
                <a:latin typeface="Arial Rounded MT Bold"/>
              </a:rPr>
              <a:t>ERIK Network: Conclusions of Day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2276640"/>
            <a:ext cx="92538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NET1 – relationships are vital (inventors, investors, administra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NET2 – sense of purpose, sustainability &amp; life-cycle iss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NET3 –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communicating the benefits &amp; value of clusters to stakehold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NET4 –  virtual vs. physical, globalisation, user-friendly ICT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1CBC0-5693-4FD7-9BBA-3B56DBFE18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24000" y="1052640"/>
            <a:ext cx="8507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c88c4"/>
                </a:solidFill>
                <a:latin typeface="Arial Rounded MT Bold"/>
              </a:rPr>
              <a:t>ERIK Network: Conclusions of Day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2276640"/>
            <a:ext cx="92538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FIN1 – financing innovation &amp; innovation in financial instr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FIN2 – better access to finance, balanced supply chain for financ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FIN3 –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support services, IP valuation, finance over timeline of innov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FIN4 –  dissemination of ERIK network best practices, PPP, new mechanisms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939E6-2ADD-41F7-8175-F2D953A0E8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12840" y="620640"/>
            <a:ext cx="8507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c88c4"/>
                </a:solidFill>
                <a:latin typeface="Arial Rounded MT Bold"/>
              </a:rPr>
              <a:t>ERIK Network: SWOT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55640" y="2205000"/>
            <a:ext cx="7632000" cy="3886200"/>
            <a:chOff x="755640" y="2205000"/>
            <a:chExt cx="7632000" cy="3886200"/>
          </a:xfrm>
        </p:grpSpPr>
        <p:sp>
          <p:nvSpPr>
            <p:cNvPr id="142" name=""/>
            <p:cNvSpPr/>
            <p:nvPr/>
          </p:nvSpPr>
          <p:spPr>
            <a:xfrm flipH="1">
              <a:off x="755640" y="2205000"/>
              <a:ext cx="7632000" cy="388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10800000"/>
            </a:gra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65120" y="2644920"/>
              <a:ext cx="3285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800" spc="-1" strike="noStrike">
                  <a:solidFill>
                    <a:srgbClr val="006699"/>
                  </a:solidFill>
                  <a:latin typeface="Arial Narrow"/>
                </a:rPr>
                <a:t>                </a:t>
              </a:r>
              <a:r>
                <a:rPr b="1" i="1" lang="en-GB" sz="800" spc="-1" strike="noStrike">
                  <a:solidFill>
                    <a:srgbClr val="006699"/>
                  </a:solidFill>
                  <a:latin typeface="Arial Narrow"/>
                </a:rPr>
                <a:t>Collaboration &amp; idea exchange</a:t>
              </a:r>
              <a:r>
                <a:rPr b="0" i="1" lang="en-GB" sz="800" spc="-1" strike="noStrike">
                  <a:solidFill>
                    <a:srgbClr val="006699"/>
                  </a:solidFill>
                  <a:latin typeface="Arial Narrow"/>
                </a:rPr>
                <a:t> among EU regions: unique experienc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006699"/>
                  </a:solidFill>
                  <a:latin typeface="Arial Narrow"/>
                </a:rPr>
                <a:t> </a:t>
              </a:r>
              <a:r>
                <a:rPr b="1" i="1" lang="en-GB" sz="800" spc="-1" strike="noStrike">
                  <a:solidFill>
                    <a:srgbClr val="006699"/>
                  </a:solidFill>
                  <a:latin typeface="Arial Narrow"/>
                </a:rPr>
                <a:t>Innovation:</a:t>
              </a:r>
              <a:r>
                <a:rPr b="0" i="1" lang="en-GB" sz="800" spc="-1" strike="noStrike">
                  <a:solidFill>
                    <a:srgbClr val="006699"/>
                  </a:solidFill>
                  <a:latin typeface="Arial Narrow"/>
                </a:rPr>
                <a:t> a real, pressing and long-term challenge that must be explored in E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006699"/>
                  </a:solidFill>
                  <a:latin typeface="Arial Narrow"/>
                </a:rPr>
                <a:t> </a:t>
              </a:r>
              <a:r>
                <a:rPr b="1" i="1" lang="en-GB" sz="800" spc="-1" strike="noStrike">
                  <a:solidFill>
                    <a:srgbClr val="006699"/>
                  </a:solidFill>
                  <a:latin typeface="Arial Narrow"/>
                </a:rPr>
                <a:t>Organised in 4 parallel coordinated areas (TWGs) </a:t>
              </a:r>
              <a:r>
                <a:rPr b="0" i="1" lang="en-GB" sz="800" spc="-1" strike="noStrike">
                  <a:solidFill>
                    <a:srgbClr val="006699"/>
                  </a:solidFill>
                  <a:latin typeface="Arial Narrow"/>
                </a:rPr>
                <a:t>exploring specific them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006699"/>
                  </a:solidFill>
                  <a:latin typeface="Arial Narrow"/>
                </a:rPr>
                <a:t> </a:t>
              </a:r>
              <a:r>
                <a:rPr b="1" i="1" lang="en-GB" sz="800" spc="-1" strike="noStrike">
                  <a:solidFill>
                    <a:srgbClr val="006699"/>
                  </a:solidFill>
                  <a:latin typeface="Arial Narrow"/>
                </a:rPr>
                <a:t>Thematic Working Groups (TWGs)</a:t>
              </a:r>
              <a:r>
                <a:rPr b="0" i="1" lang="en-GB" sz="800" spc="-1" strike="noStrike">
                  <a:solidFill>
                    <a:srgbClr val="006699"/>
                  </a:solidFill>
                  <a:latin typeface="Arial Narrow"/>
                </a:rPr>
                <a:t> have clear goals: flexibility for ERIK memb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57200" y="3151080"/>
              <a:ext cx="45972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99cc"/>
                  </a:solidFill>
                  <a:latin typeface="Arial Rounded MT Bold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25560" y="2205000"/>
              <a:ext cx="122616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99cc"/>
                  </a:solidFill>
                  <a:latin typeface="Arial Rounded MT Bold"/>
                </a:rPr>
                <a:t>STRENGTH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756000" y="2205000"/>
            <a:ext cx="7632000" cy="3886200"/>
            <a:chOff x="756000" y="2205000"/>
            <a:chExt cx="7632000" cy="3886200"/>
          </a:xfrm>
        </p:grpSpPr>
        <p:sp>
          <p:nvSpPr>
            <p:cNvPr id="147" name=""/>
            <p:cNvSpPr/>
            <p:nvPr/>
          </p:nvSpPr>
          <p:spPr>
            <a:xfrm>
              <a:off x="756000" y="2205000"/>
              <a:ext cx="7632000" cy="388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10800000"/>
            </a:gra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30600" y="3151080"/>
              <a:ext cx="52236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9900"/>
                  </a:solidFill>
                  <a:latin typeface="Arial Rounded MT Bold"/>
                </a:rPr>
                <a:t>W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33800" y="2205000"/>
              <a:ext cx="13435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9900"/>
                  </a:solidFill>
                  <a:latin typeface="Arial Rounded MT Bold"/>
                </a:rPr>
                <a:t>WEAKNE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43560" y="2637000"/>
              <a:ext cx="34131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cc6600"/>
                  </a:solidFill>
                  <a:latin typeface="Arial Narrow"/>
                </a:rPr>
                <a:t>Many EU member regions:</a:t>
              </a:r>
              <a:r>
                <a:rPr b="0" i="1" lang="en-US" sz="800" spc="-1" strike="noStrike">
                  <a:solidFill>
                    <a:srgbClr val="cc6600"/>
                  </a:solidFill>
                  <a:latin typeface="Arial Narrow"/>
                </a:rPr>
                <a:t> organisational and management challeng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cc6600"/>
                  </a:solidFill>
                  <a:latin typeface="Arial Narrow"/>
                </a:rPr>
                <a:t>Large management structure:</a:t>
              </a:r>
              <a:r>
                <a:rPr b="0" i="1" lang="en-US" sz="800" spc="-1" strike="noStrike">
                  <a:solidFill>
                    <a:srgbClr val="cc6600"/>
                  </a:solidFill>
                  <a:latin typeface="Arial Narrow"/>
                </a:rPr>
                <a:t> internal communication and administration burde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cc6600"/>
                  </a:solidFill>
                  <a:latin typeface="Arial Narrow"/>
                </a:rPr>
                <a:t>Several other EU policy study networks exist:</a:t>
              </a:r>
              <a:r>
                <a:rPr b="0" i="1" lang="en-US" sz="800" spc="-1" strike="noStrike">
                  <a:solidFill>
                    <a:srgbClr val="cc6600"/>
                  </a:solidFill>
                  <a:latin typeface="Arial Narrow"/>
                </a:rPr>
                <a:t> outreaching desirable but limit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cc6600"/>
                  </a:solidFill>
                  <a:latin typeface="Arial Narrow"/>
                </a:rPr>
                <a:t>Limited, but probable overlapping in policy study </a:t>
              </a:r>
              <a:r>
                <a:rPr b="0" i="1" lang="en-US" sz="800" spc="-1" strike="noStrike">
                  <a:solidFill>
                    <a:srgbClr val="cc6600"/>
                  </a:solidFill>
                  <a:latin typeface="Arial Narrow"/>
                </a:rPr>
                <a:t>with respect to other EU network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747720" y="2237760"/>
            <a:ext cx="7632000" cy="3886200"/>
            <a:chOff x="747720" y="2237760"/>
            <a:chExt cx="7632000" cy="3886200"/>
          </a:xfrm>
        </p:grpSpPr>
        <p:sp>
          <p:nvSpPr>
            <p:cNvPr id="152" name=""/>
            <p:cNvSpPr/>
            <p:nvPr/>
          </p:nvSpPr>
          <p:spPr>
            <a:xfrm flipH="1" flipV="1">
              <a:off x="747360" y="2237400"/>
              <a:ext cx="7632000" cy="388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00cc66"/>
                </a:gs>
                <a:gs pos="100000">
                  <a:srgbClr val="ffffff"/>
                </a:gs>
              </a:gsLst>
              <a:lin ang="10800000"/>
            </a:gradFill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99960" y="3652920"/>
              <a:ext cx="57708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cc66"/>
                  </a:solidFill>
                  <a:latin typeface="Arial Rounded MT Bold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15840" y="5433840"/>
              <a:ext cx="163908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cc66"/>
                  </a:solidFill>
                  <a:latin typeface="Arial Rounded MT Bold"/>
                </a:rPr>
                <a:t>OPPORTUN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32000" y="4462560"/>
              <a:ext cx="3384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008000"/>
                  </a:solidFill>
                  <a:latin typeface="Arial Narrow"/>
                </a:rPr>
                <a:t>EU regions can gain unique ideas</a:t>
              </a:r>
              <a:r>
                <a:rPr b="0" i="1" lang="en-GB" sz="800" spc="-1" strike="noStrike">
                  <a:solidFill>
                    <a:srgbClr val="008000"/>
                  </a:solidFill>
                  <a:latin typeface="Arial Narrow"/>
                </a:rPr>
                <a:t> for planning, development and policy mak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008000"/>
                  </a:solidFill>
                  <a:latin typeface="Arial Narrow"/>
                </a:rPr>
                <a:t>Recent EU Enlargement</a:t>
              </a:r>
              <a:r>
                <a:rPr b="0" i="1" lang="en-GB" sz="800" spc="-1" strike="noStrike">
                  <a:solidFill>
                    <a:srgbClr val="008000"/>
                  </a:solidFill>
                  <a:latin typeface="Arial Narrow"/>
                </a:rPr>
                <a:t> &amp; New Programming Period increase need for network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008000"/>
                  </a:solidFill>
                  <a:latin typeface="Arial Narrow"/>
                </a:rPr>
                <a:t>ERIK’s operation experience:</a:t>
              </a:r>
              <a:r>
                <a:rPr b="0" i="1" lang="en-GB" sz="800" spc="-1" strike="noStrike">
                  <a:solidFill>
                    <a:srgbClr val="008000"/>
                  </a:solidFill>
                  <a:latin typeface="Arial Narrow"/>
                </a:rPr>
                <a:t> very valuable for large-scale network experiment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008000"/>
                  </a:solidFill>
                  <a:latin typeface="Arial Narrow"/>
                </a:rPr>
                <a:t>            </a:t>
              </a:r>
              <a:r>
                <a:rPr b="1" i="1" lang="en-GB" sz="800" spc="-1" strike="noStrike">
                  <a:solidFill>
                    <a:srgbClr val="008000"/>
                  </a:solidFill>
                  <a:latin typeface="Arial Narrow"/>
                </a:rPr>
                <a:t>ERIK knowledge database</a:t>
              </a:r>
              <a:r>
                <a:rPr b="0" i="1" lang="en-GB" sz="800" spc="-1" strike="noStrike">
                  <a:solidFill>
                    <a:srgbClr val="008000"/>
                  </a:solidFill>
                  <a:latin typeface="Arial Narrow"/>
                </a:rPr>
                <a:t> accelerates experience &amp; best practices transfer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56000" y="2237760"/>
            <a:ext cx="7632000" cy="3886200"/>
            <a:chOff x="756000" y="2237760"/>
            <a:chExt cx="7632000" cy="3886200"/>
          </a:xfrm>
        </p:grpSpPr>
        <p:sp>
          <p:nvSpPr>
            <p:cNvPr id="157" name=""/>
            <p:cNvSpPr/>
            <p:nvPr/>
          </p:nvSpPr>
          <p:spPr>
            <a:xfrm flipV="1">
              <a:off x="756000" y="2237040"/>
              <a:ext cx="7632000" cy="388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54360" y="3645000"/>
              <a:ext cx="66528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c0000"/>
                  </a:solidFill>
                  <a:latin typeface="Arial Rounded MT Bold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08000" y="5433840"/>
              <a:ext cx="95796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 Rounded MT Bold"/>
                </a:rPr>
                <a:t>THREA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43560" y="4462560"/>
              <a:ext cx="37735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cc0000"/>
                  </a:solidFill>
                  <a:latin typeface="Arial Narrow"/>
                </a:rPr>
                <a:t>Possible EU policy / budget changes</a:t>
              </a:r>
              <a:r>
                <a:rPr b="0" i="1" lang="en-US" sz="800" spc="-1" strike="noStrike">
                  <a:solidFill>
                    <a:srgbClr val="cc0000"/>
                  </a:solidFill>
                  <a:latin typeface="Arial Narrow"/>
                </a:rPr>
                <a:t> may cause diminished financial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cc0000"/>
                  </a:solidFill>
                  <a:latin typeface="Arial Narrow"/>
                </a:rPr>
                <a:t>EU admin. &amp; financial support changes</a:t>
              </a:r>
              <a:r>
                <a:rPr b="0" i="1" lang="en-US" sz="800" spc="-1" strike="noStrike">
                  <a:solidFill>
                    <a:srgbClr val="cc0000"/>
                  </a:solidFill>
                  <a:latin typeface="Arial Narrow"/>
                </a:rPr>
                <a:t> may limit national &amp; local govt. intere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cc0000"/>
                  </a:solidFill>
                  <a:latin typeface="Arial Narrow"/>
                </a:rPr>
                <a:t>National strategy changes/differences</a:t>
              </a:r>
              <a:r>
                <a:rPr b="0" i="1" lang="en-US" sz="800" spc="-1" strike="noStrike">
                  <a:solidFill>
                    <a:srgbClr val="cc0000"/>
                  </a:solidFill>
                  <a:latin typeface="Arial Narrow"/>
                </a:rPr>
                <a:t> may impede regional commit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cc0000"/>
                  </a:solidFill>
                  <a:latin typeface="Arial Narrow"/>
                </a:rPr>
                <a:t>Human/organisational changes</a:t>
              </a:r>
              <a:r>
                <a:rPr b="0" i="1" lang="en-US" sz="800" spc="-1" strike="noStrike">
                  <a:solidFill>
                    <a:srgbClr val="cc0000"/>
                  </a:solidFill>
                  <a:latin typeface="Arial Narrow"/>
                </a:rPr>
                <a:t> in regional structures impact policy prioriti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A2E66-FED2-4E59-85DB-3E1009AE27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37:16Z</dcterms:created>
  <dc:creator>Dr. Dimitrios I. Gerogiorgis</dc:creator>
  <dc:description/>
  <cp:keywords>Copyright(R) 2005 - Imperial College London - All Rights Reserved</cp:keywords>
  <dc:language>en-US</dc:language>
  <cp:lastModifiedBy>Stratos Pistikopoulos</cp:lastModifiedBy>
  <dcterms:modified xsi:type="dcterms:W3CDTF">2007-05-14T12:36:02Z</dcterms:modified>
  <cp:revision>460</cp:revision>
  <dc:subject>PRISM - Marie Curie Research Excellence Network - Presentation Template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