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7239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CAAE-9017-4302-AEB6-63354F9012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400" y="448452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C1B0-FE9F-4075-91CC-AD523217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3924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9C7E-9C52-4F87-A0BA-444421F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444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448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440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444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448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5CD2-42E7-4969-B137-FE0B38AF1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4400" y="221580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35040" y="1280880"/>
            <a:ext cx="7610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4400" y="221580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6AC0-E2DC-4459-9DE7-74FF3AED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3924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4400" y="448452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3924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444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84480" y="221580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440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444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84480" y="4484520"/>
            <a:ext cx="24472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923D-4652-4CC4-86BA-A6BC08D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8FF8-703F-4A35-B444-DFBEE48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A9ED-39E6-4090-88DD-907C07DA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35040" y="1280880"/>
            <a:ext cx="7610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3032-ED7A-4CB4-B75B-57E7A8EE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D13E-EC75-49CF-BC55-4D2C9D8A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39240" y="448452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C176-2A76-4762-82C4-8F689AE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440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39240" y="2215800"/>
            <a:ext cx="370908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400" y="4484520"/>
            <a:ext cx="7601040" cy="20714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8368-BAC3-4C3F-B403-715DEFB0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72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35040" y="1280880"/>
            <a:ext cx="7610400" cy="1206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000" spc="-1" strike="noStrike">
                <a:solidFill>
                  <a:srgbClr val="ff7e1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4400" y="221580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285840" indent="-285840">
              <a:spcBef>
                <a:spcPts val="1500"/>
              </a:spcBef>
              <a:buClr>
                <a:srgbClr val="ff7e13"/>
              </a:buClr>
              <a:buFont typeface="Symbol" charset="2"/>
              <a:buChar char="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4320" indent="-314280">
              <a:spcBef>
                <a:spcPts val="1500"/>
              </a:spcBef>
              <a:buClr>
                <a:srgbClr val="ffffff"/>
              </a:buClr>
              <a:buFont typeface="Symbol" charset="2"/>
              <a:buChar char="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250560">
              <a:spcBef>
                <a:spcPts val="1500"/>
              </a:spcBef>
              <a:buClr>
                <a:srgbClr val="ffffff"/>
              </a:buClr>
              <a:buFont typeface="Symbol" charset="2"/>
              <a:buChar char="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250560">
              <a:spcBef>
                <a:spcPts val="1500"/>
              </a:spcBef>
              <a:buClr>
                <a:srgbClr val="ffffff"/>
              </a:buClr>
              <a:buFont typeface="Symbol" charset="2"/>
              <a:buChar char="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52520" indent="-249120">
              <a:spcBef>
                <a:spcPts val="1500"/>
              </a:spcBef>
              <a:buClr>
                <a:srgbClr val="ffffff"/>
              </a:buClr>
              <a:buFont typeface="Symbol" charset="2"/>
              <a:buChar char="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52520" indent="-249120">
              <a:spcBef>
                <a:spcPts val="1500"/>
              </a:spcBef>
              <a:buClr>
                <a:srgbClr val="000063"/>
              </a:buClr>
              <a:buFont typeface="Symbol" charset="2"/>
              <a:buChar char="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52520" indent="-249120">
              <a:spcBef>
                <a:spcPts val="1500"/>
              </a:spcBef>
              <a:buClr>
                <a:srgbClr val="000063"/>
              </a:buClr>
              <a:buFont typeface="Symbol" charset="2"/>
              <a:buChar char="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675360" y="69642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8D5E-DF53-41D4-B5EE-2E90F393B82E}" type="slidenum">
              <a:rPr b="0" lang="en-US" sz="1200" spc="-1" strike="noStrike">
                <a:solidFill>
                  <a:srgbClr val="0000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3"/>
                </a:solidFill>
                <a:latin typeface="Akzidenz Grotesk B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3"/>
                </a:solidFill>
                <a:latin typeface="Akzidenz Grotesk B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0328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3"/>
                </a:solidFill>
                <a:latin typeface="Akzidenz Grotesk B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04E4-784E-4D1E-AC4D-52858893F043}" type="slidenum">
              <a:rPr b="0" lang="en-US" sz="1400" spc="-1" strike="noStrike">
                <a:solidFill>
                  <a:srgbClr val="000063"/>
                </a:solidFill>
                <a:latin typeface="Akzidenz Grotesk B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14200" cy="59594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549360"/>
            <a:ext cx="8193240" cy="1364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8282160" y="6338880"/>
            <a:ext cx="1242720" cy="2905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660240"/>
            <a:ext cx="25560" cy="25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0" y="549360"/>
            <a:ext cx="8172360" cy="136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0" y="544680"/>
            <a:ext cx="8723160" cy="1458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8"/>
          <a:stretch/>
        </p:blipFill>
        <p:spPr>
          <a:xfrm>
            <a:off x="380880" y="544680"/>
            <a:ext cx="8723520" cy="14580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8305920" y="6781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63"/>
                </a:solidFill>
                <a:latin typeface="Arial"/>
              </a:rPr>
              <a:t>2004-11-18</a:t>
            </a:r>
            <a:endParaRPr b="0" lang="en-US" sz="1000" spc="-1" strike="noStrike">
              <a:solidFill>
                <a:srgbClr val="0000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0287000" cy="723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225360"/>
            <a:ext cx="9617040" cy="6705720"/>
          </a:xfrm>
          <a:prstGeom prst="roundRect">
            <a:avLst>
              <a:gd name="adj" fmla="val 3875"/>
            </a:avLst>
          </a:prstGeom>
          <a:solidFill>
            <a:srgbClr val="000063"/>
          </a:solidFill>
          <a:ln w="76320">
            <a:solidFill>
              <a:srgbClr val="00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5360" y="2501640"/>
            <a:ext cx="7613640" cy="12589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b">
            <a:noAutofit/>
          </a:bodyPr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000" spc="-1" strike="noStrike">
                <a:solidFill>
                  <a:srgbClr val="ff7e1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7e13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667440" y="69627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DF2-FF58-49C5-9D07-5CBFA35C51AD}" type="slidenum">
              <a:rPr b="0" lang="en-US" sz="1200" spc="-1" strike="noStrike">
                <a:solidFill>
                  <a:srgbClr val="0000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70800" y="455760"/>
            <a:ext cx="1247760" cy="103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990720"/>
            <a:ext cx="7010640" cy="378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63"/>
                </a:solidFill>
                <a:latin typeface="Arial"/>
              </a:rPr>
              <a:t>Services and support to start-ups and spin-offs</a:t>
            </a:r>
            <a:endParaRPr b="0" lang="en-US" sz="3600" spc="-1" strike="noStrike">
              <a:solidFill>
                <a:srgbClr val="00006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63"/>
                </a:solidFill>
                <a:latin typeface="Arial"/>
              </a:rPr>
              <a:t>Sweden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3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3"/>
                </a:solidFill>
                <a:latin typeface="Arial"/>
              </a:rPr>
              <a:t>Lennart Augustinius</a:t>
            </a:r>
            <a:endParaRPr b="0" lang="en-US" sz="2400" spc="-1" strike="noStrike">
              <a:solidFill>
                <a:srgbClr val="00006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838080" y="1582560"/>
          <a:ext cx="7939080" cy="38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82560"/>
                    <a:ext cx="793908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95280" y="1981080"/>
          <a:ext cx="7925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7925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57280" y="457200"/>
            <a:ext cx="7610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GB" sz="3200" spc="-1" strike="noStrike">
                <a:solidFill>
                  <a:srgbClr val="811622"/>
                </a:solidFill>
                <a:latin typeface="Arial"/>
              </a:rPr>
              <a:t>Financing in different stages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4360" y="608184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3"/>
                </a:solidFill>
                <a:latin typeface="Arial"/>
              </a:rPr>
              <a:t>Venture capital phase</a:t>
            </a:r>
            <a:endParaRPr b="0" lang="en-US" sz="18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6172200"/>
            <a:ext cx="525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34560" y="4952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3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4120" y="16765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63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05120" y="4530600"/>
            <a:ext cx="1589040" cy="42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962520" y="2743200"/>
            <a:ext cx="2286000" cy="39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666880" y="3581280"/>
            <a:ext cx="1243080" cy="2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28800" y="990720"/>
            <a:ext cx="4952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The Innovation Center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819520"/>
            <a:ext cx="419112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Fund financed 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Launched 1994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Inventor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Conditional loan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11 EUR million/yea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20 000 EU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992160" cy="42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762120"/>
            <a:ext cx="5257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Nutek Seed-finance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498760"/>
            <a:ext cx="73911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Financed over the state budget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Conditional loan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7,5 EUR million per yea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average 80 000 EU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35 % repayed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11 000 EUR / new job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1523880" cy="36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990720"/>
            <a:ext cx="571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Swedish Industrial Fund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03680"/>
            <a:ext cx="48765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Fund financed 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400 EUR million fund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Mainly equity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200 EUR million Invested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50 000 EUR – 2,5 EUR million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10"/>
                </a:solidFill>
                <a:latin typeface="Arial"/>
              </a:rPr>
              <a:t>300 companies in the portfolio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22860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609480"/>
            <a:ext cx="79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New strategi for Innovative Sweden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66960" y="1316160"/>
            <a:ext cx="739116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Knowledge base for innovation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Innovative Trade and Industry 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Innovative Public Investment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Innovative People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Promote positive attitudes towards entrepreneurship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Secure a simple and expedient regulatory framework that facilitates enterprise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Develop working organisations that encourage renewal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 </a:t>
            </a:r>
            <a:r>
              <a:rPr b="1" lang="sv-SE" sz="2000" spc="-1" strike="noStrike">
                <a:solidFill>
                  <a:srgbClr val="811622"/>
                </a:solidFill>
                <a:latin typeface="Arial"/>
              </a:rPr>
              <a:t>Increase mobility between the business and academic communications, the public and private sector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609480"/>
            <a:ext cx="798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New organisation for early stage services and support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6640"/>
            <a:ext cx="63849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99cc"/>
                </a:solidFill>
                <a:latin typeface="Arial"/>
              </a:rPr>
              <a:t>Commersialisation of Research results and Ideas 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New organisation in 7 regions, TeknikbroStiftelsen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Each located near university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Major actor in regional Innovation system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Fund financed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Time limited for ten </a:t>
            </a:r>
            <a:r>
              <a:rPr b="0" lang="en-GB" sz="2000" spc="-1" strike="noStrike">
                <a:solidFill>
                  <a:srgbClr val="0099cc"/>
                </a:solidFill>
                <a:latin typeface="Arial"/>
              </a:rPr>
              <a:t>year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Mainly conditional loans, approx. 8 EUR million/yea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99cc"/>
                </a:solidFill>
                <a:latin typeface="Arial"/>
              </a:rPr>
              <a:t>Cooperation with ALMI Företagspartner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17" name="" descr="VÄLKOMMEN TILL TBSS"/>
          <p:cNvPicPr/>
          <p:nvPr/>
        </p:nvPicPr>
        <p:blipFill>
          <a:blip r:embed="rId1"/>
          <a:srcRect l="73055" t="20105" r="0" b="0"/>
          <a:stretch/>
        </p:blipFill>
        <p:spPr>
          <a:xfrm>
            <a:off x="7520040" y="1747800"/>
            <a:ext cx="1527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609480"/>
            <a:ext cx="798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811622"/>
                </a:solidFill>
                <a:latin typeface="Arial"/>
              </a:rPr>
              <a:t>New organisation for early stage services and support</a:t>
            </a:r>
            <a:endParaRPr b="0" lang="en-US" sz="3200" spc="-1" strike="noStrike">
              <a:solidFill>
                <a:srgbClr val="00006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66960" y="1890720"/>
            <a:ext cx="73911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66cc33"/>
                </a:solidFill>
                <a:latin typeface="Arial"/>
              </a:rPr>
              <a:t>Early support to inventor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Complementary Finance and Advice to Inventor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Managed by ALMI Företagspartner,</a:t>
            </a:r>
            <a:br>
              <a:rPr sz="2000"/>
            </a:b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  a public owned company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21 Regional based subsidiarie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66cc33"/>
                </a:solidFill>
                <a:latin typeface="Arial"/>
              </a:rPr>
              <a:t>Regional cooperation in Innovation system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116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Prepare and qualify the inventor/ entrepreneur,</a:t>
            </a:r>
            <a:br>
              <a:rPr sz="2000"/>
            </a:b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  Open doors, Translate and communicate,</a:t>
            </a:r>
            <a:br>
              <a:rPr sz="2000"/>
            </a:br>
            <a:r>
              <a:rPr b="0" lang="en-GB" sz="2000" spc="-1" strike="noStrike">
                <a:solidFill>
                  <a:srgbClr val="66cc33"/>
                </a:solidFill>
                <a:latin typeface="Arial"/>
              </a:rPr>
              <a:t>  Build networks</a:t>
            </a:r>
            <a:endParaRPr b="0" lang="en-US" sz="2000" spc="-1" strike="noStrike">
              <a:solidFill>
                <a:srgbClr val="00006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72400" y="1603440"/>
            <a:ext cx="2022480" cy="417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0:16:04Z</dcterms:created>
  <dc:creator>3i plc</dc:creator>
  <dc:description/>
  <dc:language>en-US</dc:language>
  <cp:lastModifiedBy>NUTEK</cp:lastModifiedBy>
  <cp:lastPrinted>2004-10-26T09:12:26Z</cp:lastPrinted>
  <dcterms:modified xsi:type="dcterms:W3CDTF">2004-11-18T13:21:55Z</dcterms:modified>
  <cp:revision>468</cp:revision>
  <dc:subject/>
  <dc:title>No Slide Title</dc:title>
</cp:coreProperties>
</file>