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5272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8BD2133-CFDA-4486-A356-7DB59172B1E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DFB41DC-96B8-4616-81BD-457B26EBFA8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98560" y="74916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onal aid control evolving against backdrop of other major developmen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190440"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sbon agenda given priority to economic reform and horizontal policy objectives; emphasised aim of “less aid but better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190440"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largement. Two dimensions. First, change economic landscape: far wider regional disparities and radically different traditions concerning role of State in economy. Second, substantial increase in administrative burden associated with State aid scrutiny and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190440"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e aid control entering new phase of maturity. Long the Cinderella of competition policy,  significant steps have been taken to simplify, modernise and clarify 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190440"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hesion policy reform. Focus on new member states, thematic approach under new competitiveness objective; focus on policy coheren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190440"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onal aid control could not stay the same. Impact of enlargement on disparities; impact of German law suit on validity of Commission methodology for Article 87(3)(c) areas. Also, Member States likely to resi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B7C9D04-79A3-4145-B850-6DC147A881C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98560" y="74916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onal aid control evolving against backdrop of other major developmen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190440"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sbon agenda given priority to economic reform and horizontal policy objectives; emphasised aim of “less aid but better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190440"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largement. Two dimensions. First, change economic landscape: far wider regional disparities and radically different traditions concerning role of State in economy. Second, substantial increase in administrative burden associated with State aid scrutiny and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190440"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e aid control entering new phase of maturity. Long the Cinderella of competition policy,  significant steps have been taken to simplify, modernise and clarify 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190440"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hesion policy reform. Focus on new member states, thematic approach under new competitiveness objective; focus on policy coheren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190440"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onal aid control could not stay the same. Impact of enlargement on disparities; impact of German law suit on validity of Commission methodology for Article 87(3)(c) areas. Also, Member States likely to resi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B76C7A7-DC18-4B32-B21F-17D22ADA858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898560" y="74916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onal aid control evolving against backdrop of other major developmen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190440"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sbon agenda given priority to economic reform and horizontal policy objectives; emphasised aim of “less aid but better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190440"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largement. Two dimensions. First, change economic landscape: far wider regional disparities and radically different traditions concerning role of State in economy. Second, substantial increase in administrative burden associated with State aid scrutiny and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190440"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e aid control entering new phase of maturity. Long the Cinderella of competition policy,  significant steps have been taken to simplify, modernise and clarify 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190440"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hesion policy reform. Focus on new member states, thematic approach under new competitiveness objective; focus on policy coheren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190440"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onal aid control could not stay the same. Impact of enlargement on disparities; impact of German law suit on validity of Commission methodology for Article 87(3)(c) areas. Also, Member States likely to resi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5272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89E2D49-CD00-4574-BF6C-586A78F804A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98560" y="74916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onal aid control evolving against backdrop of other major developmen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190440"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sbon agenda given priority to economic reform and horizontal policy objectives; emphasised aim of “less aid but better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190440"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largement. Two dimensions. First, change economic landscape: far wider regional disparities and radically different traditions concerning role of State in economy. Second, substantial increase in administrative burden associated with State aid scrutiny and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190440"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e aid control entering new phase of maturity. Long the Cinderella of competition policy,  significant steps have been taken to simplify, modernise and clarify 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190440"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hesion policy reform. Focus on new member states, thematic approach under new competitiveness objective; focus on policy coheren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190440"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onal aid control could not stay the same. Impact of enlargement on disparities; impact of German law suit on validity of Commission methodology for Article 87(3)(c) areas. Also, Member States likely to resi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27516-66BF-430C-B31C-771C2198A0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7343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FFFE1-B2B1-4D4C-BB8A-A0092F25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7343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129AF-C596-4DA9-81CE-5B8241E5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7343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07911-BB87-486D-966C-BBC800420E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7343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7343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7343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7343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92000" y="188640"/>
            <a:ext cx="73436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7343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7343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E4BA2-72F7-4263-B1C3-E4BAF645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7343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7343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7343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7343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7343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7343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D710B-6DB7-4361-A94F-9C311610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7343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B3FA7-97FB-40A1-A8AE-6F77EB44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7343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CC16D-4D00-4BB9-97B9-F5A880AE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92000" y="188640"/>
            <a:ext cx="734364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2ECD4-C67A-4966-A7CC-A561C475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7343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0874B-5E35-42F6-BA05-DF4966BE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7343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3F33D-A65D-467B-B060-26AA5E05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7343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4F900-4942-44C0-AA8E-4690CE09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7343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76360" y="6324120"/>
            <a:ext cx="6981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440" y="6324120"/>
            <a:ext cx="762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2FBE-4A51-4430-8C4B-FD200A041A3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107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1268280"/>
            <a:ext cx="8172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451640" y="5908680"/>
            <a:ext cx="95256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09480"/>
            <a:ext cx="107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89000"/>
            <a:ext cx="7740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gional Policy and support for new and young fi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1268280"/>
            <a:ext cx="8172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128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gional policy and support for start-ups and spin-outs in Eur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nowledge-based regional development and innovation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ransition towards a knowledge-based economy</a:t>
            </a:r>
            <a:br>
              <a:rPr sz="23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nternational Conference, Florenc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25-26 November 2004</a:t>
            </a:r>
            <a:br>
              <a:rPr sz="2000"/>
            </a:br>
            <a:br>
              <a:rPr sz="2000"/>
            </a:b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Professor John Bachtler</a:t>
            </a:r>
            <a:br>
              <a:rPr sz="1700"/>
            </a:br>
            <a:br>
              <a:rPr sz="1700"/>
            </a:b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European Policies Research Centre</a:t>
            </a:r>
            <a:br>
              <a:rPr sz="1700"/>
            </a:b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University of Strathclyde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71F09-E495-487B-AE81-ACB877A9E3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343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U cohesion policy and inno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81342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2007-13 (EC proposal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844640"/>
          <a:ext cx="8353440" cy="3890880"/>
        </p:xfrm>
        <a:graphic>
          <a:graphicData uri="http://schemas.openxmlformats.org/drawingml/2006/table">
            <a:tbl>
              <a:tblPr/>
              <a:tblGrid>
                <a:gridCol w="4179960"/>
                <a:gridCol w="41734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vergence priority (less-developed countries &amp; reg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itiveness priority      (other reg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tive inves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velopment of endogenous pot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vices to enterpri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Promoting innovation and R&amp;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Promoting entrepreneur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rect aid to inves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 infra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rmation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urism and cultural inves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moting innovation and R&amp;D, inter alia, by reinforcing the links of SMES with the knowledge base, supporting networks and clusters, and enhancing SMEs’ access to advanced technologies and innovation business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Promoting entrepreneurship, by, inter alia, supporting the creation of new firms or setting up new financial instruments and incubating facilities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87AD0-FAC5-462D-82CC-746CAE7A84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43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upport for start-ups and spin-ou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nterprise-oriented sup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ystem-oriented sup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trategic ambi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ssessment of experi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DD2B1-F65E-4154-8BD7-753D117ED1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8472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upport for start-ups and spin-ou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erprise-oriented instru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534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Three types of enterprise-oriented support in the less-favoured regions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Application/co-financing of national innovation programmes (eg. ANVAR, France; Finnvera, Finland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Supplementary funding/preferential conditions within national regional policy programmes (eg. Ireland, Norway, UK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Specialised regional instruments for start-ups/spin-ou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start-up grants (eg. Rh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ône-Alpes, Steiermark, Valencia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seed and venture capital (eg. Aalborg, NE England, Toscana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cademic mobility schemes (eg. Nordrhein-Westfalen, West Midlands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concept/knowledge development funds (eg. Nieder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österreich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Scotland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3CB2F-9B3B-4617-A3CC-C57F27AEF2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775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upport for start-ups and spin-ou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-oriented instru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0629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Advisory, brokerage and networking activit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g. LIST (Sachsen-Anhalt); SARETEK (P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 Vasco);   Connect Yorkshire (Yorkshire/Humbersid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business men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individual technological and managerial assista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onnection of entrepreneurs with business angels, venture capital bodies et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financial support for networ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information/education for innovative entrepreneurs and business service professiona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ommunity education/awareness-rais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FB000-6727-4924-B83B-881B17E027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920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upport for start-ups and spin-ou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-oriented instru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1342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cubator and innovation cent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g. Campus Ventures (NW England), NOVI (Aalborg),Technium Centres (Wales);  Regional Impulse Centres (Austria), Centres of Expertise (Finlan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ffice and workshop facil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vision of business support/advisory and guidance serv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acilitating access to mentors, experts and invest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ssistance with fund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velopment laboratories for design and prototype development/tes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ccess to specialist university expertise, facilities and personn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tworking with other centres (regional, national, internationa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itiation of regional innovation proje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oresighting and investment in pre-competitive resear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2EB8C-58B8-4027-A413-7F4D0607B0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920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upport for start-ups and spin-ou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ambi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813420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trategic regional approach to innov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tegration and specialisation of service provi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llective/collaborative 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amless range of serv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rganisational specialis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implified acc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tensive sup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tinuum of sup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moting innovation cul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obilisation of pot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velopment of potential proje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pport for start-up and early-stage develop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teraction and network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1D887-17D6-4A2A-B93E-63E6E64472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991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upport for start-ups and spin-ou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aluation assess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spending on innovation measures in less-favoured reg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rend away from capital investment in RTD facilities and firm-based support schemes to systemic su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reation of specific instruments or services for innovative entrepreneu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me indicators of succes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utput indicators (numbers of firms assisted, services provided etc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sults indicators (awareness of innovation, new high-tech firms created, number of spin-outs et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mpacts uncle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1FEB0-E7E8-452A-9A46-11628E4F21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344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upport for start-ups and spin-ou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aluation assess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ack of thorough analysis of regional needs of entrepreneurs / young firms, and specific requirements from support schemes, incubator centres et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adequate of integration of support schemes (especially financial incentives) with other elements of the innovation support syst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ack of demand for support services; insufficient recognition of the need pro-actively to develop the market for actions; need for more awareness raising, ‘scouting’ initiatives and creative incenti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apacity/competence problems in managing start-up/spin-out support within regional development programmes and partnershi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ed for more professional approach eg. private sector involvement, rigorous standards of project apprais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5F1DB-69F1-4D49-ABD6-8FD1BD06F8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343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upport for start-ups and spin-ou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aluation assess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roblems of absorption within programme timescale; insufficient flexibility to adapt to the economic cyc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ifficulties with project appraisal and sel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ompromises on project quality because of financial absorption rules (n+2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Need for better monitoring da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More investment in in-depth evaluation requi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9ABCD-5A72-40BC-8556-4B551F587C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3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sues for discu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Importance of support for start-ups and spin-outs in less-favoured region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periences of the effectiveness of specific types of action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ploitation of the role of higher education institution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Managing and delivering support for start-ups and spin-out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F054C-3C37-4BF1-BF32-E15529AF6F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128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gional policy and support for start-ups and spin-outs in Eur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208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ational regional policies and innov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U cohesion policy and innov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licy instruments for start-ups and spin-ou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ion assess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ssues for discus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CEC9C-C1AB-43D0-A91B-A214241E9B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128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gional policy and support for start-ups and spin-outs in Eur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EPRC research programm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oRPA research programme on national regional poli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Q-Net research programme on EU cohesion policy (Structural Fund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6CF15-AC81-4BE5-894C-560C3B9AD5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436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Q-Net programme partn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69360" y="1458360"/>
            <a:ext cx="2284920" cy="84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e3c9fe"/>
              </a:gs>
            </a:gsLst>
            <a:lin ang="108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stry of Flander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empen/Limbu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2421000"/>
            <a:ext cx="237636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100000">
                <a:srgbClr val="e3c9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nm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rth Jut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at Agency for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3429000"/>
            <a:ext cx="2376360" cy="87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100000">
                <a:srgbClr val="e3c9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stern Finland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stry of the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4437000"/>
            <a:ext cx="237636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100000">
                <a:srgbClr val="e3c9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A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6713" r="15881" b="3357"/>
          <a:stretch/>
        </p:blipFill>
        <p:spPr>
          <a:xfrm>
            <a:off x="2819520" y="1413000"/>
            <a:ext cx="3659040" cy="4603680"/>
          </a:xfrm>
          <a:prstGeom prst="rect">
            <a:avLst/>
          </a:prstGeom>
          <a:ln w="31680">
            <a:solidFill>
              <a:srgbClr val="80808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6588000" y="1413000"/>
            <a:ext cx="2232000" cy="90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3c9fe"/>
              </a:gs>
              <a:gs pos="100000">
                <a:srgbClr val="cc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ust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er Aust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y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88000" y="2421000"/>
            <a:ext cx="223200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3c9fe"/>
              </a:gs>
              <a:gs pos="100000">
                <a:srgbClr val="cc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mbar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usc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88000" y="3429000"/>
            <a:ext cx="2232000" cy="71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3c9fe"/>
              </a:gs>
              <a:gs pos="100000">
                <a:srgbClr val="cc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s Va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4221000"/>
            <a:ext cx="2232000" cy="843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3c9fe"/>
              </a:gs>
              <a:gs pos="100000">
                <a:srgbClr val="cc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we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rra Norr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r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88000" y="5157720"/>
            <a:ext cx="2305080" cy="12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3c9fe"/>
              </a:gs>
              <a:gs pos="100000">
                <a:srgbClr val="cc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ited King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D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rth-East Eng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les (WEF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stern Scot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5229360"/>
            <a:ext cx="237636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100000">
                <a:srgbClr val="e3c9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ermany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rth-Rhine Westph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xony Anh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02001-B00E-4092-9A86-14F9590915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4247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ational regional policies and inno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olicy trend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970s-mid 1980s: measures to attract R&amp;D activities to the problem reg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980s-mid 1990s: recognition of the importance of innova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DTI criteria within regional aid instru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referential aid for RTDI i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high-tech sectors eg. biotechnology or micro-electronics (Ireland, Italy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esignated research growth poles (Franc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echnical employment (Germany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pecific regional innovation schemes (Austria, Norway, UK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nvestment in local technology infrastructure eg. universities and research centres (Sweden) or specialised technical facilities (Germany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imited impact of meas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9F7F4-76B3-4AB9-8214-7D791E6207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42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ational regional policies and inno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893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ince mid-1990s - shift in the regional policy paradig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ocus on regional competitiven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l regions included within polic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centralisation – devolution and deconcent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olicy support for innovation and the knowledge econom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hift from enterprise aid to softer measures and systemic sup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rallel shifts in national RTDI policies – focus, instruments, govern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vergence of regional/RTDI policies in regiona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novation polic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8360" y="3573360"/>
          <a:ext cx="8280360" cy="1547640"/>
        </p:xfrm>
        <a:graphic>
          <a:graphicData uri="http://schemas.openxmlformats.org/drawingml/2006/table">
            <a:tbl>
              <a:tblPr/>
              <a:tblGrid>
                <a:gridCol w="4193280"/>
                <a:gridCol w="4087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nmark: Regional Growth Strategy, 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therlands: Regional Policy Memoran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land: Regional Development Act, 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weden: Regional Dev Policy Bill, 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nce: Strategic Review of Regional Poli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reland: National Spatial Strat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Kingdom: Government Papers on Enterprise, Reg.Productivity, Govern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FCBFE-A1C7-4F3B-963A-8C03C57431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343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U policies and inno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Up to 1990s, focus on creation and upgrading RTD capacities; industrial absorption of public research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Over the past decad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ing emphasis on innovation and SMEs within EU RTD policies (FP4, FP5 and FP6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rategic exercises to promote regional innovation (RTP, RIS, RITT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rowing importance of innovation within Structural Fund program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0075D-AA69-4DC0-A53A-EC066F2D57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343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U cohesion policy and inno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9200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1989-9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Resources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Obj.1 – very minor; Obj.2 - 9% of funding (UK:4%, Denmark:27%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Measures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RTDI infrastructure (laboratories, research centres, science parks), incubators, technology advisory services, technology transf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1994-9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Resources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Obj.1 (Spain:2%; Austria:9%); Obj.2 – 10-14% of fund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Measures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RTDI infrastructure, enterprise innovation aid, training, environmental technolog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47F2A-9880-41EE-8EE9-57D49E6D4C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343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U cohesion policy and inno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208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000-0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Resourc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Sample of Obj.1&amp;2 regions average spending allocations of 27%  (highest: 60% - Steiermar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Measur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earch and innovation infrastruc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search and innovation strategies and capacity build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TDI investment – research centres, applied research proje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uman capital meas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raining of research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usiness meas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nterprise support for innovative start-ups and small fir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ed and venture capital fun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-operation between research institutes and busine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A3B23-6E77-4F4D-BC37-2F55B7F8B2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8:41:00Z</dcterms:created>
  <dc:creator>Bachtler</dc:creator>
  <dc:description/>
  <dc:language>en-US</dc:language>
  <cp:lastModifiedBy>david</cp:lastModifiedBy>
  <dcterms:modified xsi:type="dcterms:W3CDTF">2004-11-26T06:40:20Z</dcterms:modified>
  <cp:revision>62</cp:revision>
  <dc:subject/>
  <dc:title>Florence: Innovation and knowledge economy paper</dc:title>
</cp:coreProperties>
</file>