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7863" cy="9313863"/>
</p:presentation>
</file>

<file path=ppt/commentAuthors.xml><?xml version="1.0" encoding="utf-8"?>
<p:cmAuthorLst xmlns:p="http://schemas.openxmlformats.org/presentationml/2006/main">
  <p:cmAuthor id="0" name="asabourin"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Relationship Id="rId16" Type="http://schemas.openxmlformats.org/officeDocument/2006/relationships/commentAuthors" Target="commentAuthors.xml"/>
</Relationships>
</file>

<file path=ppt/comments/comment6.xml><?xml version="1.0" encoding="utf-8"?>
<p:cmLst xmlns:p="http://schemas.openxmlformats.org/presentationml/2006/main">
  <p:cm authorId="0" dt="2004-10-29T14:40:24.446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81240" y="0"/>
            <a:ext cx="3044520" cy="46512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8847000"/>
            <a:ext cx="3044880" cy="46512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81240" y="8847000"/>
            <a:ext cx="3044520" cy="46512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2DFF84-AAE5-4A46-BCC2-C4D9AE2CC61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5840" y="698400"/>
            <a:ext cx="4656240" cy="3492720"/>
          </a:xfrm>
          <a:prstGeom prst="rect">
            <a:avLst/>
          </a:prstGeom>
          <a:ln w="0">
            <a:noFill/>
          </a:ln>
        </p:spPr>
      </p:sp>
      <p:sp>
        <p:nvSpPr>
          <p:cNvPr id="78"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 outil présente l’organisation du « propos » que tiendra le président et chef de la direction au moment de son intervention dans le cadre du panel d’échanges (</a:t>
            </a:r>
            <a:r>
              <a:rPr b="0" i="1" lang="fr-CA" sz="1200" spc="-1" strike="noStrike">
                <a:solidFill>
                  <a:srgbClr val="000000"/>
                </a:solidFill>
                <a:latin typeface="Arial"/>
              </a:rPr>
              <a:t>discussant panel</a:t>
            </a:r>
            <a:r>
              <a:rPr b="0" lang="fr-CA" sz="1200" spc="-1" strike="noStrike">
                <a:solidFill>
                  <a:srgbClr val="000000"/>
                </a:solidFill>
                <a:latin typeface="Arial"/>
              </a:rPr>
              <a:t>) sur « le support et le soutien aux entreprises en démarrage et aux « spin-offs ». Ce propos s’appuie sur le contenu de la note préparatoire. Il ne s’agit donc pas d’un résumé de la note, mais plutôt d’une organisation des idées à être communiquées à l’audito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 outil a été développé en fonction des contraintes du panel, à savo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Il s’agit d’un panel d’échanges. Les panélistes sont sensés pouvoir à la fois parler de leur expérience locale </a:t>
            </a:r>
            <a:r>
              <a:rPr b="0" i="1" lang="fr-CA" sz="1200" spc="-1" strike="noStrike">
                <a:solidFill>
                  <a:srgbClr val="000000"/>
                </a:solidFill>
                <a:latin typeface="Arial"/>
              </a:rPr>
              <a:t>et </a:t>
            </a:r>
            <a:r>
              <a:rPr b="0" lang="fr-CA" sz="1200" spc="-1" strike="noStrike">
                <a:solidFill>
                  <a:srgbClr val="000000"/>
                </a:solidFill>
                <a:latin typeface="Arial"/>
              </a:rPr>
              <a:t>réagir aux propos du conférencier princip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x dires des organisateurs de l’OCDE, il peut être utile d’avoir une présentation powerpoint, toutefois, les panélistes doivnt être préparés à l’éventualité d’avoir à faire leur présentation sans y recouri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insi, les notes en bas des diapositives sont présentées sous forme de </a:t>
            </a:r>
            <a:r>
              <a:rPr b="0" i="1" lang="fr-CA" sz="1200" spc="-1" strike="noStrike">
                <a:solidFill>
                  <a:srgbClr val="000000"/>
                </a:solidFill>
                <a:latin typeface="Arial"/>
              </a:rPr>
              <a:t>bullets</a:t>
            </a:r>
            <a:r>
              <a:rPr b="0" lang="fr-CA" sz="1200" spc="-1" strike="noStrike">
                <a:solidFill>
                  <a:srgbClr val="000000"/>
                </a:solidFill>
                <a:latin typeface="Arial"/>
              </a:rPr>
              <a:t>. </a:t>
            </a:r>
            <a:r>
              <a:rPr b="1" lang="en-CA" sz="1200" spc="-1" strike="noStrike">
                <a:solidFill>
                  <a:srgbClr val="000000"/>
                </a:solidFill>
                <a:latin typeface="Arial"/>
              </a:rPr>
              <a:t> </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5840" y="698400"/>
            <a:ext cx="4656240" cy="3492720"/>
          </a:xfrm>
          <a:prstGeom prst="rect">
            <a:avLst/>
          </a:prstGeom>
          <a:ln w="0">
            <a:noFill/>
          </a:ln>
        </p:spPr>
      </p:sp>
      <p:sp>
        <p:nvSpPr>
          <p:cNvPr id="96"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The availability of start-up financing and backing by angels are factors that can affect the inclination to start a business.</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pite the availability of public capital, it is essential to increase the availability of private funds and spark the interest of purveyors of capital in the initial stages of a business start-up. While it is true that the gradual withdrawal of public financing should contribute to attracting private investment, other instruments – fiscal incentives, primarily – could be helpful (for example, a tax credit (30%) on the amounts invested by an individual in a start-u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Quebec, the pool of entrepreneurs who have succeeded and who wish to mentor new entrepreneurs by investing seed money is limited. Independent private venture capital represents only 8% of the capital invested in 2003. Angel investors play an important role in terms of transmitting an entrepreneurial culture and transferring knowledge expertise and valu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minimize risks and encourage them to invest, small investors could be grouped together to give more weight to their capital. Information exchange networks through which angels and entrepreneurs could meet would help increase the visibility of interesting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5840" y="698400"/>
            <a:ext cx="4656240" cy="3492720"/>
          </a:xfrm>
          <a:prstGeom prst="rect">
            <a:avLst/>
          </a:prstGeom>
          <a:ln w="0">
            <a:noFill/>
          </a:ln>
        </p:spPr>
      </p:sp>
      <p:sp>
        <p:nvSpPr>
          <p:cNvPr id="98"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 conclusion, it is essential that Montreal’s strengths translate into real business projects that commercialize research results and spark innovation in compa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hallenge is to set up services and bodies that will promote an entrepreneurial culture in the long term and encourage the risk taking and perseverance required to develop a critical mass of technology firms. The economic rigour of the private venture capital milieu will stimulate entrepreneurs to become more competitive. Thanks to the support of a greater pool of angel investors, entrepreneurs will benefit from start-up capital and the experience of seasoned business people. Such a combination of factors will promote the creation of innovative companies, which in turn will nurture an entrepreneurial cultu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5840" y="698400"/>
            <a:ext cx="4656240" cy="3492720"/>
          </a:xfrm>
          <a:prstGeom prst="rect">
            <a:avLst/>
          </a:prstGeom>
          <a:ln w="0">
            <a:noFill/>
          </a:ln>
        </p:spPr>
      </p:sp>
      <p:sp>
        <p:nvSpPr>
          <p:cNvPr id="80"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part of a discussion on the support structure for start-ups and spin-offs in our regions, this presentation seeks to present the major issues in this area  for the Montreal metropolitan reg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cording to various stakeholders and observers (Conference Board of Canada, MDERR) of the knowledge and innovation economy, it appears that Quebec’s main problem in the innovation chain is found at the </a:t>
            </a:r>
            <a:r>
              <a:rPr b="1" lang="en-CA" sz="1200" spc="-1" strike="noStrike">
                <a:solidFill>
                  <a:srgbClr val="000000"/>
                </a:solidFill>
                <a:latin typeface="Arial"/>
              </a:rPr>
              <a:t>stage of</a:t>
            </a:r>
            <a:r>
              <a:rPr b="0" lang="en-CA" sz="1200" spc="-1" strike="noStrike">
                <a:solidFill>
                  <a:srgbClr val="000000"/>
                </a:solidFill>
                <a:latin typeface="Arial"/>
              </a:rPr>
              <a:t> </a:t>
            </a:r>
            <a:r>
              <a:rPr b="1" lang="en-CA" sz="1200" spc="-1" strike="noStrike">
                <a:solidFill>
                  <a:srgbClr val="000000"/>
                </a:solidFill>
                <a:latin typeface="Arial"/>
              </a:rPr>
              <a:t>transformation, commercialization and use of the knowledge generated by R&amp;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of the ways to address this problem is to focus on </a:t>
            </a:r>
            <a:r>
              <a:rPr b="1" lang="en-CA" sz="1200" spc="-1" strike="noStrike">
                <a:solidFill>
                  <a:srgbClr val="000000"/>
                </a:solidFill>
                <a:latin typeface="Arial"/>
              </a:rPr>
              <a:t>spreading the entrepreneurial culture, </a:t>
            </a:r>
            <a:r>
              <a:rPr b="0" lang="en-CA" sz="1200" spc="-1" strike="noStrike">
                <a:solidFill>
                  <a:srgbClr val="000000"/>
                </a:solidFill>
                <a:latin typeface="Arial"/>
              </a:rPr>
              <a:t>which can be done by implementing programs and financial measures that encourage and support “innovative entrepreneurshi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85840" y="698400"/>
            <a:ext cx="4656240" cy="3492720"/>
          </a:xfrm>
          <a:prstGeom prst="rect">
            <a:avLst/>
          </a:prstGeom>
          <a:ln w="0">
            <a:noFill/>
          </a:ln>
        </p:spPr>
      </p:sp>
      <p:sp>
        <p:nvSpPr>
          <p:cNvPr id="82"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n analysis of the data on the university milieu and research shows that Montreal has major strengths that revolve around the production of knowled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gional innovation system relies on a fertile university environment that boasts 4 large universities, 66 colleges, a great number of researchers and over 200 public and private research centres, making Montreal the largest concentration of research centres in Cana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dustrial sector for its part is bolstered by a strong pool of businesses that invest in research and development, and by expertise in leading-edge industrial clusters such as biopharmaceutical and aerosp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85840" y="698400"/>
            <a:ext cx="4656240" cy="3492720"/>
          </a:xfrm>
          <a:prstGeom prst="rect">
            <a:avLst/>
          </a:prstGeom>
          <a:ln w="0">
            <a:noFill/>
          </a:ln>
        </p:spPr>
      </p:sp>
      <p:sp>
        <p:nvSpPr>
          <p:cNvPr id="84"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radox: despite these strengths, the regional innovation system lacks in its efforts to transform and use knowledge, turning it into marketable goods and services</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respect to Quebec universities, the commercialization of intellectual property is weak in relation to the rest of Canada. While they received 29.2% of research funds (in 1998), they held only 17% of patents and accounted for only 9% of all Canadian university spin-o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2001, the four Montreal universities created only 11 spin-offs, while the seven universities in the Boston region generated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5840" y="698400"/>
            <a:ext cx="4656240" cy="3492720"/>
          </a:xfrm>
          <a:prstGeom prst="rect">
            <a:avLst/>
          </a:prstGeom>
          <a:ln w="0">
            <a:noFill/>
          </a:ln>
        </p:spPr>
      </p:sp>
      <p:sp>
        <p:nvSpPr>
          <p:cNvPr id="86"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The venture capital offering in Quebec is generally considered adequate, but private seed and start-up capital for innovative firms is lack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illustrate this point, it is interesting to compare Quebec’s performance to its neighbour and main competitor, Ontario.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Quebec accounts for approximately 40% of all VC transactions in Canada, but the size of the transactions is below the Canadian average. This translates into smaller per capita investments than in Ontario ($130 against $191 in 2001) and weaknesses in major financing rou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2002, 70% of VC investments in Quebec stemmed from the public sector, from Crown corporations or funds benefiting from tax incentives. The proportion in Ontario is the reverse, with 30% of venture capital coming from the public sector. As a consequence of the political nature of government investments, the return on capital is lower than in the private sect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well, in Ontario, the proportion of foreign VC (40%) is four times higher than in Quebec (10%), despite the fact that its population is not quite double Quebec’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5840" y="698400"/>
            <a:ext cx="4656240" cy="3492720"/>
          </a:xfrm>
          <a:prstGeom prst="rect">
            <a:avLst/>
          </a:prstGeom>
          <a:ln w="0">
            <a:noFill/>
          </a:ln>
        </p:spPr>
      </p:sp>
      <p:sp>
        <p:nvSpPr>
          <p:cNvPr id="88"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The Board of Trade’s observations are that, while Montreal has major strengths in research, the commercialization of this knowledge is still lacking and does not sufficiently make use of the classic university research spin-off model.</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 other words, our researchers are not entrepreneurial enough.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 change in culture requires intervention in three are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preading an entrepreneurial cult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upporting entrepreneur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acilitating invest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5840" y="698400"/>
            <a:ext cx="4656240" cy="3492720"/>
          </a:xfrm>
          <a:prstGeom prst="rect">
            <a:avLst/>
          </a:prstGeom>
          <a:ln w="0">
            <a:noFill/>
          </a:ln>
        </p:spPr>
      </p:sp>
      <p:sp>
        <p:nvSpPr>
          <p:cNvPr id="90" name="PlaceHolder 2"/>
          <p:cNvSpPr>
            <a:spLocks noGrp="1"/>
          </p:cNvSpPr>
          <p:nvPr>
            <p:ph type="body"/>
          </p:nvPr>
        </p:nvSpPr>
        <p:spPr>
          <a:xfrm>
            <a:off x="703440" y="4424400"/>
            <a:ext cx="5621040" cy="41911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it comes to a culture of entrepreneurship, we notice a certain reticence in Quebec to take business risks. According to the Global Entrepreneurship Monitor (2002), a smaller proportion of adults in Quebec are interested in starting a business than anywhere else in the rest of Cana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over, it must be recognized that in Quebec, in our collective consciousness, we have not yet set aside the traditional model of the inventor who works at home to create a product to meet a need and then, almost by chance, achieves commercial success. A new type of innovative entrepreneurship – where marketing the innovative product or service is just as important an objective as the innovation itself – must be encouraged mo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The chambers of commerce and business communities therefore have a major role to play in promoting entrepreneurshi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try to do so by welcoming successful entrepreneurs to our organization and by encouraging entrepreneurship among young people through our Operation Back to School progra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09600" y="696960"/>
            <a:ext cx="4656240" cy="3492360"/>
          </a:xfrm>
          <a:prstGeom prst="rect">
            <a:avLst/>
          </a:prstGeom>
          <a:ln w="0">
            <a:noFill/>
          </a:ln>
        </p:spPr>
      </p:sp>
      <p:sp>
        <p:nvSpPr>
          <p:cNvPr id="92" name="PlaceHolder 2"/>
          <p:cNvSpPr>
            <a:spLocks noGrp="1"/>
          </p:cNvSpPr>
          <p:nvPr>
            <p:ph type="body"/>
          </p:nvPr>
        </p:nvSpPr>
        <p:spPr>
          <a:xfrm>
            <a:off x="703440" y="4424400"/>
            <a:ext cx="5621040" cy="488952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rst aspect of improving services to support entrepreneurs is to </a:t>
            </a:r>
            <a:r>
              <a:rPr b="1" lang="en-CA" sz="1200" spc="-1" strike="noStrike">
                <a:solidFill>
                  <a:srgbClr val="000000"/>
                </a:solidFill>
                <a:latin typeface="Arial"/>
              </a:rPr>
              <a:t>develop an adequate offering in terms of business information and  acquisition of new skil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cooperation with the Canadian government, the Board of Trade facilitates access to information on business start-ups through its Info entreprises branch. This approach is particularly interesting because it combines in a single location, information on government services available to start-ups and the business experience of the Board of Trade’s networ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support entrepreneurs, who in Quebec are proportionally fewer to have completed a MBA degree than in Ontario and the United States, many mentorship programs are available, </a:t>
            </a:r>
            <a:r>
              <a:rPr b="1" lang="en-CA" sz="1200" spc="-1" strike="noStrike">
                <a:solidFill>
                  <a:srgbClr val="000000"/>
                </a:solidFill>
                <a:latin typeface="Arial"/>
              </a:rPr>
              <a:t>including</a:t>
            </a:r>
            <a:r>
              <a:rPr b="0" lang="en-CA" sz="1200" spc="-1" strike="noStrike">
                <a:solidFill>
                  <a:srgbClr val="000000"/>
                </a:solidFill>
                <a:latin typeface="Arial"/>
              </a:rPr>
              <a:t> </a:t>
            </a:r>
            <a:r>
              <a:rPr b="1" lang="en-CA" sz="1200" spc="-1" strike="noStrike">
                <a:solidFill>
                  <a:srgbClr val="000000"/>
                </a:solidFill>
                <a:latin typeface="Arial"/>
              </a:rPr>
              <a:t>one offered by the Board of Trade</a:t>
            </a:r>
            <a:r>
              <a:rPr b="0" lang="en-CA" sz="1200" spc="-1" strike="noStrike">
                <a:solidFill>
                  <a:srgbClr val="000000"/>
                </a:solidFill>
                <a:latin typeface="Arial"/>
              </a:rPr>
              <a:t>, to formally transmit experienced entrepreneurs’ knowled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metropolitan region, this aspect exists and is therefore well develo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5840" y="698400"/>
            <a:ext cx="4656240" cy="3492720"/>
          </a:xfrm>
          <a:prstGeom prst="rect">
            <a:avLst/>
          </a:prstGeom>
          <a:ln w="0">
            <a:noFill/>
          </a:ln>
        </p:spPr>
      </p:sp>
      <p:sp>
        <p:nvSpPr>
          <p:cNvPr id="94" name="PlaceHolder 2"/>
          <p:cNvSpPr>
            <a:spLocks noGrp="1"/>
          </p:cNvSpPr>
          <p:nvPr>
            <p:ph type="body"/>
          </p:nvPr>
        </p:nvSpPr>
        <p:spPr>
          <a:xfrm>
            <a:off x="703440" y="4424400"/>
            <a:ext cx="5621040" cy="469728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econd aspect:</a:t>
            </a:r>
            <a:r>
              <a:rPr b="1" lang="en-CA" sz="1200" spc="-1" strike="noStrike">
                <a:solidFill>
                  <a:srgbClr val="000000"/>
                </a:solidFill>
                <a:latin typeface="Arial"/>
              </a:rPr>
              <a:t> improving the organization of service delivery to entrepreneurs so as to maximize the benefi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pecialists note that, to maximize benefits, services to entrepreneurs must provide local support in a network that brings together resources. </a:t>
            </a:r>
            <a:r>
              <a:rPr b="0" lang="en-CA" sz="1200" spc="-1" strike="noStrike">
                <a:solidFill>
                  <a:srgbClr val="000000"/>
                </a:solidFill>
                <a:latin typeface="Arial"/>
              </a:rPr>
              <a:t>For example, the Inno-centre network of business incubators is based on this complementarity between a national group of contacts and resources, and a follow-up through local offices that is tailored to local characteristics and the specific needs of the popul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other initiative aimed at improving the organization of services is that of the </a:t>
            </a:r>
            <a:r>
              <a:rPr b="1" lang="en-CA" sz="1200" spc="-1" strike="noStrike">
                <a:solidFill>
                  <a:srgbClr val="000000"/>
                </a:solidFill>
                <a:latin typeface="Arial"/>
              </a:rPr>
              <a:t>Montreal Metropolitan Community and its partners to set up an organization to ensure cooperation </a:t>
            </a:r>
            <a:r>
              <a:rPr b="0" lang="en-CA" sz="1200" spc="-1" strike="noStrike">
                <a:solidFill>
                  <a:srgbClr val="000000"/>
                </a:solidFill>
                <a:latin typeface="Arial"/>
              </a:rPr>
              <a:t>and promote interaction between</a:t>
            </a:r>
            <a:r>
              <a:rPr b="1" lang="en-CA" sz="1200" spc="-1" strike="noStrike">
                <a:solidFill>
                  <a:srgbClr val="000000"/>
                </a:solidFill>
                <a:latin typeface="Arial"/>
              </a:rPr>
              <a:t> all the players involved in the regional innovation system.  </a:t>
            </a:r>
            <a:r>
              <a:rPr b="0" lang="en-CA" sz="1200" spc="-1" strike="noStrike">
                <a:solidFill>
                  <a:srgbClr val="000000"/>
                </a:solidFill>
                <a:latin typeface="Arial"/>
              </a:rPr>
              <a:t>IMM will back and promote concrete projects involving entrepreneurship, education, research, business services, access to financing, etc. As a partner of IMM, the Board of Trade of Metropolitan Montreal will have the role of enlisting the involvement of the private sector in IMM’s activit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761760" y="2057400"/>
            <a:ext cx="79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761760" y="4421520"/>
            <a:ext cx="79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617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261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61760" y="442152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826160" y="442152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61760" y="205740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443400" y="205740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24680" y="205740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761760" y="442152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443400" y="442152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124680" y="4421520"/>
            <a:ext cx="2553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761760" y="2057400"/>
            <a:ext cx="79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761760" y="2057400"/>
            <a:ext cx="3870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826160" y="2057400"/>
            <a:ext cx="3870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457200"/>
            <a:ext cx="703584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617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26160" y="2057400"/>
            <a:ext cx="3870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761760" y="442152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761760" y="2057400"/>
            <a:ext cx="3870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261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826160" y="442152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7617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26160" y="2057400"/>
            <a:ext cx="3870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1760" y="4421520"/>
            <a:ext cx="79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761760" y="2057400"/>
            <a:ext cx="7931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comments" Target="../comments/comment6.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p:nvPr>
        </p:nvSpPr>
        <p:spPr>
          <a:xfrm>
            <a:off x="761760" y="4267080"/>
            <a:ext cx="7931160" cy="23162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ntreal’s Innovation Challeng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volving from an “Inventor’s Culture” to one of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Innovative Entrepreneurship”</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November 26,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3. </a:t>
            </a:r>
            <a:r>
              <a:rPr b="1" lang="en-CA" sz="3200" spc="-1" strike="noStrike">
                <a:solidFill>
                  <a:srgbClr val="000000"/>
                </a:solidFill>
                <a:latin typeface="Arial"/>
              </a:rPr>
              <a:t>How can it be done?</a:t>
            </a:r>
            <a:endParaRPr b="1" lang="en-US" sz="3200" spc="-1" strike="noStrike">
              <a:solidFill>
                <a:srgbClr val="000000"/>
              </a:solidFill>
              <a:latin typeface="Arial"/>
            </a:endParaRPr>
          </a:p>
        </p:txBody>
      </p:sp>
      <p:sp>
        <p:nvSpPr>
          <p:cNvPr id="73"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3</a:t>
            </a:r>
            <a:r>
              <a:rPr b="1" lang="en-CA" sz="3200" spc="-1" strike="noStrike">
                <a:solidFill>
                  <a:srgbClr val="000000"/>
                </a:solidFill>
                <a:latin typeface="Arial"/>
              </a:rPr>
              <a:t>. Facilitate financing</a:t>
            </a:r>
            <a:r>
              <a:rPr b="0" lang="en-C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nture capit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d ways to increase private seed capit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gel investo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ing together small investo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ormation networks </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clusion</a:t>
            </a:r>
            <a:endParaRPr b="1" lang="en-US" sz="2400" spc="-1" strike="noStrike">
              <a:solidFill>
                <a:srgbClr val="000000"/>
              </a:solidFill>
              <a:latin typeface="Arial"/>
            </a:endParaRPr>
          </a:p>
        </p:txBody>
      </p:sp>
      <p:sp>
        <p:nvSpPr>
          <p:cNvPr id="76"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must stimulate entrepreneurship and support innovative entrepren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so that Montreal’s research strengths translate into real business projects and spark innovation in compa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roduction</a:t>
            </a:r>
            <a:endParaRPr b="1" lang="en-US" sz="2400" spc="-1" strike="noStrike">
              <a:solidFill>
                <a:srgbClr val="000000"/>
              </a:solidFill>
              <a:latin typeface="Arial"/>
            </a:endParaRPr>
          </a:p>
        </p:txBody>
      </p:sp>
      <p:sp>
        <p:nvSpPr>
          <p:cNvPr id="49"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4000" spc="-1" strike="noStrike">
                <a:solidFill>
                  <a:srgbClr val="000000"/>
                </a:solidFill>
                <a:latin typeface="Arial"/>
              </a:rPr>
              <a:t>How can we transform Montreal from a culture of “inventor” to one of “innovative entrepreneursh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1. Montreal’s innovation challenge</a:t>
            </a:r>
            <a:endParaRPr b="1" lang="en-US" sz="3200" spc="-1" strike="noStrike">
              <a:solidFill>
                <a:srgbClr val="000000"/>
              </a:solidFill>
              <a:latin typeface="Arial"/>
            </a:endParaRPr>
          </a:p>
        </p:txBody>
      </p:sp>
      <p:sp>
        <p:nvSpPr>
          <p:cNvPr id="52"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Major strengths</a:t>
            </a:r>
            <a:r>
              <a:rPr b="0" lang="en-C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universities, 66 college and technical educational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0 public and private research cent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6th of the Top 100 Canadian firms in terms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R&amp;D spe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fficient venture capit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orld-class competitive industrial clusters: biopharmaceutical and aero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1. Montreal’s innovation challenge</a:t>
            </a:r>
            <a:endParaRPr b="1" lang="en-US" sz="3200" spc="-1" strike="noStrike">
              <a:solidFill>
                <a:srgbClr val="000000"/>
              </a:solidFill>
              <a:latin typeface="Arial"/>
            </a:endParaRPr>
          </a:p>
        </p:txBody>
      </p:sp>
      <p:sp>
        <p:nvSpPr>
          <p:cNvPr id="55"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ere we need to improve</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erci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0% of research funds but onl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7% of pate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 of all Canadian university spin-off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1 spin-offs from university research (in 2001, compared to 47 in Bost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1. Montreal’s innovation challenge</a:t>
            </a:r>
            <a:endParaRPr b="1" lang="en-US" sz="3200" spc="-1" strike="noStrike">
              <a:solidFill>
                <a:srgbClr val="000000"/>
              </a:solidFill>
              <a:latin typeface="Arial"/>
            </a:endParaRPr>
          </a:p>
        </p:txBody>
      </p:sp>
      <p:sp>
        <p:nvSpPr>
          <p:cNvPr id="58"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ere we need to improve</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nture capit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bec…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counts for 40% of VC transactions in Canad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ducts smaller transactions - $130/capita, compared with $190/capita in Ontari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lies on the public sector as its main investor (70% public versus 30% private, compared with 30% public and 70% private in Ontari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few foreign investors (10%, compared with 40% in On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2. </a:t>
            </a:r>
            <a:r>
              <a:rPr b="1" lang="en-CA" sz="3200" spc="-1" strike="noStrike">
                <a:solidFill>
                  <a:srgbClr val="000000"/>
                </a:solidFill>
                <a:latin typeface="Arial"/>
              </a:rPr>
              <a:t>What must be done?</a:t>
            </a:r>
            <a:endParaRPr b="1" lang="en-US" sz="3200" spc="-1" strike="noStrike">
              <a:solidFill>
                <a:srgbClr val="000000"/>
              </a:solidFill>
              <a:latin typeface="Arial"/>
            </a:endParaRPr>
          </a:p>
        </p:txBody>
      </p:sp>
      <p:sp>
        <p:nvSpPr>
          <p:cNvPr id="61"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ift from an inventor culture to one of innovative entrepreneurship by focusing on three areas of intervention: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reading an entrepreneurial culture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pporting entrepreneurship</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cilitating inves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3. </a:t>
            </a:r>
            <a:r>
              <a:rPr b="1" lang="en-CA" sz="3200" spc="-1" strike="noStrike">
                <a:solidFill>
                  <a:srgbClr val="000000"/>
                </a:solidFill>
                <a:latin typeface="Arial"/>
              </a:rPr>
              <a:t>How can it be done?</a:t>
            </a:r>
            <a:endParaRPr b="1" lang="en-US" sz="3200" spc="-1" strike="noStrike">
              <a:solidFill>
                <a:srgbClr val="000000"/>
              </a:solidFill>
              <a:latin typeface="Arial"/>
            </a:endParaRPr>
          </a:p>
        </p:txBody>
      </p:sp>
      <p:sp>
        <p:nvSpPr>
          <p:cNvPr id="64"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 Change the culture to place more value on “innovative entrepreneurship”:</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ole of chambers of commerce and business commun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 more visibility to successful entrepreneu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courage entrepreneurship among young people (Operation Back to School)</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3. How can it be done?</a:t>
            </a:r>
            <a:endParaRPr b="1" lang="en-US" sz="3200" spc="-1" strike="noStrike">
              <a:solidFill>
                <a:srgbClr val="000000"/>
              </a:solidFill>
              <a:latin typeface="Arial"/>
            </a:endParaRPr>
          </a:p>
        </p:txBody>
      </p:sp>
      <p:sp>
        <p:nvSpPr>
          <p:cNvPr id="67"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 Services to support entrepren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an adequate offering in terms of business information and acquisition of new ski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o Entrepri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ento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762120" y="457200"/>
            <a:ext cx="70358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3</a:t>
            </a:r>
            <a:r>
              <a:rPr b="1" lang="en-CA" sz="3200" spc="-1" strike="noStrike">
                <a:solidFill>
                  <a:srgbClr val="000000"/>
                </a:solidFill>
                <a:latin typeface="Arial"/>
              </a:rPr>
              <a:t>. How can it be done?</a:t>
            </a:r>
            <a:endParaRPr b="1" lang="en-US" sz="3200" spc="-1" strike="noStrike">
              <a:solidFill>
                <a:srgbClr val="000000"/>
              </a:solidFill>
              <a:latin typeface="Arial"/>
            </a:endParaRPr>
          </a:p>
        </p:txBody>
      </p:sp>
      <p:sp>
        <p:nvSpPr>
          <p:cNvPr id="70" name="PlaceHolder 2"/>
          <p:cNvSpPr>
            <a:spLocks noGrp="1"/>
          </p:cNvSpPr>
          <p:nvPr>
            <p:ph/>
          </p:nvPr>
        </p:nvSpPr>
        <p:spPr>
          <a:xfrm>
            <a:off x="761760" y="20574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 Services to support entrepreneurs</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ganize service delivery to maximize benefi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etworks of services and incubators: local delivery and follow-up integrated into a regional/national infrastructu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novation Montréal Mé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7:45:20Z</dcterms:created>
  <dc:creator>Pascal Berthier</dc:creator>
  <dc:description/>
  <dc:language>en-US</dc:language>
  <cp:lastModifiedBy>asabourin</cp:lastModifiedBy>
  <dcterms:modified xsi:type="dcterms:W3CDTF">2004-11-19T13:54:28Z</dcterms:modified>
  <cp:revision>101</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6975235</vt:r8>
  </property>
  <property fmtid="{D5CDD505-2E9C-101B-9397-08002B2CF9AE}" pid="3" name="_AuthorEmail">
    <vt:lpwstr>Georgina.REGNIER@oecd.org</vt:lpwstr>
  </property>
  <property fmtid="{D5CDD505-2E9C-101B-9397-08002B2CF9AE}" pid="4" name="_AuthorEmailDisplayName">
    <vt:lpwstr>REGNIER Georgina, GOV/TRG</vt:lpwstr>
  </property>
  <property fmtid="{D5CDD505-2E9C-101B-9397-08002B2CF9AE}" pid="5" name="_EmailSubject">
    <vt:lpwstr>Conference of Florence</vt:lpwstr>
  </property>
  <property fmtid="{D5CDD505-2E9C-101B-9397-08002B2CF9AE}" pid="6" name="_PreviousAdHocReviewCycleID">
    <vt:r8>1974291411</vt:r8>
  </property>
</Properties>
</file>