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93F-61F0-4CBA-B5AE-AEF08D8D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CAB-E7DB-4395-B937-E6277227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851-E575-4575-A058-4C993619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FDAF-55F4-4874-93D4-FAFC7CBF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5C0-46EE-4A65-8235-CB2DE0C0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9B3-3F69-4696-99F7-A1EFE0FB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A2B-53EB-4E13-9F31-CEB14853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B32-9E9F-4D7B-A43D-D6228BF3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47920" y="30456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B60-A52B-4739-BCC9-BC46B0E7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2E4-74EA-44D8-9AC8-2BD2E09A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228-FA92-4148-A70E-0D90FFA6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767-586F-4646-832C-7612C856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rinno.com/" TargetMode="External"/><Relationship Id="rId5" Type="http://schemas.openxmlformats.org/officeDocument/2006/relationships/hyperlink" Target="http://www.europa.eu.int/comm/regional_policy/innovation/index_en.htm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08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6CBB-77B6-4525-A7DB-41960E7E31C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155520" y="2149560"/>
            <a:ext cx="6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914400"/>
            <a:ext cx="9144000" cy="761760"/>
            <a:chOff x="0" y="914400"/>
            <a:chExt cx="9144000" cy="761760"/>
          </a:xfrm>
        </p:grpSpPr>
        <p:sp>
          <p:nvSpPr>
            <p:cNvPr id="9" name=""/>
            <p:cNvSpPr/>
            <p:nvPr/>
          </p:nvSpPr>
          <p:spPr>
            <a:xfrm>
              <a:off x="0" y="914400"/>
              <a:ext cx="91440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914400"/>
              <a:ext cx="91440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  </a:t>
              </a: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-155520" y="2606760"/>
            <a:ext cx="1425600" cy="822240"/>
            <a:chOff x="-155520" y="2606760"/>
            <a:chExt cx="1425600" cy="822240"/>
          </a:xfrm>
        </p:grpSpPr>
        <p:sp>
          <p:nvSpPr>
            <p:cNvPr id="12" name=""/>
            <p:cNvSpPr/>
            <p:nvPr/>
          </p:nvSpPr>
          <p:spPr>
            <a:xfrm>
              <a:off x="-155520" y="2606760"/>
              <a:ext cx="7081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552600" y="2606760"/>
              <a:ext cx="717480" cy="459720"/>
              <a:chOff x="552600" y="2606760"/>
              <a:chExt cx="717480" cy="459720"/>
            </a:xfrm>
          </p:grpSpPr>
          <p:sp>
            <p:nvSpPr>
              <p:cNvPr id="14" name=""/>
              <p:cNvSpPr/>
              <p:nvPr/>
            </p:nvSpPr>
            <p:spPr>
              <a:xfrm>
                <a:off x="552600" y="2606760"/>
                <a:ext cx="4287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52600" y="2606760"/>
                <a:ext cx="71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" name=""/>
          <p:cNvGrpSpPr/>
          <p:nvPr/>
        </p:nvGrpSpPr>
        <p:grpSpPr>
          <a:xfrm>
            <a:off x="5315040" y="3429000"/>
            <a:ext cx="3673440" cy="1279440"/>
            <a:chOff x="5315040" y="3429000"/>
            <a:chExt cx="3673440" cy="1279440"/>
          </a:xfrm>
        </p:grpSpPr>
        <p:sp>
          <p:nvSpPr>
            <p:cNvPr id="17" name=""/>
            <p:cNvSpPr/>
            <p:nvPr/>
          </p:nvSpPr>
          <p:spPr>
            <a:xfrm>
              <a:off x="5315040" y="3429000"/>
              <a:ext cx="63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950080" y="3429000"/>
              <a:ext cx="55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505560" y="3429000"/>
              <a:ext cx="708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213680" y="3429000"/>
              <a:ext cx="4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85280" y="3429000"/>
              <a:ext cx="69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79000" y="3429000"/>
              <a:ext cx="58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967960" y="3429000"/>
              <a:ext cx="2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315040" y="3886200"/>
              <a:ext cx="6350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950080" y="3886200"/>
              <a:ext cx="5554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505560" y="3886200"/>
              <a:ext cx="7081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213680" y="3886200"/>
              <a:ext cx="4716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685280" y="3886200"/>
              <a:ext cx="6937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79000" y="3886200"/>
              <a:ext cx="5889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" name="" descr=""/>
          <p:cNvPicPr/>
          <p:nvPr/>
        </p:nvPicPr>
        <p:blipFill>
          <a:blip r:embed="rId6"/>
          <a:stretch/>
        </p:blipFill>
        <p:spPr>
          <a:xfrm>
            <a:off x="5483160" y="3110040"/>
            <a:ext cx="835200" cy="11160"/>
          </a:xfrm>
          <a:prstGeom prst="rect">
            <a:avLst/>
          </a:prstGeom>
          <a:ln w="0">
            <a:noFill/>
          </a:ln>
        </p:spPr>
      </p:pic>
      <p:pic>
        <p:nvPicPr>
          <p:cNvPr id="31" name="" descr=""/>
          <p:cNvPicPr/>
          <p:nvPr/>
        </p:nvPicPr>
        <p:blipFill>
          <a:blip r:embed="rId7"/>
          <a:stretch/>
        </p:blipFill>
        <p:spPr>
          <a:xfrm>
            <a:off x="6118200" y="3110040"/>
            <a:ext cx="696960" cy="11160"/>
          </a:xfrm>
          <a:prstGeom prst="rect">
            <a:avLst/>
          </a:prstGeom>
          <a:ln w="0">
            <a:noFill/>
          </a:ln>
        </p:spPr>
      </p:pic>
      <p:pic>
        <p:nvPicPr>
          <p:cNvPr id="32" name="" descr=""/>
          <p:cNvPicPr/>
          <p:nvPr/>
        </p:nvPicPr>
        <p:blipFill>
          <a:blip r:embed="rId8"/>
          <a:stretch/>
        </p:blipFill>
        <p:spPr>
          <a:xfrm>
            <a:off x="6673680" y="3110040"/>
            <a:ext cx="960480" cy="11160"/>
          </a:xfrm>
          <a:prstGeom prst="rect">
            <a:avLst/>
          </a:prstGeom>
          <a:ln w="0">
            <a:noFill/>
          </a:ln>
        </p:spPr>
      </p:pic>
      <p:pic>
        <p:nvPicPr>
          <p:cNvPr id="33" name="" descr=""/>
          <p:cNvPicPr/>
          <p:nvPr/>
        </p:nvPicPr>
        <p:blipFill>
          <a:blip r:embed="rId9"/>
          <a:stretch/>
        </p:blipFill>
        <p:spPr>
          <a:xfrm>
            <a:off x="7381800" y="3110040"/>
            <a:ext cx="549360" cy="11160"/>
          </a:xfrm>
          <a:prstGeom prst="rect">
            <a:avLst/>
          </a:prstGeom>
          <a:ln w="0">
            <a:noFill/>
          </a:ln>
        </p:spPr>
      </p:pic>
      <p:pic>
        <p:nvPicPr>
          <p:cNvPr id="34" name="" descr=""/>
          <p:cNvPicPr/>
          <p:nvPr/>
        </p:nvPicPr>
        <p:blipFill>
          <a:blip r:embed="rId10"/>
          <a:stretch/>
        </p:blipFill>
        <p:spPr>
          <a:xfrm>
            <a:off x="7853400" y="3110040"/>
            <a:ext cx="914400" cy="11160"/>
          </a:xfrm>
          <a:prstGeom prst="rect">
            <a:avLst/>
          </a:prstGeom>
          <a:ln w="0">
            <a:noFill/>
          </a:ln>
        </p:spPr>
      </p:pic>
      <p:pic>
        <p:nvPicPr>
          <p:cNvPr id="35" name="" descr=""/>
          <p:cNvPicPr/>
          <p:nvPr/>
        </p:nvPicPr>
        <p:blipFill>
          <a:blip r:embed="rId11"/>
          <a:stretch/>
        </p:blipFill>
        <p:spPr>
          <a:xfrm>
            <a:off x="8547120" y="3292560"/>
            <a:ext cx="754200" cy="11160"/>
          </a:xfrm>
          <a:prstGeom prst="rect">
            <a:avLst/>
          </a:prstGeom>
          <a:ln w="0">
            <a:noFill/>
          </a:ln>
        </p:spPr>
      </p:pic>
      <p:pic>
        <p:nvPicPr>
          <p:cNvPr id="36" name="" descr=""/>
          <p:cNvPicPr/>
          <p:nvPr/>
        </p:nvPicPr>
        <p:blipFill>
          <a:blip r:embed="rId12"/>
          <a:stretch/>
        </p:blipFill>
        <p:spPr>
          <a:xfrm>
            <a:off x="3809880" y="1523880"/>
            <a:ext cx="835200" cy="160560"/>
          </a:xfrm>
          <a:prstGeom prst="rect">
            <a:avLst/>
          </a:prstGeom>
          <a:ln w="0">
            <a:noFill/>
          </a:ln>
        </p:spPr>
      </p:pic>
      <p:pic>
        <p:nvPicPr>
          <p:cNvPr id="37" name="" descr=""/>
          <p:cNvPicPr/>
          <p:nvPr/>
        </p:nvPicPr>
        <p:blipFill>
          <a:blip r:embed="rId13"/>
          <a:stretch/>
        </p:blipFill>
        <p:spPr>
          <a:xfrm>
            <a:off x="4648320" y="1523880"/>
            <a:ext cx="696960" cy="160560"/>
          </a:xfrm>
          <a:prstGeom prst="rect">
            <a:avLst/>
          </a:prstGeom>
          <a:ln w="0">
            <a:noFill/>
          </a:ln>
        </p:spPr>
      </p:pic>
      <p:pic>
        <p:nvPicPr>
          <p:cNvPr id="38" name="" descr=""/>
          <p:cNvPicPr/>
          <p:nvPr/>
        </p:nvPicPr>
        <p:blipFill>
          <a:blip r:embed="rId14"/>
          <a:stretch/>
        </p:blipFill>
        <p:spPr>
          <a:xfrm>
            <a:off x="5334120" y="1523880"/>
            <a:ext cx="960480" cy="16056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15"/>
          <a:stretch/>
        </p:blipFill>
        <p:spPr>
          <a:xfrm>
            <a:off x="6308640" y="1523880"/>
            <a:ext cx="549360" cy="16056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16"/>
          <a:stretch/>
        </p:blipFill>
        <p:spPr>
          <a:xfrm>
            <a:off x="6858000" y="1523880"/>
            <a:ext cx="914400" cy="16056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17"/>
          <a:stretch/>
        </p:blipFill>
        <p:spPr>
          <a:xfrm>
            <a:off x="7848720" y="1523880"/>
            <a:ext cx="753840" cy="160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43200" y="609480"/>
            <a:ext cx="6400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1878120"/>
            <a:ext cx="8064360" cy="48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2400" spc="-1" strike="noStrike">
                <a:solidFill>
                  <a:srgbClr val="000066"/>
                </a:solidFill>
                <a:latin typeface="Arial Unicode MS"/>
              </a:rPr>
              <a:t>European Regions Knowledge-bas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ahoma"/>
              </a:rPr>
              <a:t>Innovation in European and Regional Polic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Massimo Bress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ERIK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ERIK Conferenc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Knowledge based regional development and innov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The transition towards a knowledge based econo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lorence, 25-26 Nov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72840" y="404640"/>
            <a:ext cx="36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6600"/>
                </a:solidFill>
                <a:latin typeface="Tahoma"/>
              </a:rPr>
              <a:t>ERIK Net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640" y="510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RIK position</a:t>
            </a:r>
            <a:br>
              <a:rPr sz="2800"/>
            </a:b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U Structural Funds beyond 2006 </a:t>
            </a:r>
            <a:r>
              <a:rPr b="1" lang="en-GB" sz="2400" spc="-1" strike="noStrike">
                <a:solidFill>
                  <a:srgbClr val="cc6600"/>
                </a:solidFill>
                <a:latin typeface="Tahoma"/>
              </a:rPr>
              <a:t>Policy recommendations</a:t>
            </a: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2203200"/>
            <a:ext cx="827532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6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Tahoma"/>
              </a:rPr>
              <a:t>ERIK POSITION ON EUROPEAN AND REGIONAL INNOVATION POLICIES / 1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4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The EU Structural Funds, most notably ERDF, should continue to offer a possibility for on-going testing of experimental measures in the field of regional innovation polici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95640" y="510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RIK position</a:t>
            </a:r>
            <a:br>
              <a:rPr sz="2800"/>
            </a:b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U Structural Funds beyond 2006 </a:t>
            </a:r>
            <a:r>
              <a:rPr b="1" lang="en-GB" sz="2400" spc="-1" strike="noStrike">
                <a:solidFill>
                  <a:srgbClr val="cc6600"/>
                </a:solidFill>
                <a:latin typeface="Tahoma"/>
              </a:rPr>
              <a:t>Policy recommendations</a:t>
            </a: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2050920"/>
            <a:ext cx="82753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WHY 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r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growing demand from the EU regions (139 out of 156 eligible European regions now implement RPIA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r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value-added of European dimension of RPIA: diverse expertise and good practices valid for different regional contex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ccession of the regions from the new Member States (innovation parado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95640" y="510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RIK position</a:t>
            </a:r>
            <a:br>
              <a:rPr sz="2800"/>
            </a:b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U Structural Funds beyond 2006 </a:t>
            </a:r>
            <a:r>
              <a:rPr b="1" lang="en-GB" sz="2400" spc="-1" strike="noStrike">
                <a:solidFill>
                  <a:srgbClr val="cc6600"/>
                </a:solidFill>
                <a:latin typeface="Tahoma"/>
              </a:rPr>
              <a:t>Policy recommendations</a:t>
            </a: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2050920"/>
            <a:ext cx="82753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WHY 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r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 need for a flexible innovation policy tool allowing certain r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r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ossibility of further enhancing SF mainstream spending, especially after incorporation of Lisbon goals to the EU Cohesion Polic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95640" y="510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RIK position</a:t>
            </a:r>
            <a:br>
              <a:rPr sz="2800"/>
            </a:b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U Structural Funds beyond 2006 </a:t>
            </a:r>
            <a:r>
              <a:rPr b="1" lang="en-GB" sz="2400" spc="-1" strike="noStrike">
                <a:solidFill>
                  <a:srgbClr val="cc6600"/>
                </a:solidFill>
                <a:latin typeface="Tahoma"/>
              </a:rPr>
              <a:t>Policy recommendations</a:t>
            </a: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2203200"/>
            <a:ext cx="827532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6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Tahoma"/>
              </a:rPr>
              <a:t>ERIK POSITION ON EUROPEAN AND REGIONAL INNOVATION POLICIES / 2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4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80" indent="-4680" algn="ctr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The role of the regional networks established to support innovation measures should be strengthene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55520" y="510840"/>
            <a:ext cx="700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RIK position</a:t>
            </a:r>
            <a:br>
              <a:rPr sz="2800"/>
            </a:b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U Structural Funds beyond 2006 </a:t>
            </a:r>
            <a:r>
              <a:rPr b="1" lang="en-GB" sz="2400" spc="-1" strike="noStrike">
                <a:solidFill>
                  <a:srgbClr val="cc6600"/>
                </a:solidFill>
                <a:latin typeface="Tahoma"/>
              </a:rPr>
              <a:t>Policy recommendations (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0640" y="213372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WHY 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r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disseminate experience and good practices of innovative ac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r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rovide a policy forum and partner search platform for European reg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r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include the new member state regions in the innovation policies management environm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55520" y="510840"/>
            <a:ext cx="700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RIK position</a:t>
            </a:r>
            <a:br>
              <a:rPr sz="2800"/>
            </a:b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U Structural Funds beyond 2006 </a:t>
            </a:r>
            <a:r>
              <a:rPr b="1" lang="en-GB" sz="2400" spc="-1" strike="noStrike">
                <a:solidFill>
                  <a:srgbClr val="cc6600"/>
                </a:solidFill>
                <a:latin typeface="Tahoma"/>
              </a:rPr>
              <a:t>Policy recommendations (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989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WHY 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r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nalyse implementation of innovation policy measures in different regional contexts in order to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66"/>
                </a:solidFill>
                <a:latin typeface="Tahoma"/>
              </a:rPr>
              <a:t>- contribute with policy recommenda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66"/>
                </a:solidFill>
                <a:latin typeface="Tahoma"/>
              </a:rPr>
              <a:t>- enhance Structural Funds interventions planned in both Objective 1 and new Objective 2 reg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5160" y="294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6600"/>
                </a:solidFill>
                <a:latin typeface="Tahoma"/>
              </a:rPr>
              <a:t>More information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632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GRAZI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ahoma"/>
              </a:rPr>
              <a:t>http://www.eriknetwork.ne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info@eriknetwork.ne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Brussels office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6 Rond Point Schuman – 6th floor</a:t>
            </a: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Tel. +32 2 235 7366/67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Fax +32 2 235 7368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0" y="1676520"/>
            <a:ext cx="4572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68000" y="29484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6600"/>
                </a:solidFill>
                <a:latin typeface="Tahoma"/>
              </a:rPr>
              <a:t>ERIK Partner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0" y="1701720"/>
            <a:ext cx="91440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39600" y="1735200"/>
            <a:ext cx="4611600" cy="5122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48320" y="1828800"/>
            <a:ext cx="35179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ahoma"/>
              </a:rPr>
              <a:t>1.  Emilia Romagna (Ita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ahoma"/>
              </a:rPr>
              <a:t>2.  Toscana (Ita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</a:rPr>
              <a:t>3.</a:t>
            </a:r>
            <a:r>
              <a:rPr b="1" lang="de-DE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</a:rPr>
              <a:t>Nieder Österreich (Aust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</a:rPr>
              <a:t>4.  </a:t>
            </a: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Wallonie (Belgi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ahoma"/>
              </a:rPr>
              <a:t>5.  Basse Normandie (Fr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ahoma"/>
              </a:rPr>
              <a:t>6.  Lorraine (Fr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ahoma"/>
              </a:rPr>
              <a:t>7.  </a:t>
            </a: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Bremen (Germany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8.  Lombardia (Italy)</a:t>
            </a:r>
            <a:r>
              <a:rPr b="1" i="1" lang="it-IT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9.  Thessaly (Gree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10. Alentejo (Portug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11. </a:t>
            </a: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Aragon (Spa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12. Murcia (Spa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13. West Midlands (United Kingdom)</a:t>
            </a: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0" y="1703520"/>
            <a:ext cx="4572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63880" y="2599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6600"/>
                </a:solidFill>
                <a:latin typeface="Tahoma"/>
              </a:rPr>
              <a:t>New Associate Region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744560"/>
            <a:ext cx="3276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Balearic Islands (E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Castilla y León (E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Catalonia (E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Crete (GR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Epirus (GR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Extremadura (E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Flanders (B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Gelderland (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Ionian Islands (GR) 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Kalmar Country (SWE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Kärnten (A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La Rioja (E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Liguria (IT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Nord Brabant (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Piemonte (IT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Sachsen (D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Scotland (UK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South Holland (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South West of England (UK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Sterea Ellada (GR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Stockholm (SWE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Storstrom County (DK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Valencia (E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55160" indent="-1551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Vastra Gotaland (SWE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0" y="1700280"/>
            <a:ext cx="91440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9600" y="1735200"/>
            <a:ext cx="46116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4800" y="439200"/>
            <a:ext cx="700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ahoma"/>
              </a:rPr>
              <a:t>Innovative Actions under ERDF </a:t>
            </a:r>
            <a:br>
              <a:rPr sz="2800"/>
            </a:br>
            <a:r>
              <a:rPr b="1" lang="en-GB" sz="2200" spc="-1" strike="noStrike">
                <a:solidFill>
                  <a:srgbClr val="cc6600"/>
                </a:solidFill>
                <a:latin typeface="Tahoma"/>
              </a:rPr>
              <a:t>Technological Innovation theme by measure</a:t>
            </a:r>
            <a:br>
              <a:rPr sz="2200"/>
            </a:br>
            <a:r>
              <a:rPr b="1" lang="en-GB" sz="2200" spc="-1" strike="noStrike">
                <a:solidFill>
                  <a:srgbClr val="cc6600"/>
                </a:solidFill>
                <a:latin typeface="Tahoma"/>
              </a:rPr>
              <a:t>(</a:t>
            </a:r>
            <a:r>
              <a:rPr b="1" lang="en-GB" sz="2000" spc="-1" strike="noStrike">
                <a:solidFill>
                  <a:srgbClr val="cc6600"/>
                </a:solidFill>
                <a:latin typeface="Tahoma"/>
              </a:rPr>
              <a:t>% budge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-304920" y="1143000"/>
          <a:ext cx="10515600" cy="59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143000"/>
                    <a:ext cx="1051560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5160" y="43920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RIK position</a:t>
            </a:r>
            <a:br>
              <a:rPr sz="2800"/>
            </a:b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Regions and innovatio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2058480"/>
            <a:ext cx="7775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general policy trend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shift from sectoral subsidy based policies towards regional programms focused on the technological innovation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stimulating inter-firm networking and cooperation between firms and research bas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tackling systemic deficienci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5160" y="43920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RIK position </a:t>
            </a:r>
            <a:br>
              <a:rPr sz="2800"/>
            </a:b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Regional innovation polici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regional policies contribute to strengthening regional research and innovation system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844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16680" indent="-237240" algn="r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strategic planning for innovation (experience of RI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-237240" algn="r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building regional partnerships (social capit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-237240" algn="r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assisting innovative SMEs and firms formation (start-ups and spin-offs, venture capit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-237240" algn="r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supporting regional R&amp;D expendit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-237240" algn="r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policy evaluation, benchmarking and foresigh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5160" y="43920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RIK position</a:t>
            </a:r>
            <a:br>
              <a:rPr sz="2800"/>
            </a:b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Regional innovation policies</a:t>
            </a:r>
            <a:br>
              <a:rPr sz="2800"/>
            </a:br>
            <a:br>
              <a:rPr sz="2800"/>
            </a:br>
            <a:r>
              <a:rPr b="1" lang="en-GB" sz="2400" spc="-1" strike="noStrike">
                <a:solidFill>
                  <a:srgbClr val="cc6600"/>
                </a:solidFill>
                <a:latin typeface="Tahoma"/>
              </a:rPr>
              <a:t>General learnings from the region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236232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to divide clearly tasks and responsibilities and better </a:t>
            </a: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coordinate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different </a:t>
            </a: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levels of government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with regard to innovation policy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to prioritise regional policies to support </a:t>
            </a: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innovative firms forma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to support various forms of regional </a:t>
            </a: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inter-firm collaboration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(networks, clusters, associations…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5160" y="43920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RIK position</a:t>
            </a:r>
            <a:br>
              <a:rPr sz="2800"/>
            </a:b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Regional innovation policies</a:t>
            </a:r>
            <a:br>
              <a:rPr sz="2800"/>
            </a:br>
            <a:br>
              <a:rPr sz="2800"/>
            </a:br>
            <a:r>
              <a:rPr b="1" lang="en-GB" sz="2400" spc="-1" strike="noStrike">
                <a:solidFill>
                  <a:srgbClr val="cc6600"/>
                </a:solidFill>
                <a:latin typeface="Tahoma"/>
              </a:rPr>
              <a:t>General learnings from the region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90512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to support and rethink the role of local and </a:t>
            </a: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regional development agenci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to promote regional </a:t>
            </a: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foresight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among regional and local communities and to embark on regular </a:t>
            </a: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evaluation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and </a:t>
            </a: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benchmarking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of regional innovation polici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4800" y="65520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RIK position</a:t>
            </a:r>
            <a:br>
              <a:rPr sz="2800"/>
            </a:b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U Structural Funds beyond 2006 </a:t>
            </a:r>
            <a:br>
              <a:rPr sz="2800"/>
            </a:b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9440" y="2482920"/>
            <a:ext cx="8278920" cy="36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innovation as a priority of the EU Structural Funds mainstream programs between 2007-201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66"/>
                </a:solidFill>
                <a:uFillTx/>
                <a:latin typeface="Tahoma"/>
              </a:rPr>
              <a:t>no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Innovative Actions under European Regional Development Fund (ERDF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14:05:15Z</dcterms:created>
  <dc:creator>elisabetta toschi</dc:creator>
  <dc:description/>
  <dc:language>en-US</dc:language>
  <cp:lastModifiedBy>Massimo Bressan</cp:lastModifiedBy>
  <dcterms:modified xsi:type="dcterms:W3CDTF">2004-11-23T23:51:37Z</dcterms:modified>
  <cp:revision>201</cp:revision>
  <dc:subject/>
  <dc:title>Presentazione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67353577</vt:r8>
  </property>
  <property fmtid="{D5CDD505-2E9C-101B-9397-08002B2CF9AE}" pid="3" name="_AuthorEmail">
    <vt:lpwstr>m.miedzinski@regionicentroitalia.org</vt:lpwstr>
  </property>
  <property fmtid="{D5CDD505-2E9C-101B-9397-08002B2CF9AE}" pid="4" name="_AuthorEmailDisplayName">
    <vt:lpwstr>Michal Miedzinski</vt:lpwstr>
  </property>
  <property fmtid="{D5CDD505-2E9C-101B-9397-08002B2CF9AE}" pid="5" name="_EmailSubject">
    <vt:lpwstr>ERIK conference - draft presentations</vt:lpwstr>
  </property>
</Properties>
</file>