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592A-5982-4807-90E4-A48D92403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0E3A-C27C-45CE-A870-5AE03118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8DC3-0BBA-450B-B341-9DB0D71FC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05DB-318B-4CA5-A9C0-9EACC829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A1D5-8E43-4B96-B844-D1B32B7D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ABF3-B347-4E85-9FC9-C10EFC0F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74DD-677B-44C4-8611-3232F149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F673-2D2C-45F3-9D9F-07A0A643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5443-37B6-4B53-9D37-9B90B883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9965-381C-4613-88B8-0EEBB435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AE40-5042-4BCE-A02B-25F84113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B567-18FF-4AAD-8352-5AAA6E89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BB03-3C2B-4C60-AD5B-8D445D9EFDB4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VGR%20logga" descr=""/>
          <p:cNvPicPr/>
          <p:nvPr/>
        </p:nvPicPr>
        <p:blipFill>
          <a:blip r:embed="rId1"/>
          <a:stretch/>
        </p:blipFill>
        <p:spPr>
          <a:xfrm>
            <a:off x="6324480" y="5867280"/>
            <a:ext cx="2133720" cy="438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19320" y="990720"/>
            <a:ext cx="594360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000000"/>
                </a:solidFill>
                <a:latin typeface="Times New Roman"/>
              </a:rPr>
              <a:t>Region Västra Götal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Times New Roman"/>
              </a:rPr>
              <a:t>Regional measures to promote entrepreneurship and innovative ideas and to support technology-/ knowledge-based start-ups in global competition</a:t>
            </a:r>
            <a:r>
              <a:rPr b="1" lang="sv-S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5249880"/>
            <a:ext cx="41911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rister Enersko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lore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6th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VGR%20logga" descr=""/>
          <p:cNvPicPr/>
          <p:nvPr/>
        </p:nvPicPr>
        <p:blipFill>
          <a:blip r:embed="rId1"/>
          <a:stretch/>
        </p:blipFill>
        <p:spPr>
          <a:xfrm>
            <a:off x="6324480" y="5867280"/>
            <a:ext cx="213372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43000" y="380880"/>
            <a:ext cx="64008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228600"/>
          <a:ext cx="9144000" cy="54770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8600"/>
                    <a:ext cx="9144000" cy="54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VGR%20logga" descr=""/>
          <p:cNvPicPr/>
          <p:nvPr/>
        </p:nvPicPr>
        <p:blipFill>
          <a:blip r:embed="rId1"/>
          <a:stretch/>
        </p:blipFill>
        <p:spPr>
          <a:xfrm>
            <a:off x="6324480" y="5867280"/>
            <a:ext cx="2133720" cy="438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3000" y="380880"/>
            <a:ext cx="64008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920" y="533520"/>
          <a:ext cx="8610480" cy="51814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33520"/>
                    <a:ext cx="86104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380880"/>
            <a:ext cx="64008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80880" y="293760"/>
          <a:ext cx="8382240" cy="6183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93760"/>
                    <a:ext cx="838224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380880"/>
            <a:ext cx="64008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0"/>
          <a:ext cx="89154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VGR%20logga" descr=""/>
          <p:cNvPicPr/>
          <p:nvPr/>
        </p:nvPicPr>
        <p:blipFill>
          <a:blip r:embed="rId1"/>
          <a:stretch/>
        </p:blipFill>
        <p:spPr>
          <a:xfrm>
            <a:off x="6324480" y="5867280"/>
            <a:ext cx="2133720" cy="438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533520"/>
            <a:ext cx="853416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Times New Roman"/>
              </a:rPr>
              <a:t>Three main pillars to create more technology-/knowledge-based start-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Encourage entrepreneurship and promote innovative </a:t>
            </a: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business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Business incubators for specialized support to start-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Supply appropriate funding for early 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VGR%20logga" descr=""/>
          <p:cNvPicPr/>
          <p:nvPr/>
        </p:nvPicPr>
        <p:blipFill>
          <a:blip r:embed="rId1"/>
          <a:stretch/>
        </p:blipFill>
        <p:spPr>
          <a:xfrm>
            <a:off x="6324480" y="5867280"/>
            <a:ext cx="2133720" cy="438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43000" y="380880"/>
            <a:ext cx="64008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3520" y="0"/>
          <a:ext cx="7772400" cy="58132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0"/>
                    <a:ext cx="7772400" cy="58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VGR%20logga" descr=""/>
          <p:cNvPicPr/>
          <p:nvPr/>
        </p:nvPicPr>
        <p:blipFill>
          <a:blip r:embed="rId1"/>
          <a:stretch/>
        </p:blipFill>
        <p:spPr>
          <a:xfrm>
            <a:off x="6324480" y="5867280"/>
            <a:ext cx="2133720" cy="438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57200" y="609480"/>
            <a:ext cx="8381880" cy="52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Present tools and schem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Times New Roman"/>
              </a:rPr>
              <a:t>Attitudes and entrepreneu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Times New Roman"/>
              </a:rPr>
              <a:t>*  Inspiration Associations (Hothouse) at universities in Göteborg and 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v-SE" sz="2000" spc="-1" strike="noStrike">
                <a:solidFill>
                  <a:srgbClr val="000000"/>
                </a:solidFill>
                <a:latin typeface="Times New Roman"/>
              </a:rPr>
              <a:t>the University College Trollhättan/Uddeva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Times New Roman"/>
              </a:rPr>
              <a:t>*  Entrepreneur School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sv-SE" sz="2000" spc="-1" strike="noStrike">
                <a:solidFill>
                  <a:srgbClr val="000000"/>
                </a:solidFill>
                <a:latin typeface="Times New Roman"/>
              </a:rPr>
              <a:t>Chalmers University of Technology (incl pre-incuba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sv-SE" sz="2000" spc="-1" strike="noStrike">
                <a:solidFill>
                  <a:srgbClr val="000000"/>
                </a:solidFill>
                <a:latin typeface="Times New Roman"/>
              </a:rPr>
              <a:t>Göteborg School of Economy (University of Götebor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sv-SE" sz="2000" spc="-1" strike="noStrike">
                <a:solidFill>
                  <a:srgbClr val="000000"/>
                </a:solidFill>
                <a:latin typeface="Times New Roman"/>
              </a:rPr>
              <a:t>University College of Sköv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v-SE" sz="2000" spc="-1" strike="noStrike">
                <a:solidFill>
                  <a:srgbClr val="000000"/>
                </a:solidFill>
                <a:latin typeface="Times New Roman"/>
              </a:rPr>
              <a:t>Chalmers Lidkö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Times New Roman"/>
              </a:rPr>
              <a:t>*  Venture Cup - yearly business plan compe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VGR%20logga" descr=""/>
          <p:cNvPicPr/>
          <p:nvPr/>
        </p:nvPicPr>
        <p:blipFill>
          <a:blip r:embed="rId1"/>
          <a:stretch/>
        </p:blipFill>
        <p:spPr>
          <a:xfrm>
            <a:off x="6324480" y="5867280"/>
            <a:ext cx="2133720" cy="438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143000" y="380880"/>
            <a:ext cx="64008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04920" y="228600"/>
          <a:ext cx="8534160" cy="54864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28600"/>
                    <a:ext cx="853416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VGR%20logga" descr=""/>
          <p:cNvPicPr/>
          <p:nvPr/>
        </p:nvPicPr>
        <p:blipFill>
          <a:blip r:embed="rId1"/>
          <a:stretch/>
        </p:blipFill>
        <p:spPr>
          <a:xfrm>
            <a:off x="6324480" y="5867280"/>
            <a:ext cx="2133720" cy="438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43000" y="380880"/>
            <a:ext cx="64008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28600" y="181080"/>
          <a:ext cx="8229600" cy="54576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81080"/>
                    <a:ext cx="8229600" cy="54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VGR%20logga" descr=""/>
          <p:cNvPicPr/>
          <p:nvPr/>
        </p:nvPicPr>
        <p:blipFill>
          <a:blip r:embed="rId1"/>
          <a:stretch/>
        </p:blipFill>
        <p:spPr>
          <a:xfrm>
            <a:off x="6324480" y="5867280"/>
            <a:ext cx="2133720" cy="438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143000" y="380880"/>
            <a:ext cx="64008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0" y="9360"/>
          <a:ext cx="9144000" cy="562932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360"/>
                    <a:ext cx="9144000" cy="56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3:15:05Z</dcterms:created>
  <dc:creator>Christer Enerskog</dc:creator>
  <dc:description/>
  <dc:language>en-US</dc:language>
  <cp:lastModifiedBy>guarnieri</cp:lastModifiedBy>
  <cp:lastPrinted>2004-10-29T14:09:47Z</cp:lastPrinted>
  <dcterms:modified xsi:type="dcterms:W3CDTF">2004-11-22T16:55:03Z</dcterms:modified>
  <cp:revision>149</cp:revision>
  <dc:subject/>
  <dc:title>Ingen bildrubrik</dc:title>
</cp:coreProperties>
</file>