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097-E0D6-4750-973E-0C515E8F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39D-E3DE-49EE-86C2-385A2878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580-B637-443A-B99C-7DDAC2AE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A67-03FC-46C2-90D2-B31FC2C0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F57-3FB1-4CBF-98D9-931E324F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D15A-45AE-465C-B1CC-92615869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3934-05F8-4CD1-B29E-7EE40092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221-08EE-41DF-B659-80CE1E3F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AA83-0063-4ACB-B560-46961046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90F-8F70-4F61-97D1-FCC984C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7D2-F4DD-43C0-8375-31C7DE6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7D6-5EE9-43A9-BF34-059E646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AB1A-9D2D-4E05-955C-3A3482C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0DE-198D-4740-8E83-23692FA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4A66-0491-4266-AD24-CBFC33B1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CC4A-D81E-4B23-B42F-B3CA90FD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5FE0-7651-40FE-B6EB-F43AA9F9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0B2-789B-4FE2-955F-0818F22B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0F9-38B0-468A-B1B3-B793B5C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B20-00D3-49FF-B662-A2CD03A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8CF-6EBF-4030-BB1D-CD966CD5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B61-10BF-4D25-A639-A0BD7727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B37-BD33-41D0-A2C4-9C26AE0E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6DA-8520-4CE7-9021-AD3EDEA2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dfc9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ac0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dfc977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fc977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4C6-DF18-4A8A-9791-A766459DBDE7}" type="slidenum">
              <a:rPr b="0" lang="en-US" sz="14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dfc9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cac0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ede1a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de1a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dfc977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dfc977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1A1D-D6A7-454F-B0EF-13C862836C5A}" type="slidenum">
              <a:rPr b="0" lang="en-US" sz="14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33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fc977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90792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Arial"/>
              </a:rPr>
              <a:t>Innovation and regional development : transition towards a knowledge-based economy</a:t>
            </a:r>
            <a:r>
              <a:rPr b="0" lang="en-GB" sz="3600" spc="-1" strike="noStrike">
                <a:solidFill>
                  <a:srgbClr val="9933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716360" y="4149360"/>
            <a:ext cx="381816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ulette Pom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gation for Spatial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Regional Action –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5562720"/>
            <a:ext cx="316872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Florence 25 and 26 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010280" y="6180120"/>
          <a:ext cx="152424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618012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L’appui des grandes entreprises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réations d’entreprises par essaimage 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15 à 20 000 par an</a:t>
            </a:r>
            <a:br>
              <a:rPr sz="1600"/>
            </a:b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différentes formes d’essaim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8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saimage à chaud (dans le cadre d’une restructu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8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saimage à froid (démarche spontanée d’un ou plusieurs salari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8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saimage stratégique (valorisation d’un procédé ou savoir faire au sein d’une nouvelle entreprise en création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s</a:t>
            </a:r>
            <a:br>
              <a:rPr sz="1600"/>
            </a:b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8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AD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tenaire des incubateurs :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 l’incubateur de l’IFSI,, plateau de Saclay dont EADS est un membre fondateur 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ur les 27 projets incubés, 5 sont portés par d’anciens salariés d’EAD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8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rance Télécom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 Rennes, Toulouse et Paris, l’opérateur a soutenu  et accompagné dans ses centres de recherch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25 entreprises technologiques au cours des six dernières a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Les formes de coopération au sein des SPL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448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unication interne et exter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diagnostic, site internet, salons, logo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commun de moyen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équipements, plates formes d’essai, compétences techniques…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partagée des ressources humain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groupements d’employeurs, formations initiales et continues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oupements d’achat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s commerciales et de diversification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cherche col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ponse commune en matière de réglementation sur l’envir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s systèmes productifs locaux (SPL) et l’innov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gramme de recherche ou d’expérimentation défini en commu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pôle verrier de la Bresle, plantes à parfum de Grasse, Capital games, Pôles des technologies médicales de St Etienn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yens collectifs de recherch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Pôle halieutique de Boulogne, Pôle machine spéciale de Belfor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PL scientifiques ou technologiqu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PL Ecotechnique de Savoie, SPL Plasma-Laser Région Centr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s systèmes productifs locaux (SPL) et l’innovation - exempl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is Games (Paris) SPL du jeu vidéo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50 entreprise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le principe central du SPL est l’obligation pour ses membres de chercher à mutualiser une partie de leurs ressources en termes de savoir faire en programmation, en méthode de production et en contacts commerciaux »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n axe R&amp;D : mise en place d’un programme de 5 chantiers de R&amp;D mutualisés entre les membres du SPL</a:t>
            </a:r>
            <a:br>
              <a:rPr sz="24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s systèmes productifs locaux (SPL) et l’innovation - exemple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ôle des technologies médicales de St Etien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oire -Région Rhône-Alpes) (60 entrepris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ours annuel destiné à aider les étudiants ou chercheurs travaillant sur des projets associant une entreprise et un laboratoi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actions de recherche-développement pour de nouveaux produ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’un master des affaires appliquées aux sciences de la santé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Les pôles de compétitivité : objectifs du gouvernement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for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mpétitivité industriel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 développement écon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é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maintenir des emplois indust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image d’une France technologique et indust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’ « ancrage » territorial de l’activité industrielle. Pour c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er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er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le potentiel local 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ainsi attirer les investissements et les compétences, aux niveaux européen et mondi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Définition des pôles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1628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mbinaison, sur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ace géographique donné, d’entrepri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centres de formation et d’unités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er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és dans u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ée à dégager des synergies autour de projets de R&amp;D coopératifs,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disposant d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e crit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écessaire pour une visibilité internationale sur un domaine circonscr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sures de soutien aux pôles labellisés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outiens aux acteurs</a:t>
            </a:r>
            <a:br>
              <a:rPr sz="1800"/>
            </a:br>
            <a:br>
              <a:rPr sz="1800"/>
            </a:br>
            <a:r>
              <a:rPr b="1" lang="fr-B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imation (8 M€ / an)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ille et intelligence économique (2 M€ / an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es à l’exportation (1,5 M€ / an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roupements d’employeurs (50% du coût au démarrage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onus CEP, EDDF, GPEC</a:t>
            </a:r>
            <a:br>
              <a:rPr sz="1600"/>
            </a:b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artenariats financiers renforcés</a:t>
            </a:r>
            <a:br>
              <a:rPr sz="1800"/>
            </a:b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mmobilier </a:t>
            </a:r>
            <a:r>
              <a:rPr b="0" lang="fr-B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programme CDC (550 M€)</a:t>
            </a:r>
            <a:br>
              <a:rPr sz="1600"/>
            </a:b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Fonds propre </a:t>
            </a:r>
            <a:r>
              <a:rPr b="0" lang="fr-B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programme CDC (300 M€)</a:t>
            </a:r>
            <a:br>
              <a:rPr sz="1600"/>
            </a:b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Très haut débit </a:t>
            </a:r>
            <a:r>
              <a:rPr b="0" lang="fr-B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programme CDC (225 M€)</a:t>
            </a:r>
            <a:br>
              <a:rPr sz="1600"/>
            </a:b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Avances remboursables et financement des PME </a:t>
            </a:r>
            <a:r>
              <a:rPr b="0" lang="fr-B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programmes BDPME / AN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90792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3300"/>
                </a:solidFill>
                <a:latin typeface="Arial"/>
              </a:rPr>
              <a:t>Innovation et développement régional : transition vers une économie de la connaissance</a:t>
            </a:r>
            <a:r>
              <a:rPr b="1" lang="fr-FR" sz="24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993300"/>
                </a:solidFill>
                <a:latin typeface="Arial"/>
              </a:rPr>
              <a:t>Session 5: </a:t>
            </a:r>
            <a:r>
              <a:rPr b="0" lang="fr-FR" sz="2400" spc="-1" strike="noStrike">
                <a:solidFill>
                  <a:srgbClr val="993300"/>
                </a:solidFill>
                <a:latin typeface="Arial"/>
              </a:rPr>
              <a:t>L’appui aux « start ups » et « spinoffs »</a:t>
            </a:r>
            <a:br>
              <a:rPr sz="2400"/>
            </a:br>
            <a:br>
              <a:rPr sz="2400"/>
            </a:br>
            <a:r>
              <a:rPr b="0" lang="fr-FR" sz="4000" spc="-1" strike="noStrike">
                <a:solidFill>
                  <a:srgbClr val="993300"/>
                </a:solidFill>
                <a:latin typeface="Arial"/>
              </a:rPr>
              <a:t>Expériences françaises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16360" y="4149360"/>
            <a:ext cx="381816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ulett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m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légation à l’aménagement du territoire et à l’action ré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66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562720"/>
            <a:ext cx="3168720" cy="8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Arial"/>
              </a:rPr>
              <a:t>Florence 25 et 26 Nov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10280" y="6180120"/>
          <a:ext cx="152424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618012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Les entreprises en France (2003)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2707920"/>
            <a:ext cx="77724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total : 2 3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éations :199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ises et réactivations : 95 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éations dans les secteurs innovants (TIC,bio, nouveaux matériaux…) : 9 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étés cotées en bourse : 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s incubateurs d’entreprises innovantes liées à la recherche publique  (Bilan 2000-2003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270828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 incubateurs souten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 cadre de la loi pour l’innovation et la recherc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22,5 M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s incubateurs d’entreprises innovantes liées à la recherche publique  (Bilan 2000-2003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4 projets incub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9 entreprises crées (2029 emplois créés)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340000" y="1700280"/>
          <a:ext cx="518472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518472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s incubateurs d’entreprises innovantes liées à la recherche publique  (Bilan 2000-2003)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2000" y="1438200"/>
          <a:ext cx="7200720" cy="53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38200"/>
                    <a:ext cx="7200720" cy="53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3300"/>
                </a:solidFill>
                <a:latin typeface="Arial"/>
              </a:rPr>
              <a:t>Exemple d’incubateur :</a:t>
            </a:r>
            <a:r>
              <a:rPr b="1" lang="fr-FR" sz="44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4400"/>
            </a:br>
            <a:r>
              <a:rPr b="1" lang="fr-FR" sz="4400" spc="-1" strike="noStrike">
                <a:solidFill>
                  <a:srgbClr val="993300"/>
                </a:solidFill>
                <a:latin typeface="Arial"/>
              </a:rPr>
              <a:t>Atlanpole - Nantes 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lanpo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à la f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incubat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technopole (pour l’interface avec le territoi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un CEEI (pour les autres projets innovan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sion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tection pro active au sein des labor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aluation de la valorisation possible du pr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ompagnement - création (par le biais de mesures liées à l’incubat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ompagnement - développement (avec le dispositif CE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s fin 2003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0 start-ups et projets accompagnés (11,5 M€ levés pour les start-ups accompagn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1 projets incubés entre 2000 et200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i ont donné lieu à la création de 32 entreprises représentant 154 emplois; 2 entreprises seulement avaient  disparu entre 2000 et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" presetSubtype="4" repeatCount="100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00"/>
                </a:solidFill>
                <a:latin typeface="Arial"/>
              </a:rPr>
              <a:t>Exemple d’incubateur :</a:t>
            </a:r>
            <a:r>
              <a:rPr b="1" lang="fr-FR" sz="4000" spc="-1" strike="noStrike">
                <a:solidFill>
                  <a:srgbClr val="993300"/>
                </a:solidFill>
                <a:latin typeface="Arial"/>
              </a:rPr>
              <a:t> </a:t>
            </a:r>
            <a:br>
              <a:rPr sz="4000"/>
            </a:br>
            <a:r>
              <a:rPr b="1" lang="fr-FR" sz="4000" spc="-1" strike="noStrike">
                <a:solidFill>
                  <a:srgbClr val="993300"/>
                </a:solidFill>
                <a:latin typeface="Arial"/>
              </a:rPr>
              <a:t>le Genopole - the Gene and Biotechcity 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campus de Genopole  (Evry-région parisien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5 structures de recherche académiqu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000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e laboratoires,installé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42 chercheur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c immobilier de 70 800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 sociétés de biotechnologies implantées ; dont Aventis Pharma, Bayler Crop Scienc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3 projets de créations d’entreprises incubées</a:t>
            </a:r>
            <a:br>
              <a:rPr sz="1800"/>
            </a:b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e1af"/>
            </a:gs>
            <a:gs pos="50000">
              <a:srgbClr val="ffffcc"/>
            </a:gs>
            <a:gs pos="100000">
              <a:srgbClr val="ede1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ositifs publics pour le financement de l’innovation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antages fiscaux aux « business angels »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ation d’un régime fiscal pour la jeune entreprise innovante (JEI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cours national d’aide à la création d’entreprises de technologies innov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Fonds d’amorçage dotés par l’Etat de 23 M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le : Bioam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tenaires publics :  Etat, organismes publics de recherche, Caisse des dépôts et consign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tenaires privés :  Axa, Caisse d’épargn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des de l’Anvar aux entreprises innovantes (2646 projets et 221,5 M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9:08:40Z</dcterms:created>
  <dc:creator>Philippe Pommier</dc:creator>
  <dc:description/>
  <dc:language>en-US</dc:language>
  <cp:lastModifiedBy> </cp:lastModifiedBy>
  <cp:lastPrinted>2002-11-19T10:25:59Z</cp:lastPrinted>
  <dcterms:modified xsi:type="dcterms:W3CDTF">2004-11-22T10:18:58Z</dcterms:modified>
  <cp:revision>15</cp:revision>
  <dc:subject>Communication Shenzhen Décembre 2002</dc:subject>
  <dc:title>LOCAL PRODUCTION SYSTEMS (LP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868218</vt:r8>
  </property>
  <property fmtid="{D5CDD505-2E9C-101B-9397-08002B2CF9AE}" pid="3" name="_AuthorEmail">
    <vt:lpwstr>philippepommier@free.fr</vt:lpwstr>
  </property>
  <property fmtid="{D5CDD505-2E9C-101B-9397-08002B2CF9AE}" pid="4" name="_AuthorEmailDisplayName">
    <vt:lpwstr>Philippe POMMIER</vt:lpwstr>
  </property>
  <property fmtid="{D5CDD505-2E9C-101B-9397-08002B2CF9AE}" pid="5" name="_EmailSubject">
    <vt:lpwstr/>
  </property>
</Properties>
</file>