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5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1F7A-D92A-4BF1-9876-7B490516F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3B49-D002-49C4-83D2-EFD664BE9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7375-0C60-42E8-BCCC-231481BEA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C38E-D4E9-4A1D-B5BD-2051320209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9FA4-5927-4E32-AA7D-170C2B8AD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835F-E819-4451-9EF1-EB6AB03D1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089B-19F5-417A-9715-A0CAB8151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10C8-23EB-411F-A08C-8CCE9FD96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76360" y="456840"/>
            <a:ext cx="5181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F8CE-7647-46C3-A099-428B04FC2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46A6-3446-4CDC-9051-FEB0655CF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B2F4-D96A-47BA-BD90-417F2760D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AD43-3EA3-4055-809E-149D931EF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oter" descr=""/>
          <p:cNvPicPr/>
          <p:nvPr/>
        </p:nvPicPr>
        <p:blipFill>
          <a:blip r:embed="rId2"/>
          <a:stretch/>
        </p:blipFill>
        <p:spPr>
          <a:xfrm>
            <a:off x="0" y="6134040"/>
            <a:ext cx="9144000" cy="723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7636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FC6-865B-4C41-8D6C-141BFCCE8AEA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ahoma"/>
              </a:rPr>
              <a:t>Innovation and regional development: the transition towards a knowledge based economy - Firenze 25 and  26  Nov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80880" y="430200"/>
          <a:ext cx="214020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30200"/>
                    <a:ext cx="21402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ooriinna.net/" TargetMode="External"/><Relationship Id="rId2" Type="http://schemas.openxmlformats.org/officeDocument/2006/relationships/hyperlink" Target="http://www.cooriinna.net/" TargetMode="External"/><Relationship Id="rId3" Type="http://schemas.openxmlformats.org/officeDocument/2006/relationships/hyperlink" Target="http://www.cooriinna.net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.sorbi@regione.toscana.it" TargetMode="External"/><Relationship Id="rId3" Type="http://schemas.openxmlformats.org/officeDocument/2006/relationships/hyperlink" Target="mailto:s.sorbi@regione.toscana.it" TargetMode="External"/><Relationship Id="rId4" Type="http://schemas.openxmlformats.org/officeDocument/2006/relationships/hyperlink" Target="mailto:s.sorbi@regione.toscana.it" TargetMode="External"/><Relationship Id="rId5" Type="http://schemas.openxmlformats.org/officeDocument/2006/relationships/hyperlink" Target="mailto:s.sorbi@regione.toscana.it" TargetMode="External"/><Relationship Id="rId6" Type="http://schemas.openxmlformats.org/officeDocument/2006/relationships/hyperlink" Target="mailto:s.sorbi@regione.toscana.it" TargetMode="External"/><Relationship Id="rId7" Type="http://schemas.openxmlformats.org/officeDocument/2006/relationships/hyperlink" Target="mailto:s.sorbi@regione.toscana.it" TargetMode="External"/><Relationship Id="rId8" Type="http://schemas.openxmlformats.org/officeDocument/2006/relationships/hyperlink" Target="mailto:s.sorbi@regione.toscana.it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schera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85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Innovation and regional development: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transition towards a knowledge based econom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renze - 25 e 26 novembre 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319720"/>
            <a:ext cx="7467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Simone Sor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oordination of Italian Innovative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Tuscany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65F1-4E84-424A-8868-2961FE0AD9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905120"/>
            <a:ext cx="3200400" cy="914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50021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ordina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ahoma"/>
              </a:rPr>
              <a:t>Thematic Working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905120"/>
            <a:ext cx="1600200" cy="7617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ientific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724280"/>
            <a:ext cx="411480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2958840"/>
            <a:ext cx="1774080" cy="1079280"/>
            <a:chOff x="1523880" y="2958840"/>
            <a:chExt cx="1774080" cy="1079280"/>
          </a:xfrm>
        </p:grpSpPr>
        <p:sp>
          <p:nvSpPr>
            <p:cNvPr id="69" name=""/>
            <p:cNvSpPr/>
            <p:nvPr/>
          </p:nvSpPr>
          <p:spPr>
            <a:xfrm>
              <a:off x="1523880" y="3047760"/>
              <a:ext cx="228600" cy="99036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82880 h 990360"/>
                <a:gd name="textAreaBottom" fmla="*/ 66924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86" stAng="-5400000" swAng="-5400000"/>
                  <a:lnTo>
                    <a:pt x="0" y="10602"/>
                  </a:lnTo>
                  <a:arcTo wR="21600" hR="7986" stAng="10800000" swAng="-2776838"/>
                  <a:lnTo>
                    <a:pt x="14400" y="21143"/>
                  </a:lnTo>
                  <a:lnTo>
                    <a:pt x="21600" y="17280"/>
                  </a:lnTo>
                  <a:lnTo>
                    <a:pt x="14400" y="12503"/>
                  </a:lnTo>
                  <a:lnTo>
                    <a:pt x="14400" y="15515"/>
                  </a:lnTo>
                  <a:arcTo wR="21600" hR="7986" stAng="8023162" swAng="2566078"/>
                  <a:lnTo>
                    <a:pt x="292" y="9294"/>
                  </a:lnTo>
                  <a:arcTo wR="21600" hR="7986" stAng="-10589240" swAng="5189240"/>
                  <a:close/>
                </a:path>
                <a:path fill="darkenLess" w="21600" h="21600">
                  <a:moveTo>
                    <a:pt x="21600" y="0"/>
                  </a:moveTo>
                  <a:arcTo wR="21600" hR="7986" stAng="-5400000" swAng="-5400000"/>
                  <a:lnTo>
                    <a:pt x="0" y="7986"/>
                  </a:lnTo>
                  <a:arcTo wR="21600" hR="7986" stAng="10800000" swAng="-210760"/>
                  <a:lnTo>
                    <a:pt x="292" y="9294"/>
                  </a:lnTo>
                  <a:arcTo wR="21600" hR="7986" stAng="-10589240" swAng="518924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 rot="703800">
              <a:off x="2970360" y="2971440"/>
              <a:ext cx="228600" cy="99072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82880 h 990720"/>
                <a:gd name="textAreaBottom" fmla="*/ 6696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86" stAng="-5400000" swAng="-5400000"/>
                  <a:lnTo>
                    <a:pt x="0" y="10602"/>
                  </a:lnTo>
                  <a:arcTo wR="21600" hR="7986" stAng="10800000" swAng="-2776838"/>
                  <a:lnTo>
                    <a:pt x="14400" y="21143"/>
                  </a:lnTo>
                  <a:lnTo>
                    <a:pt x="21600" y="17280"/>
                  </a:lnTo>
                  <a:lnTo>
                    <a:pt x="14400" y="12503"/>
                  </a:lnTo>
                  <a:lnTo>
                    <a:pt x="14400" y="15515"/>
                  </a:lnTo>
                  <a:arcTo wR="21600" hR="7986" stAng="8023162" swAng="2566078"/>
                  <a:lnTo>
                    <a:pt x="292" y="9294"/>
                  </a:lnTo>
                  <a:arcTo wR="21600" hR="7986" stAng="-10589240" swAng="5189240"/>
                  <a:close/>
                </a:path>
                <a:path fill="darkenLess" w="21600" h="21600">
                  <a:moveTo>
                    <a:pt x="21600" y="0"/>
                  </a:moveTo>
                  <a:arcTo wR="21600" hR="7986" stAng="-5400000" swAng="-5400000"/>
                  <a:lnTo>
                    <a:pt x="0" y="7986"/>
                  </a:lnTo>
                  <a:arcTo wR="21600" hR="7986" stAng="10800000" swAng="-210760"/>
                  <a:lnTo>
                    <a:pt x="292" y="9294"/>
                  </a:lnTo>
                  <a:arcTo wR="21600" hR="7986" stAng="-10589240" swAng="518924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Organization Ch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378200">
            <a:off x="4779000" y="2078280"/>
            <a:ext cx="228600" cy="1557360"/>
          </a:xfrm>
          <a:custGeom>
            <a:avLst/>
            <a:gdLst>
              <a:gd name="textAreaLeft" fmla="*/ 30600 w 228600"/>
              <a:gd name="textAreaRight" fmla="*/ 198000 w 228600"/>
              <a:gd name="textAreaTop" fmla="*/ 287640 h 1557360"/>
              <a:gd name="textAreaBottom" fmla="*/ 105228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6" stAng="-5400000" swAng="-5400000"/>
                <a:lnTo>
                  <a:pt x="0" y="10602"/>
                </a:lnTo>
                <a:arcTo wR="21600" hR="7986" stAng="10800000" swAng="-2776838"/>
                <a:lnTo>
                  <a:pt x="14400" y="21143"/>
                </a:lnTo>
                <a:lnTo>
                  <a:pt x="21600" y="17280"/>
                </a:lnTo>
                <a:lnTo>
                  <a:pt x="14400" y="12503"/>
                </a:lnTo>
                <a:lnTo>
                  <a:pt x="14400" y="15515"/>
                </a:lnTo>
                <a:arcTo wR="21600" hR="7986" stAng="8023162" swAng="2566078"/>
                <a:lnTo>
                  <a:pt x="292" y="9294"/>
                </a:lnTo>
                <a:arcTo wR="21600" hR="7986" stAng="-10589240" swAng="5189240"/>
                <a:close/>
              </a:path>
              <a:path fill="darkenLess" w="21600" h="21600">
                <a:moveTo>
                  <a:pt x="21600" y="0"/>
                </a:moveTo>
                <a:arcTo wR="21600" hR="7986" stAng="-5400000" swAng="-5400000"/>
                <a:lnTo>
                  <a:pt x="0" y="7986"/>
                </a:lnTo>
                <a:arcTo wR="21600" hR="7986" stAng="10800000" swAng="-210760"/>
                <a:lnTo>
                  <a:pt x="292" y="9294"/>
                </a:lnTo>
                <a:arcTo wR="21600" hR="7986" stAng="-10589240" swAng="518924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 rot="16456200">
            <a:off x="4703400" y="1391400"/>
            <a:ext cx="228600" cy="1559160"/>
          </a:xfrm>
          <a:custGeom>
            <a:avLst/>
            <a:gdLst>
              <a:gd name="textAreaLeft" fmla="*/ 30600 w 228600"/>
              <a:gd name="textAreaRight" fmla="*/ 198000 w 228600"/>
              <a:gd name="textAreaTop" fmla="*/ 288000 h 1559160"/>
              <a:gd name="textAreaBottom" fmla="*/ 1053720 h 155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6" stAng="-5400000" swAng="-5400000"/>
                <a:lnTo>
                  <a:pt x="0" y="10602"/>
                </a:lnTo>
                <a:arcTo wR="21600" hR="7986" stAng="10800000" swAng="-2776838"/>
                <a:lnTo>
                  <a:pt x="14400" y="21143"/>
                </a:lnTo>
                <a:lnTo>
                  <a:pt x="21600" y="17280"/>
                </a:lnTo>
                <a:lnTo>
                  <a:pt x="14400" y="12503"/>
                </a:lnTo>
                <a:lnTo>
                  <a:pt x="14400" y="15515"/>
                </a:lnTo>
                <a:arcTo wR="21600" hR="7986" stAng="8023162" swAng="2566078"/>
                <a:lnTo>
                  <a:pt x="292" y="9294"/>
                </a:lnTo>
                <a:arcTo wR="21600" hR="7986" stAng="-10589240" swAng="5189240"/>
                <a:close/>
              </a:path>
              <a:path fill="darkenLess" w="21600" h="21600">
                <a:moveTo>
                  <a:pt x="21600" y="0"/>
                </a:moveTo>
                <a:arcTo wR="21600" hR="7986" stAng="-5400000" swAng="-5400000"/>
                <a:lnTo>
                  <a:pt x="0" y="7986"/>
                </a:lnTo>
                <a:arcTo wR="21600" hR="7986" stAng="10800000" swAng="-210760"/>
                <a:lnTo>
                  <a:pt x="292" y="9294"/>
                </a:lnTo>
                <a:arcTo wR="21600" hR="7986" stAng="-10589240" swAng="518924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155200">
            <a:off x="6427440" y="3179520"/>
            <a:ext cx="304920" cy="1523880"/>
          </a:xfrm>
          <a:custGeom>
            <a:avLst/>
            <a:gdLst>
              <a:gd name="textAreaLeft" fmla="*/ 40680 w 304920"/>
              <a:gd name="textAreaRight" fmla="*/ 264240 w 304920"/>
              <a:gd name="textAreaTop" fmla="*/ 292680 h 1523880"/>
              <a:gd name="textAreaBottom" fmla="*/ 974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99" stAng="-5400000" swAng="5400000"/>
                <a:lnTo>
                  <a:pt x="21600" y="9665"/>
                </a:lnTo>
                <a:arcTo wR="21600" hR="8299" stAng="0" swAng="2842678"/>
                <a:lnTo>
                  <a:pt x="7200" y="21125"/>
                </a:lnTo>
                <a:lnTo>
                  <a:pt x="0" y="17280"/>
                </a:lnTo>
                <a:lnTo>
                  <a:pt x="7200" y="12485"/>
                </a:lnTo>
                <a:lnTo>
                  <a:pt x="7200" y="16122"/>
                </a:lnTo>
                <a:arcTo wR="21600" hR="8299" stAng="2842678" swAng="-2733642"/>
                <a:lnTo>
                  <a:pt x="21527" y="8982"/>
                </a:lnTo>
                <a:arcTo wR="21600" hR="8299" stAng="-109036" swAng="-5290964"/>
                <a:close/>
              </a:path>
              <a:path fill="darkenLess" w="21600" h="21600">
                <a:moveTo>
                  <a:pt x="0" y="0"/>
                </a:moveTo>
                <a:arcTo wR="21600" hR="8299" stAng="-5400000" swAng="5400000"/>
                <a:lnTo>
                  <a:pt x="21600" y="9665"/>
                </a:lnTo>
                <a:arcTo wR="21600" hR="8299" stAng="0" swAng="-109036"/>
                <a:lnTo>
                  <a:pt x="21527" y="8982"/>
                </a:lnTo>
                <a:arcTo wR="21600" hR="8299" stAng="-109036" swAng="-5290964"/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3846800">
            <a:off x="5542200" y="2316600"/>
            <a:ext cx="347760" cy="1936800"/>
          </a:xfrm>
          <a:custGeom>
            <a:avLst/>
            <a:gdLst>
              <a:gd name="textAreaLeft" fmla="*/ 46440 w 347760"/>
              <a:gd name="textAreaRight" fmla="*/ 301320 w 347760"/>
              <a:gd name="textAreaTop" fmla="*/ 370800 h 1936800"/>
              <a:gd name="textAreaBottom" fmla="*/ 1248480 h 19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0" stAng="-5400000" swAng="5400000"/>
                <a:lnTo>
                  <a:pt x="21600" y="9788"/>
                </a:lnTo>
                <a:arcTo wR="21600" hR="8270" stAng="0" swAng="1143757"/>
                <a:lnTo>
                  <a:pt x="16035" y="18871"/>
                </a:lnTo>
                <a:lnTo>
                  <a:pt x="0" y="17299"/>
                </a:lnTo>
                <a:lnTo>
                  <a:pt x="16035" y="10269"/>
                </a:lnTo>
                <a:lnTo>
                  <a:pt x="16035" y="13811"/>
                </a:lnTo>
                <a:arcTo wR="21600" hR="8270" stAng="1143757" swAng="-1022496"/>
                <a:lnTo>
                  <a:pt x="21509" y="9029"/>
                </a:lnTo>
                <a:arcTo wR="21600" hR="8270" stAng="-121260" swAng="-5278740"/>
                <a:close/>
              </a:path>
              <a:path fill="darkenLess" w="21600" h="21600">
                <a:moveTo>
                  <a:pt x="0" y="0"/>
                </a:moveTo>
                <a:arcTo wR="21600" hR="8270" stAng="-5400000" swAng="5400000"/>
                <a:lnTo>
                  <a:pt x="21600" y="9788"/>
                </a:lnTo>
                <a:arcTo wR="21600" hR="8270" stAng="0" swAng="-121260"/>
                <a:lnTo>
                  <a:pt x="21509" y="9029"/>
                </a:lnTo>
                <a:arcTo wR="21600" hR="8270" stAng="-121260" swAng="-5278740"/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0E81-1874-4699-B25F-B17CD2483A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Thematic Workin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WG already crea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arch, innovation and  transfer governance in the context of the Devolu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CT and local gover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arch Innovation and technological transfer in the biotechnologies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ew TWG  propos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novative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st Practice Database E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1C53-B739-4DA9-9352-AAE27BE5F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Action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133720"/>
            <a:ext cx="84582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1 :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2 : Worksh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3: study visits and exchange of experi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4: Development of a web site and a best practices data-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5: Reports and studies elaboration  and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382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Line 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Newsle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8D0C-7F4D-459C-9DB7-DD689E63A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Activities re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828800"/>
            <a:ext cx="5029200" cy="27723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on line 1-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 conference of CoorIIn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in NET for the regional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este - 1st of Jun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76B9-FFFE-4816-BD5B-BE9F2028A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Activities re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776240"/>
            <a:ext cx="7772400" cy="36428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on line 3: Study Vi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c4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54c47"/>
                </a:solidFill>
                <a:latin typeface="Times New Roman"/>
              </a:rPr>
              <a:t>Visi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54c47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54c47"/>
                </a:solidFill>
                <a:latin typeface="Times New Roman"/>
              </a:rPr>
              <a:t>INTERNATIONAL CENTRE FOR GENETIC ENGINEERING AND BIOTECHNOLOG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Occasion of the Launch conference of CoorIInnA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in NET for the regional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este – Area Science Park – Padriciano - 1st of Jun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5993-8A9E-496A-9B4B-4090AB1C66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Activities re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295280"/>
            <a:ext cx="5029200" cy="441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Porta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cooriinn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447920" y="1905120"/>
            <a:ext cx="6324480" cy="40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674E-DC89-47DB-A34C-31C9E0E87A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Forthcoming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133720"/>
            <a:ext cx="5029200" cy="2314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ordination Table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scara, Februar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e,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e, Jul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rence, Sept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DBD2-452A-45C3-BF63-AAFEF67E11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47640" y="-4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Interne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asche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4960" y="487692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5320" y="228600"/>
            <a:ext cx="5821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one Sor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tor for Regional Policies on Innovation and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GIONE TOSC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s.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sorbi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regione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toscana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ordination of Italian Innovativ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fo@cooriinna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l.+39 055 43824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x.+39 055 438242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EFE8-E739-458E-B3D2-6C0C18F93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6708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ALIAN R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784836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are the RPIA approved by the Europea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each region and self governing province of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le D’Aos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emon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mbar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 Autonoma di Tre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 Autonoma di Bolz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uz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uli Venezia Giul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e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p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uri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lic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ilia Romag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ab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ca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c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rde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27AF-31E7-40BE-8C7F-E7B49253A7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08148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1800" y="4572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ategic themes chosen by Italian R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E0EB-B6FC-45AD-B7BC-7DA779F7D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71600" y="2057400"/>
          <a:ext cx="608184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08184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048120" y="76212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Italian Regions have formulated their R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C1A8-9F71-432A-97FE-E55DA12D3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6708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egories of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B9A5-2997-4857-A710-4250C6CB7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67080" y="50796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egories of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66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CEB2-25D6-4F3E-9031-829ED20D15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416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67080" y="53352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egories of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925A-E843-492C-A891-9DD09F8BD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15424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orIInnA is officially created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of December 2003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with the signing of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rotocol agreemen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between the region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ch partner region co-finance CoorIInnA with a quota (10.000,00 €) taken from its RPIA accompanying measur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uscany region coordinate the 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Coordination of Italian Innovative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CB79-3B81-40EF-AE82-02E218E6C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752480"/>
            <a:ext cx="8001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tribution towards the formulation of a </a:t>
            </a: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common position of Italian region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on the innovative actions instrument in the perspective of the future cohesion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More efficient co-ordinatio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for regional and national policies in the field of Innovation, research and technological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Identification, increase in value, enhancement, diffusion and exchange of different methodologie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for Innovation, research and technological transfer promotion and development in order to elaborate more efficient regional and interregional 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Extend and implement the inter-regional co-operatio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between Innovation a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Stimulate the match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of Innovation demand and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Enhance and promot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common planning capac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60093"/>
                </a:solidFill>
                <a:latin typeface="Tahoma"/>
              </a:rPr>
              <a:t>Stimulate and promote inter-action tool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with the existing networks at national and European lev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4572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IInnA: Network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23C9-F565-4F2E-96EA-A2718FD4DA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0:53:06Z</dcterms:created>
  <dc:creator>Simone Sorbi</dc:creator>
  <dc:description/>
  <dc:language>en-US</dc:language>
  <cp:lastModifiedBy>enrico lauricella</cp:lastModifiedBy>
  <dcterms:modified xsi:type="dcterms:W3CDTF">2004-12-06T03:12:50Z</dcterms:modified>
  <cp:revision>31</cp:revision>
  <dc:subject/>
  <dc:title>III National Meeting of Innovative Regions -  Badajoz, 27 –28 October 2004</dc:title>
</cp:coreProperties>
</file>