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90BAD-AC64-43AE-9367-A5B4AB1E9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FC2B-FEE3-4D7C-AF43-2C00CBB00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45302-44AD-4BAB-BA65-046FFCED2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02EF8-2C55-48F0-8037-B4597A043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EC9FA-544B-4966-9C35-257D1352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9F104-C2FD-465B-93C2-76CEC69BF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4531-3B67-49AF-A0B5-824ED9C3C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1B67-9A29-48A4-9D1F-1C22BAAE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5E782-3840-422D-A975-2B48E1434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4139-6758-4952-BD68-51436225C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9F84-EE90-483A-A8C4-8D18CA0A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C19E1-FFA7-4865-ADDC-13EC5ADA4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A390-36FE-4A14-9F9D-1691D38E40E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71400" y="1011240"/>
            <a:ext cx="7772400" cy="24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ience/Industry Partnerships and </a:t>
            </a:r>
            <a:br>
              <a:rPr sz="4400"/>
            </a:br>
            <a:r>
              <a:rPr b="0" lang="en-GB" sz="4400" spc="-1" strike="noStrike">
                <a:solidFill>
                  <a:srgbClr val="000000"/>
                </a:solidFill>
                <a:latin typeface="Arial"/>
              </a:rPr>
              <a:t>Regional Develop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2495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Goddar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fessor of Regional Development Studie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puty Vice Chancello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iversity of Newcastle upon Ty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for Science Park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solution to:</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der commercialisation of publicly funded research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age of new product developm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ustrial development in lagging regions with a poor record in business innov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ocation of researchers and businesses to facilitate networking between th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07FCB9C4-5B2C-42A1-91F8-47A19D6CD5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ience Park Realiti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 firms access science base globally and regard science park intermediaries as barriers between them and researc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ful for graduate recruitment and transfer of technology on le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evidence of positive effects on SME performance – key determinants is characteristic of the entreprene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 outs provide limited financial contribution to university finances in the short to medium ter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A4B98EF1-871A-425A-9B22-2F8DB87683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cience Parks:  The Way Forward</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lacing linear model of innovation by an interactive model involving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bedding knowledge exploitation through research and teaching into the customs and practices at the heartland of the univers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ving the science park “on campus” and avoiding it becoming a means of keeping the messy world of knowledge exploitation “at b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ing emphasis on universities in the round as key agents in economic develop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07124678-4ACD-4391-AE82-CF871EA46C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279360" y="404640"/>
          <a:ext cx="9574200" cy="7272360"/>
        </p:xfrm>
        <a:graphic>
          <a:graphicData uri="http://schemas.openxmlformats.org/presentationml/2006/ole">
            <p:oleObj r:id="rId1" spid="">
              <p:embed/>
              <p:pic>
                <p:nvPicPr>
                  <p:cNvPr id="75" name="" descr=""/>
                  <p:cNvPicPr/>
                  <p:nvPr/>
                </p:nvPicPr>
                <p:blipFill>
                  <a:blip r:embed="rId2"/>
                  <a:stretch/>
                </p:blipFill>
                <p:spPr>
                  <a:xfrm>
                    <a:off x="279360" y="404640"/>
                    <a:ext cx="9574200" cy="7272360"/>
                  </a:xfrm>
                  <a:prstGeom prst="rect">
                    <a:avLst/>
                  </a:prstGeom>
                  <a:ln w="0">
                    <a:noFill/>
                  </a:ln>
                </p:spPr>
              </p:pic>
            </p:oleObj>
          </a:graphicData>
        </a:graphic>
      </p:graphicFrame>
      <p:sp>
        <p:nvSpPr>
          <p:cNvPr id="76" name=""/>
          <p:cNvSpPr/>
          <p:nvPr/>
        </p:nvSpPr>
        <p:spPr>
          <a:xfrm>
            <a:off x="4556160" y="49370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7" name=""/>
          <p:cNvSpPr/>
          <p:nvPr/>
        </p:nvSpPr>
        <p:spPr>
          <a:xfrm>
            <a:off x="1127160" y="4784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091160" y="171360"/>
            <a:ext cx="68680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University/region value added</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Florence Nov. 04</a:t>
            </a:r>
          </a:p>
        </p:txBody>
      </p:sp>
      <p:sp>
        <p:nvSpPr>
          <p:cNvPr id="3" name="PlaceHolder 2"/>
          <p:cNvSpPr>
            <a:spLocks noGrp="1"/>
          </p:cNvSpPr>
          <p:nvPr>
            <p:ph type="sldNum" idx="3"/>
          </p:nvPr>
        </p:nvSpPr>
        <p:spPr/>
        <p:txBody>
          <a:bodyPr/>
          <a:p>
            <a:fld id="{E1D45CE6-BBDB-41E7-BB11-ACF264AE26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of Teaching, Research and Third Strand Activities in a Regional Context</a:t>
            </a:r>
            <a:endParaRPr b="0" lang="en-US" sz="3200" spc="-1" strike="noStrike">
              <a:solidFill>
                <a:srgbClr val="000000"/>
              </a:solidFill>
              <a:latin typeface="Arial"/>
            </a:endParaRPr>
          </a:p>
        </p:txBody>
      </p:sp>
      <p:sp>
        <p:nvSpPr>
          <p:cNvPr id="80" name="PlaceHolder 2"/>
          <p:cNvSpPr>
            <a:spLocks noGrp="1"/>
          </p:cNvSpPr>
          <p:nvPr>
            <p:ph/>
          </p:nvPr>
        </p:nvSpPr>
        <p:spPr>
          <a:xfrm>
            <a:off x="4428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ledge creation  through research and its exploitation via technology transfer (spin out, IPR, consultan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ledge transfer via teaching (workplace learning, graduate recruitment, professional development / continuing edu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ents establishing the social relations on which knowledge exchange is bui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activity and campus development contributing to vibrant places that attract and retain creative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niversity’s role in local civil society, joining up separate strands of national policy (learning and skills, research and innovation, culture and social inclu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513231DB-3021-4880-897E-460E61213B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naging a Contested Terrain within Academia</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agerialism as a threat to academic self governanc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rsuit of knowledge for its own sake vs. an instrumental and innovation endangering subordination to external expect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cern that quality is sacrificed in the name of relevanc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rving external expectations vs. critically challenging existing views of societ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fferences between disciplines in their relations to societ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notation within the academic community of insularity and parochialism associated with regionalism (cf. metropolitan / cosmopolita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ole of academic leadership breaking down barriers in the understanding of the relationship between knowledge creation and its applic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77ED3931-3C40-4448-943A-ACA0EC572F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naging the Challenge of Engagement with Territory</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Is operate within multiple territories – local, regional, national, internat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osed territories of local stakeholders (municipalities, region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 threat to institutional autonomy from the need to prescribe division of task between institutions within and between cities / reg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tension between national higher education, science and technology, regional policy and the development needs of a region (location </a:t>
            </a:r>
            <a:r>
              <a:rPr b="0" i="1" lang="en-GB" sz="2800" spc="-1" strike="noStrike">
                <a:solidFill>
                  <a:srgbClr val="000000"/>
                </a:solidFill>
                <a:latin typeface="Arial"/>
              </a:rPr>
              <a:t>in </a:t>
            </a:r>
            <a:r>
              <a:rPr b="0" lang="en-GB" sz="2800" spc="-1" strike="noStrike">
                <a:solidFill>
                  <a:srgbClr val="000000"/>
                </a:solidFill>
                <a:latin typeface="Arial"/>
              </a:rPr>
              <a:t>a region vs. the development </a:t>
            </a:r>
            <a:r>
              <a:rPr b="0" i="1" lang="en-GB" sz="2800" spc="-1" strike="noStrike">
                <a:solidFill>
                  <a:srgbClr val="000000"/>
                </a:solidFill>
                <a:latin typeface="Arial"/>
              </a:rPr>
              <a:t>of </a:t>
            </a:r>
            <a:r>
              <a:rPr b="0" lang="en-GB" sz="2800" spc="-1" strike="noStrike">
                <a:solidFill>
                  <a:srgbClr val="000000"/>
                </a:solidFill>
                <a:latin typeface="Arial"/>
              </a:rPr>
              <a:t>a reg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5E65A53C-0551-4B58-8B8E-936778EB0B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Profile of the Traditional University</a:t>
            </a:r>
            <a:endParaRPr b="0" lang="en-US" sz="4000" spc="-1" strike="noStrike">
              <a:solidFill>
                <a:srgbClr val="000000"/>
              </a:solidFill>
              <a:latin typeface="Arial"/>
            </a:endParaRPr>
          </a:p>
        </p:txBody>
      </p:sp>
      <p:sp>
        <p:nvSpPr>
          <p:cNvPr id="86" name="PlaceHolder 2"/>
          <p:cNvSpPr>
            <a:spLocks noGrp="1"/>
          </p:cNvSpPr>
          <p:nvPr>
            <p:ph/>
          </p:nvPr>
        </p:nvSpPr>
        <p:spPr>
          <a:xfrm>
            <a:off x="685800" y="1488600"/>
            <a:ext cx="7772400" cy="4419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mental growth with some strong parts and some moderate elements but gaps in key area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vernance structures supporting dispersal of responsibility, initiative and heterogeneity of substance in teaching and research</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iplinary and producer lead approaches to research and teachin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wing separations of teaching and research</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ademic heartland protected by specialist units (e.g. technology transfer, continuing education)</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External engagement requires institutional response, co-ordination and transversal mechanism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F2C3830F-3A4D-4012-AF2F-345059B3E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Institutional Response</a:t>
            </a:r>
            <a:endParaRPr b="0" lang="en-US" sz="4000" spc="-1" strike="noStrike">
              <a:solidFill>
                <a:srgbClr val="000000"/>
              </a:solidFill>
              <a:latin typeface="Arial"/>
            </a:endParaRPr>
          </a:p>
        </p:txBody>
      </p:sp>
      <p:sp>
        <p:nvSpPr>
          <p:cNvPr id="88" name="PlaceHolder 2"/>
          <p:cNvSpPr>
            <a:spLocks noGrp="1"/>
          </p:cNvSpPr>
          <p:nvPr>
            <p:ph/>
          </p:nvPr>
        </p:nvSpPr>
        <p:spPr>
          <a:xfrm>
            <a:off x="685800" y="1676520"/>
            <a:ext cx="7848720" cy="44956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itiation of processes of institutional adjustment to enable the university to both respond to and shape the development of the wider socie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djustment not a  downgrading of aspirations to solely reacting to local needs but the creation of mechanisms linking the locality to global body of scientific and cultural knowledg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ocal and regional engagement a crucible within which more dynamic and open institutions are forged</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B2657AD5-56B0-4F53-8B43-E0501C14FC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Science and Technology Policy Council:  Knowledge, Innovation and Internationalisation:  The Policy Debate</a:t>
            </a:r>
            <a:endParaRPr b="0" lang="en-US" sz="3400" spc="-1" strike="noStrike">
              <a:solidFill>
                <a:srgbClr val="000000"/>
              </a:solidFill>
              <a:latin typeface="Arial"/>
            </a:endParaRPr>
          </a:p>
        </p:txBody>
      </p:sp>
      <p:sp>
        <p:nvSpPr>
          <p:cNvPr id="90" name="PlaceHolder 2"/>
          <p:cNvSpPr>
            <a:spLocks noGrp="1"/>
          </p:cNvSpPr>
          <p:nvPr>
            <p:ph/>
          </p:nvPr>
        </p:nvSpPr>
        <p:spPr>
          <a:xfrm>
            <a:off x="457200" y="17906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success of Finland in combining extensive production and utilisation of knowledge with other areas, such as promotion of welfare and sustainable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Education, science and technology and innovation policy must be able to guide and support regional development to ensure measures taken at the national and regional level support each 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hallenge to raise knowledge and know how and their utilisation to a level which withstands international competition </a:t>
            </a:r>
            <a:r>
              <a:rPr b="0" lang="en-GB" sz="2800" spc="-1" strike="noStrike" u="sng">
                <a:solidFill>
                  <a:srgbClr val="000000"/>
                </a:solidFill>
                <a:uFillTx/>
                <a:latin typeface="Arial"/>
              </a:rPr>
              <a:t>in all reg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A8A2DFAF-C203-490B-B810-85A6C2F2A0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ckground (1)</a:t>
            </a:r>
            <a:br>
              <a:rPr sz="4000"/>
            </a:br>
            <a:r>
              <a:rPr b="0" lang="en-GB" sz="3200" spc="-1" strike="noStrike">
                <a:solidFill>
                  <a:srgbClr val="000000"/>
                </a:solidFill>
                <a:latin typeface="Arial"/>
              </a:rPr>
              <a:t>Top Down Perspective</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ing investment in the science base partly driven by desire to raise business competitiveness via inno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iversities expected to contribute to knowledge creation </a:t>
            </a:r>
            <a:r>
              <a:rPr b="0" lang="en-GB" sz="2800" spc="-1" strike="noStrike" u="sng">
                <a:solidFill>
                  <a:srgbClr val="000000"/>
                </a:solidFill>
                <a:uFillTx/>
                <a:latin typeface="Arial"/>
              </a:rPr>
              <a:t>and</a:t>
            </a:r>
            <a:r>
              <a:rPr b="0" lang="en-GB" sz="2800" spc="-1" strike="noStrike">
                <a:solidFill>
                  <a:srgbClr val="000000"/>
                </a:solidFill>
                <a:latin typeface="Arial"/>
              </a:rPr>
              <a:t> its exploi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ional initiatives from Ministries of Science and Technology and Ministries of Education to maintain world-class research capacity to sustain global posi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879DC8EF-4F9C-4C28-8F20-3DDB562B6C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olicy Debate (cont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issue in terms of national higher education policy is to merge this and regional development policy together in a rational and expedien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aim is to achieve internationally higher quality, and structural development is required to meet this go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danger in a decentralised HE system is that it is dispersed into increasingly small and numerous units.  HE units must be sufficiently large and versatile to achieve their aims.  The universities must carry on defining their profiles, and smaller polytechnics must be combined into larger multi-field ent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DC6DBF9A-37BB-4DD4-9BC2-11B91C56F8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Policy Debate (contd)</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One major questions is how the university as an institution will be able to manage the pressures and growing expectations directed at it with regard to social, cultural and economic development – whether the university has the internal capacity for renew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need to address these questions is tangible because the changes taking place in university missions and funding structures is systemic, shaking up the institution to its cor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4A03BE3E-2927-4E76-BFCF-0BAF5B140C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urku Universit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2000" spc="-1" strike="noStrike">
                <a:solidFill>
                  <a:srgbClr val="000000"/>
                </a:solidFill>
                <a:latin typeface="Arial"/>
              </a:rPr>
              <a:t>We are experiencing every day these growing demands.  It will be fine if we could receive more funds accordingly and discontinue not so important activity.  This is not easy because of the historical burden (of preserving discip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The new university law favours entrepreneurial aspects even too much from a comprehensive university’s point of view …  The university has other duties than the third task alon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Internationalisation and high quality research and teaching is crucial for our external impac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Long term core funding must form the basis for creating dynamic operational environments … (and)…. to channel those funds innovatively and not automatically based on “historical reality”.  This requires greater autonomy for the univers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F56F3B2E-6D23-4851-BE9D-AA7AD57CC7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urku University Peer Review Team Recommendations on Research</a:t>
            </a:r>
            <a:endParaRPr b="0" lang="en-US" sz="3200" spc="-1" strike="noStrike">
              <a:solidFill>
                <a:srgbClr val="000000"/>
              </a:solidFill>
              <a:latin typeface="Arial"/>
            </a:endParaRPr>
          </a:p>
        </p:txBody>
      </p:sp>
      <p:sp>
        <p:nvSpPr>
          <p:cNvPr id="98" name="PlaceHolder 2"/>
          <p:cNvSpPr>
            <a:spLocks noGrp="1"/>
          </p:cNvSpPr>
          <p:nvPr>
            <p:ph/>
          </p:nvPr>
        </p:nvSpPr>
        <p:spPr>
          <a:xfrm>
            <a:off x="685800" y="1447920"/>
            <a:ext cx="7848720" cy="4573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recommend that the University should establish a Research Council to have oversight of its research strategy and policies relevant to the management of financial, human and physical resources to support researc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uncil should not be a top down planning body but ensure that the conditions are right to foster </a:t>
            </a:r>
            <a:r>
              <a:rPr b="0" i="1" lang="en-GB" sz="2400" spc="-1" strike="noStrike">
                <a:solidFill>
                  <a:srgbClr val="000000"/>
                </a:solidFill>
                <a:latin typeface="Arial"/>
              </a:rPr>
              <a:t>entrepreneurial </a:t>
            </a:r>
            <a:r>
              <a:rPr b="0" lang="en-GB" sz="2400" spc="-1" strike="noStrike">
                <a:solidFill>
                  <a:srgbClr val="000000"/>
                </a:solidFill>
                <a:latin typeface="Arial"/>
              </a:rPr>
              <a:t>research based activities in all of the faculties and supported by  all parts of the central administration </a:t>
            </a:r>
            <a:endParaRPr b="0" lang="en-US" sz="2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ed to </a:t>
            </a:r>
            <a:r>
              <a:rPr b="0" lang="en-GB" sz="2400" spc="-1" strike="noStrike" u="sng">
                <a:solidFill>
                  <a:srgbClr val="000000"/>
                </a:solidFill>
                <a:uFillTx/>
                <a:latin typeface="Arial"/>
              </a:rPr>
              <a:t>generate</a:t>
            </a:r>
            <a:r>
              <a:rPr b="0" lang="en-GB" sz="2400" spc="-1" strike="noStrike">
                <a:solidFill>
                  <a:srgbClr val="000000"/>
                </a:solidFill>
                <a:latin typeface="Arial"/>
              </a:rPr>
              <a:t> “headroom” funds to invest in strategic initiatives to fill the pipeline that will generate new economic activity (including retention of key researchers</a:t>
            </a:r>
            <a:r>
              <a:rPr b="0" lang="en-GB" sz="2200" spc="-1" strike="noStrike">
                <a:solidFill>
                  <a:srgbClr val="000000"/>
                </a:solidFill>
                <a:latin typeface="Arial"/>
              </a:rPr>
              <a: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3C7E225D-7ABC-4511-9971-035DB27D1B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land and U.K.</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quality scientific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erns about returns to the economy for investment in university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ly centralised geograph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eater degree of HEI autonomy and explicit third stream funding in the 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ambiguity about role of universities in balanced regional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8AA0C114-1E2E-4770-B6F9-83D1963420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view of Business – University Collaboration (Lambert)</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ird stream funding should be substantial, permanent and allocated in a way that enables universities to make long term plans for these activitie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ird stream funding support for regional shared services in technology transf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ncrease in the level of proof of concept fund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give Regional Development Agencies targets that promote business – university collaboration”</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reate significant new stream of business relevant research fund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2D8C901E-572B-42FD-A720-D87CA3AD49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Concentratio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earch Excellence funding and Research Council funding concentrated in London and South E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rd stream funding does not recognise universities in peripheral regions  facing greater challenges in knowledge as exploi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gional policy for higher edu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Higher Education Funding Council not a planning bod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91F69E73-D2A2-4B9F-8087-B014C5913B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th East Centres of Excellence in Knowledge Exploitatio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blicly funded companies outside of universities with university representation on the Boar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gital technology and medi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and renewable energ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 industr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notechnology, photonics and micro syste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fe scienc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30EC45E5-1385-451A-8B0B-5B99F23851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ECD Review of UK Science and Technology Base (2002)</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 relatively large infrastructure of intermediate organisations has developed in response to successive initiatives … the issue at stake is whether excessive emphasis on specialist transfer agencies could monopolise knowledge flows and act as a barrier to the creation of a positive knowledge culture diffused throughout the industry – science nexus.  In other words, is there a risk of consigning industry science relations to peripheral unit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ECD UK Science and Technology Review 2002</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4BC20394-67E3-40C9-AD1D-53A1763D6B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ewcastle Model</a:t>
            </a:r>
            <a:br>
              <a:rPr sz="3200"/>
            </a:br>
            <a:r>
              <a:rPr b="0" lang="en-GB" sz="3200" spc="-1" strike="noStrike">
                <a:solidFill>
                  <a:srgbClr val="000000"/>
                </a:solidFill>
                <a:latin typeface="Arial"/>
              </a:rPr>
              <a:t>(after the Copenhagen Business School)</a:t>
            </a: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ision is not to transfer certain research results with particular commercial potential from the university to the regional economy, rather it is to make the university itself an active player in the regional economy.  A fundamental difference between this and the traditional model is that the latter is tailored to help commercialise research, whereas the Newcastle model seeks to build an institution that is capable of producing commercialisable research.  The traditional model is tailored to help new entrepreneurs commercialise research-based technologies, while the Newcastle model seeks to make entrepreneurs of students and commercialisable technologies of researc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9CCCED5C-F386-4910-8BAA-286E91E0FE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ckground (2)</a:t>
            </a:r>
            <a:br>
              <a:rPr sz="4000"/>
            </a:br>
            <a:r>
              <a:rPr b="0" lang="en-GB" sz="3600" spc="-1" strike="noStrike">
                <a:solidFill>
                  <a:srgbClr val="000000"/>
                </a:solidFill>
                <a:latin typeface="Arial"/>
              </a:rPr>
              <a:t>The Bottom Up Perspective</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development agents looking to local universities to contribute to regional performance through knowledge exploi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iversities alongside airports as new “magic bullets” in regional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mbols of perceived significance of global / local nex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F39099CA-50D8-4007-A39F-3619831A29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Institutional Challenge:  Summary</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rnal engagement requires strong institutional manag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must be an active process and is never a completed tas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luation plays a key role in raising institutional self awareness, learning and development and partnership with external stakehold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le external engagement is a matter for all universities the regional context varies:  it is not a level playing fiel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81618E8C-6046-41FC-A4FF-53EF99762F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ding Question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establish a learning system between universities and between regions of OECD countries around the common agenda of regional engagemen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achieve recognition by the separate branches of government (industry, education, labour, culture, territorial development etc) that universities can act as key integrating institutions in their cities and region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enhance the management capacity of universities to deliver on the expectations of regional external stakeholders whilst respecting institutional autonomy and academic self governanc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B7BB32B3-E96B-4EB4-BF95-9C6500635D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ew OECD Project: </a:t>
            </a:r>
            <a:br>
              <a:rPr sz="3600"/>
            </a:br>
            <a:r>
              <a:rPr b="0" lang="en-GB" sz="3600" spc="-1" strike="noStrike">
                <a:solidFill>
                  <a:srgbClr val="000000"/>
                </a:solidFill>
                <a:latin typeface="Arial"/>
              </a:rPr>
              <a:t>Supporting the Contribution of HEIs to Regional Development</a:t>
            </a:r>
            <a:endParaRPr b="0" lang="en-US" sz="3600" spc="-1" strike="noStrike">
              <a:solidFill>
                <a:srgbClr val="000000"/>
              </a:solidFill>
              <a:latin typeface="Arial"/>
            </a:endParaRPr>
          </a:p>
        </p:txBody>
      </p:sp>
      <p:sp>
        <p:nvSpPr>
          <p:cNvPr id="116" name="PlaceHolder 2"/>
          <p:cNvSpPr>
            <a:spLocks noGrp="1"/>
          </p:cNvSpPr>
          <p:nvPr>
            <p:ph/>
          </p:nvPr>
        </p:nvSpPr>
        <p:spPr>
          <a:xfrm>
            <a:off x="441360" y="20289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joint action by IMHE and territorial development divi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f evaluation against common templates focusing on selected regions with universities and regional stakeholders working toge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f evaluation and site visit by international peer review tea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s to support universities and stakeholders in developing a higher education system that best meets the needs of regional students, businesses and civil socie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F1E55649-5A13-408C-8051-23B0A859D71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Policy Challenges / Shortcomings (1)</a:t>
            </a:r>
            <a:endParaRPr b="0" lang="en-US" sz="3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bottom up and top down approaches come together to support </a:t>
            </a:r>
            <a:r>
              <a:rPr b="0" lang="en-GB" sz="2800" spc="-1" strike="noStrike" u="sng">
                <a:solidFill>
                  <a:srgbClr val="000000"/>
                </a:solidFill>
                <a:uFillTx/>
                <a:latin typeface="Arial"/>
              </a:rPr>
              <a:t>regional</a:t>
            </a:r>
            <a:r>
              <a:rPr b="0" lang="en-GB" sz="2800" spc="-1" strike="noStrike">
                <a:solidFill>
                  <a:srgbClr val="000000"/>
                </a:solidFill>
                <a:latin typeface="Arial"/>
              </a:rPr>
              <a:t> innov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ional S &amp; T policy can reinforce established hierarchies of universities and regions and global knowledge exploi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nk between national S &amp; T and innovation policies often poorly articulated and based up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ear mode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ology pus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ufacturing</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06D18102-93A8-495E-9E1C-C75D279C78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Policy Challenges / Shortcomings (2)</a:t>
            </a:r>
            <a:endParaRPr b="0" lang="en-US" sz="3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lect of contribution of humanities and social sciences to innovation as “new ways of doing th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o higher education policy and the role of teaching / learning we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lect of the role of students in establishing the social bases on which exploitation of technology / innovation depen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AE5DB7EE-AB9B-48F4-97D6-6A84D118BB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3640" y="403200"/>
            <a:ext cx="15372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Figure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148680" y="5136120"/>
            <a:ext cx="5976360" cy="1554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National policies impacting on university / regional relation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Key:</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S &amp; T</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Science and Technolog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DP</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erritorial Developme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HE</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Higher Educat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L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Labour Marke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Indust</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Industry policy</a:t>
            </a:r>
            <a:endParaRPr b="0" lang="en-US" sz="1600" spc="-1" strike="noStrike">
              <a:solidFill>
                <a:srgbClr val="000000"/>
              </a:solidFill>
              <a:latin typeface="Arial"/>
            </a:endParaRPr>
          </a:p>
        </p:txBody>
      </p:sp>
      <p:sp>
        <p:nvSpPr>
          <p:cNvPr id="53" name=""/>
          <p:cNvSpPr/>
          <p:nvPr/>
        </p:nvSpPr>
        <p:spPr>
          <a:xfrm>
            <a:off x="3564000" y="2035080"/>
            <a:ext cx="165564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280040" y="3170160"/>
            <a:ext cx="165564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M</a:t>
            </a:r>
            <a:endParaRPr b="0" lang="en-US" sz="1800" spc="-1" strike="noStrike">
              <a:solidFill>
                <a:srgbClr val="000000"/>
              </a:solidFill>
              <a:latin typeface="Arial"/>
            </a:endParaRPr>
          </a:p>
        </p:txBody>
      </p:sp>
      <p:sp>
        <p:nvSpPr>
          <p:cNvPr id="55" name=""/>
          <p:cNvSpPr/>
          <p:nvPr/>
        </p:nvSpPr>
        <p:spPr>
          <a:xfrm>
            <a:off x="5059440" y="1935000"/>
            <a:ext cx="165564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
            </a:r>
            <a:endParaRPr b="0" lang="en-US" sz="1800" spc="-1" strike="noStrike">
              <a:solidFill>
                <a:srgbClr val="000000"/>
              </a:solidFill>
              <a:latin typeface="Arial"/>
            </a:endParaRPr>
          </a:p>
        </p:txBody>
      </p:sp>
      <p:sp>
        <p:nvSpPr>
          <p:cNvPr id="56" name=""/>
          <p:cNvSpPr/>
          <p:nvPr/>
        </p:nvSpPr>
        <p:spPr>
          <a:xfrm>
            <a:off x="3584520" y="644400"/>
            <a:ext cx="165564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DP</a:t>
            </a:r>
            <a:endParaRPr b="0" lang="en-US" sz="1800" spc="-1" strike="noStrike">
              <a:solidFill>
                <a:srgbClr val="000000"/>
              </a:solidFill>
              <a:latin typeface="Arial"/>
            </a:endParaRPr>
          </a:p>
        </p:txBody>
      </p:sp>
      <p:sp>
        <p:nvSpPr>
          <p:cNvPr id="57" name=""/>
          <p:cNvSpPr/>
          <p:nvPr/>
        </p:nvSpPr>
        <p:spPr>
          <a:xfrm>
            <a:off x="1982880" y="1839960"/>
            <a:ext cx="165564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 &amp; T</a:t>
            </a:r>
            <a:endParaRPr b="0" lang="en-US" sz="1800" spc="-1" strike="noStrike">
              <a:solidFill>
                <a:srgbClr val="000000"/>
              </a:solidFill>
              <a:latin typeface="Arial"/>
            </a:endParaRPr>
          </a:p>
        </p:txBody>
      </p:sp>
      <p:sp>
        <p:nvSpPr>
          <p:cNvPr id="58" name=""/>
          <p:cNvSpPr/>
          <p:nvPr/>
        </p:nvSpPr>
        <p:spPr>
          <a:xfrm>
            <a:off x="2608200" y="3122640"/>
            <a:ext cx="165600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a:t>
            </a:r>
            <a:endParaRPr b="0" lang="en-US" sz="1800" spc="-1" strike="noStrike">
              <a:solidFill>
                <a:srgbClr val="000000"/>
              </a:solidFill>
              <a:latin typeface="Arial"/>
            </a:endParaRPr>
          </a:p>
        </p:txBody>
      </p:sp>
      <p:sp>
        <p:nvSpPr>
          <p:cNvPr id="59" name=""/>
          <p:cNvSpPr/>
          <p:nvPr/>
        </p:nvSpPr>
        <p:spPr>
          <a:xfrm>
            <a:off x="4050720" y="251316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a:t>
            </a:r>
            <a:endParaRPr b="0" lang="en-US" sz="1800" spc="-1" strike="noStrike">
              <a:solidFill>
                <a:srgbClr val="000000"/>
              </a:solidFill>
              <a:latin typeface="Arial"/>
            </a:endParaRPr>
          </a:p>
        </p:txBody>
      </p:sp>
      <p:sp>
        <p:nvSpPr>
          <p:cNvPr id="60" name=""/>
          <p:cNvSpPr/>
          <p:nvPr/>
        </p:nvSpPr>
        <p:spPr>
          <a:xfrm>
            <a:off x="6099120" y="1042920"/>
            <a:ext cx="2720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amp; Regional Agencies</a:t>
            </a:r>
            <a:endParaRPr b="0" lang="en-US" sz="1800" spc="-1" strike="noStrike">
              <a:solidFill>
                <a:srgbClr val="000000"/>
              </a:solidFill>
              <a:latin typeface="Arial"/>
            </a:endParaRPr>
          </a:p>
        </p:txBody>
      </p:sp>
      <p:sp>
        <p:nvSpPr>
          <p:cNvPr id="61" name=""/>
          <p:cNvSpPr/>
          <p:nvPr/>
        </p:nvSpPr>
        <p:spPr>
          <a:xfrm flipH="1">
            <a:off x="4859280" y="1700280"/>
            <a:ext cx="12254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Florence Nov. 04</a:t>
            </a:r>
          </a:p>
        </p:txBody>
      </p:sp>
      <p:sp>
        <p:nvSpPr>
          <p:cNvPr id="3" name="PlaceHolder 2"/>
          <p:cNvSpPr>
            <a:spLocks noGrp="1"/>
          </p:cNvSpPr>
          <p:nvPr>
            <p:ph type="sldNum" idx="3"/>
          </p:nvPr>
        </p:nvSpPr>
        <p:spPr/>
        <p:txBody>
          <a:bodyPr/>
          <a:p>
            <a:fld id="{44E01973-5564-4373-BEF2-1F017A8765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Ques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ensure that universities move from being located </a:t>
            </a:r>
            <a:r>
              <a:rPr b="0" lang="en-GB" sz="3200" spc="-1" strike="noStrike" u="sng">
                <a:solidFill>
                  <a:srgbClr val="000000"/>
                </a:solidFill>
                <a:uFillTx/>
                <a:latin typeface="Arial"/>
              </a:rPr>
              <a:t>in</a:t>
            </a:r>
            <a:r>
              <a:rPr b="0" lang="en-GB" sz="3200" spc="-1" strike="noStrike">
                <a:solidFill>
                  <a:srgbClr val="000000"/>
                </a:solidFill>
                <a:latin typeface="Arial"/>
              </a:rPr>
              <a:t> regions to playing an active role in the development </a:t>
            </a:r>
            <a:r>
              <a:rPr b="0" lang="en-GB" sz="3200" spc="-1" strike="noStrike" u="sng">
                <a:solidFill>
                  <a:srgbClr val="000000"/>
                </a:solidFill>
                <a:uFillTx/>
                <a:latin typeface="Arial"/>
              </a:rPr>
              <a:t>of</a:t>
            </a:r>
            <a:r>
              <a:rPr b="0" lang="en-GB" sz="3200" spc="-1" strike="noStrike">
                <a:solidFill>
                  <a:srgbClr val="000000"/>
                </a:solidFill>
                <a:latin typeface="Arial"/>
              </a:rPr>
              <a:t> re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achieve </a:t>
            </a:r>
            <a:r>
              <a:rPr b="0" i="1" lang="en-GB" sz="3200" spc="-1" strike="noStrike">
                <a:solidFill>
                  <a:srgbClr val="000000"/>
                </a:solidFill>
                <a:latin typeface="Arial"/>
              </a:rPr>
              <a:t>reach out </a:t>
            </a:r>
            <a:r>
              <a:rPr b="0" lang="en-GB" sz="3200" spc="-1" strike="noStrike">
                <a:solidFill>
                  <a:srgbClr val="000000"/>
                </a:solidFill>
                <a:latin typeface="Arial"/>
              </a:rPr>
              <a:t> from universities to business and the community and </a:t>
            </a:r>
            <a:r>
              <a:rPr b="0" i="1" lang="en-GB" sz="3200" spc="-1" strike="noStrike">
                <a:solidFill>
                  <a:srgbClr val="000000"/>
                </a:solidFill>
                <a:latin typeface="Arial"/>
              </a:rPr>
              <a:t>reach in</a:t>
            </a:r>
            <a:r>
              <a:rPr b="0" lang="en-GB" sz="3200" spc="-1" strike="noStrike">
                <a:solidFill>
                  <a:srgbClr val="000000"/>
                </a:solidFill>
                <a:latin typeface="Arial"/>
              </a:rPr>
              <a:t> to the science ba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5E1FFFDB-CBCC-4488-971C-0492FF19F5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comings of narrow focus on knowledge exploitation via science park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Is and regional develop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and local experience – Finland and the U.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C277F3D4-0003-4F58-8E66-AA5979C35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Science Park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roperty based activity involv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mal operational links with a univers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mation of knowledge based businesses on si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anagement function actively engaged in transfer of technology and business skills to enterprises on sit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lorence Nov. 04</a:t>
            </a:r>
          </a:p>
        </p:txBody>
      </p:sp>
      <p:sp>
        <p:nvSpPr>
          <p:cNvPr id="5" name="PlaceHolder 4"/>
          <p:cNvSpPr>
            <a:spLocks noGrp="1"/>
          </p:cNvSpPr>
          <p:nvPr>
            <p:ph type="sldNum" idx="3"/>
          </p:nvPr>
        </p:nvSpPr>
        <p:spPr/>
        <p:txBody>
          <a:bodyPr/>
          <a:p>
            <a:fld id="{CD4BC1D3-3156-472B-B0B6-1690FD07FF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42:45Z</dcterms:created>
  <dc:creator>nmd27</dc:creator>
  <dc:description/>
  <dc:language>en-US</dc:language>
  <cp:lastModifiedBy>nmd27</cp:lastModifiedBy>
  <dcterms:modified xsi:type="dcterms:W3CDTF">2004-11-22T14:02:47Z</dcterms:modified>
  <cp:revision>4</cp:revision>
  <dc:subject/>
  <dc:title>Science/Industry Partnership and  Regional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4103070</vt:r8>
  </property>
  <property fmtid="{D5CDD505-2E9C-101B-9397-08002B2CF9AE}" pid="3" name="_AuthorEmail">
    <vt:lpwstr>nmd27@cpx.ncl.ac.uk</vt:lpwstr>
  </property>
  <property fmtid="{D5CDD505-2E9C-101B-9397-08002B2CF9AE}" pid="4" name="_AuthorEmailDisplayName">
    <vt:lpwstr>Marian Dugdale</vt:lpwstr>
  </property>
  <property fmtid="{D5CDD505-2E9C-101B-9397-08002B2CF9AE}" pid="5" name="_EmailSubject">
    <vt:lpwstr>OECD CONFERENCE FLORENCE</vt:lpwstr>
  </property>
</Properties>
</file>