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101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4E8-861E-457C-A422-9F602F52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vision contained in the West Midlands Innovation Strate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ed for IA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1580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6672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24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1580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6672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9280" y="145800"/>
            <a:ext cx="8724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1580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6672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6524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11580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6672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9280" y="145800"/>
            <a:ext cx="8724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1580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6672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524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1580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6672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79280" y="145800"/>
            <a:ext cx="8724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1580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66720" y="104148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6524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1580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66720" y="1996920"/>
            <a:ext cx="28098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79280" y="145800"/>
            <a:ext cx="8724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37160" y="199692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041480"/>
            <a:ext cx="425844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5240" y="1996920"/>
            <a:ext cx="8726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-4680" y="-14400"/>
            <a:ext cx="91533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101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1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2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3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4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5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6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graphicFrame>
        <p:nvGraphicFramePr>
          <p:cNvPr id="75" name="ShockwaveFlash1"/>
          <p:cNvGraphicFramePr/>
          <p:nvPr/>
        </p:nvGraphicFramePr>
        <p:xfrm>
          <a:off x="0" y="5375160"/>
          <a:ext cx="9144000" cy="14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75160"/>
                    <a:ext cx="9144000" cy="1482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4680" y="-14400"/>
            <a:ext cx="9153360" cy="6886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101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1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2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3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4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5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lvl="6"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4a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4680" y="-14400"/>
            <a:ext cx="9153360" cy="6886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51120" y="2338560"/>
            <a:ext cx="6014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d4a"/>
                </a:solidFill>
                <a:latin typeface="Verdana"/>
              </a:rPr>
              <a:t>Next Steps: Furthering Regional Innovation Strategi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e1010"/>
                </a:solidFill>
                <a:latin typeface="Verdana"/>
              </a:rPr>
              <a:t>A West Midlands Persp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Knowledg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014480"/>
            <a:ext cx="81298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Knowledge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Knowledge Disse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Knowledge Access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Creating the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66640" y="2262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66640" y="28004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Knowledge Dissemination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1554120"/>
            <a:ext cx="81298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Higher Education out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Research Partner out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Business to Business out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66640" y="2266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66640" y="28051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Knowledg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JIIC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Knowledg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600" y="1514520"/>
            <a:ext cx="659772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anks to funding from the European Regional Development Fund The Jewellery Industry Innovation Centre (JIIC) at UCE will offer compan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79480" y="2401920"/>
            <a:ext cx="5734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New product development support through a design team based at the JIIC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Access to technology and mentoring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Guidance and support for new product development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Give companies access to regional trade networks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Signposting to revenue/business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6640" y="25527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66640" y="3071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65200" y="3325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65200" y="35877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63400" y="38624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Knowledge Accessibility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1554120"/>
            <a:ext cx="812988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Improving the accessi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to on-line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e1010"/>
                </a:solidFill>
                <a:latin typeface="Arial"/>
              </a:rPr>
              <a:t>www.2wm.co.uk</a:t>
            </a:r>
            <a:br>
              <a:rPr sz="1800"/>
            </a:br>
            <a:r>
              <a:rPr b="1" lang="en-GB" sz="1800" spc="-1" strike="noStrike">
                <a:solidFill>
                  <a:srgbClr val="de1010"/>
                </a:solidFill>
                <a:latin typeface="Arial"/>
              </a:rPr>
              <a:t>www.makinginnovationreal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Mapping region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de1010"/>
                </a:solidFill>
                <a:latin typeface="Arial"/>
              </a:rPr>
              <a:t>West Midlands Knowled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Supported by Innovative Actions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37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On line access to all programmes, projects, funding, knowledge &amp; resources</a:t>
            </a:r>
            <a:r>
              <a:rPr b="0" lang="en-GB" sz="2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4800" y="3887640"/>
            <a:ext cx="154080" cy="154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Knowledg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Creating the Vision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Creativity Lab, Coventry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2760" y="2405160"/>
            <a:ext cx="638316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Coventry Techno Centre is the home of the regions only Creativity Lab. Inspired by the DTI project, Future Focus, the lab is available for organizations to use f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720" y="3365640"/>
            <a:ext cx="81295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Strategic Planning, Foresight &amp; Scenarios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Electronic facilitation of meetings &amp; events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Videoconferencing 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90400" y="43070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77800" y="374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0400" y="401796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Knowledg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76360" y="3489480"/>
            <a:ext cx="142920" cy="142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76440" y="4165560"/>
            <a:ext cx="81295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Training &amp; Interactive Programm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2262240" y="4608360"/>
            <a:ext cx="140184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Company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86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d4a"/>
                </a:solidFill>
                <a:latin typeface="Verdana"/>
              </a:rPr>
              <a:t>Support creative thinking</a:t>
            </a:r>
            <a:r>
              <a:rPr b="1" lang="en-US" sz="2000" spc="-1" strike="noStrike">
                <a:solidFill>
                  <a:srgbClr val="003d4a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3d4a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18360" y="0"/>
            <a:ext cx="192564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00000" y="1563840"/>
            <a:ext cx="812988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4a"/>
                </a:solidFill>
                <a:latin typeface="Verdana"/>
              </a:rPr>
              <a:t>Change managemen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4a"/>
                </a:solidFill>
                <a:latin typeface="Verdana"/>
              </a:rPr>
              <a:t>Support creativity in school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4a"/>
                </a:solidFill>
                <a:latin typeface="Verdana"/>
              </a:rPr>
              <a:t>students, teachers and careers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4a"/>
                </a:solidFill>
                <a:latin typeface="Verdana"/>
              </a:rPr>
              <a:t>Foresight and strategic planning fo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4a"/>
                </a:solidFill>
                <a:latin typeface="Verdana"/>
              </a:rPr>
              <a:t>Encouraging entrepreneu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d4a"/>
                </a:solidFill>
                <a:latin typeface="Arial"/>
              </a:rPr>
              <a:t>The Foresight Programme</a:t>
            </a:r>
            <a:r>
              <a:rPr b="0" i="1" lang="en-US" sz="1400" spc="-1" strike="noStrike">
                <a:solidFill>
                  <a:srgbClr val="003d4a"/>
                </a:solidFill>
                <a:latin typeface="Arial"/>
              </a:rPr>
              <a:t> encourages companies to look to the future and develop creative solutions and ideas to help secure long term competitive advantages. Helps businesse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Generate business growth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Develop new strategies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Arial"/>
              </a:rPr>
              <a:t>Form business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66640" y="173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66640" y="22575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590400" y="3176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565200" y="38768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1527120" y="4633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1530360" y="4906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1530360" y="5132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6307200" y="4633920"/>
            <a:ext cx="15904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Company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86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d4a"/>
                </a:solidFill>
                <a:latin typeface="Verdana"/>
              </a:rPr>
              <a:t>Design Advantage</a:t>
            </a:r>
            <a:endParaRPr b="1" lang="en-US" sz="20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78040" y="1533600"/>
            <a:ext cx="573552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Regionwide Design Programme &amp; Centre of Excellen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Collaboration between Public Sector, Universities &amp; Private Sector (large and sm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Focus on regional strengths &amp; International Pot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65200" y="16844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040" y="22557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633240" y="29005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71600" y="382896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upported through Innovative Action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4541760" y="4203720"/>
            <a:ext cx="1595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Asset Management Programme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Company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801720" y="1968480"/>
            <a:ext cx="5735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The Asset Management project is funded by the Innovative Actions Programme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Partnership between the Defence Diversification Agency, University &amp; Private Companies 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Identifies potential assets within companies, and assists with exploitation, development, partner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90400" y="208296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77800" y="26258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600120" y="316548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Engaging the End-User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014480"/>
            <a:ext cx="8129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Netwo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Understanding customer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Creating Champ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Engage th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66640" y="2262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66640" y="28004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3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Engaging the End-User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Creating Champions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1563840"/>
            <a:ext cx="812988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Business men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Innovation Champ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Skilled Advi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In-company champion</a:t>
            </a:r>
            <a:br>
              <a:rPr sz="2600"/>
            </a:b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program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66640" y="173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66640" y="22575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66640" y="28004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566640" y="3338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3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WM Regional Innovation Strategy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440" y="1166760"/>
            <a:ext cx="8726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d4a"/>
                </a:solidFill>
                <a:latin typeface="Verdana"/>
              </a:rPr>
              <a:t>By 2003 the West Midlands Innovation Strategy implemented and achieved its objectives</a:t>
            </a:r>
            <a:endParaRPr b="1" lang="en-US" sz="1600" spc="-1" strike="noStrike">
              <a:solidFill>
                <a:srgbClr val="003d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d4a"/>
                </a:solidFill>
                <a:latin typeface="Verdana"/>
              </a:rPr>
              <a:t>20 point action plan under four cornerstones:</a:t>
            </a:r>
            <a:endParaRPr b="1" lang="en-US" sz="1600" spc="-1" strike="noStrike">
              <a:solidFill>
                <a:srgbClr val="003d4a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it and improve regional capability via on-going review of sectors, research and technolog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e collaborative innovation activity via business networks and networking between the science base and indus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vestment in research, development and design; equipment; skills and train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 innovation culture and spread good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4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d4a"/>
                </a:solidFill>
                <a:latin typeface="Verdana"/>
              </a:rPr>
              <a:t>A Second Phase Action Plan!</a:t>
            </a:r>
            <a:endParaRPr b="1" lang="en-US" sz="1800" spc="-1" strike="noStrike">
              <a:solidFill>
                <a:srgbClr val="003d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4600" y="1514520"/>
            <a:ext cx="6438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e West Midlands Innovation School focuses on selling the innovation message in a clear, simple and easy to adopt form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Engaging the End-User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360" y="880920"/>
            <a:ext cx="428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d4a"/>
                </a:solidFill>
                <a:latin typeface="Verdana"/>
              </a:rPr>
              <a:t>West Midlands Innovation School</a:t>
            </a:r>
            <a:endParaRPr b="1" lang="en-US" sz="20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79480" y="2106720"/>
            <a:ext cx="57340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Promoting Innovation helps participants to understand how to take the first steps on the innovation ladder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This is through a series of interactive workshops and in-company follow-up sessions – developing the GENIUS code for innov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d4a"/>
                </a:solidFill>
                <a:latin typeface="Verdana"/>
              </a:rPr>
              <a:t>Over 1000 ‘pupils’ in 12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66640" y="22575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65200" y="2759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550800" y="383868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4600" y="1514520"/>
            <a:ext cx="6438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e Lord Stafford Awards are designed to stimulate innovative collaboration between West Midlands’ businesses and Univers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The Lord Stafford Awards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Engaging the End-User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173160" y="2217600"/>
            <a:ext cx="643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e catego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78040" y="2523960"/>
            <a:ext cx="57337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Development in Innovation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Best University Student Business Plan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Living for Innovation – lifetime achievement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Achievement in Innovation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Best University Spin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65200" y="2674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63400" y="3176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61960" y="3460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561960" y="2917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560520" y="3706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6848640" y="0"/>
            <a:ext cx="22953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4680" y="-14400"/>
            <a:ext cx="91533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Created Conditions for Innovation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40160" y="1332000"/>
            <a:ext cx="40748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WM Action Plan Overview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1014480"/>
            <a:ext cx="81298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Resourc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Knowledg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Company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End-User Eng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66640" y="2262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66640" y="28004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Resourc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014480"/>
            <a:ext cx="81298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Intellectual 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Property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Fi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Specialist Equi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66640" y="2262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66640" y="28004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Innovative Actions – Piloting New Approaches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Resourc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4600" y="1514520"/>
            <a:ext cx="8742240" cy="37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Arial"/>
              </a:rPr>
              <a:t>Supported by ERDF, Advantage West Midlands &amp; Coventry University Enterprises Ltd, the Innovative Actions West Midlands programme is a two-year initiative offering regional individuals and organisations a unique opportunity to experiment with the development and delivery of public support, promoting economic development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3d4a"/>
                </a:solidFill>
                <a:latin typeface="Arial"/>
              </a:rPr>
              <a:t>The West Midlands Innovation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Established to enable integration of innovation with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Key skills in mentoring, project development and sourcing 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Full ‘School Curriculum’ including Prep Schools, Homework, School Dinners &amp; Innovation </a:t>
            </a: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Les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d4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65520" y="4464000"/>
            <a:ext cx="1401840" cy="669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05040" y="317196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03240" y="4214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901800" y="370692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Innovation School Scholarships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Resourc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4600" y="1514520"/>
            <a:ext cx="874224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e Innovation School Scholarships provide support to help individuals to commercialise their research, their ideas, their business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6400" y="2347920"/>
            <a:ext cx="81295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Small pathfinder grants to support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patenting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protoyping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business planning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Aimed at Business Start Ups unable to source ‘proof of concept’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92200" y="2460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90400" y="352116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Resourc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1041480"/>
            <a:ext cx="4286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d4a"/>
                </a:solidFill>
                <a:latin typeface="Verdana"/>
              </a:rPr>
              <a:t>Property and Services</a:t>
            </a:r>
            <a:endParaRPr b="1" lang="en-US" sz="20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1554120"/>
            <a:ext cx="8129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Physical Incub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Specialist resource sup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4a"/>
                </a:solidFill>
                <a:latin typeface="Verdana"/>
              </a:rPr>
              <a:t>for incub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Grow o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d4a"/>
                </a:solidFill>
                <a:latin typeface="Verdana"/>
              </a:rPr>
              <a:t>Fi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66640" y="172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66640" y="2266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66640" y="3328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76360" y="388764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5240" y="10414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d4a"/>
                </a:solidFill>
                <a:latin typeface="Verdana"/>
              </a:rPr>
              <a:t>IC4</a:t>
            </a:r>
            <a:endParaRPr b="1" lang="en-US" sz="2400" spc="-1" strike="noStrike">
              <a:solidFill>
                <a:srgbClr val="003d4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79280" y="145800"/>
            <a:ext cx="872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e1010"/>
                </a:solidFill>
                <a:latin typeface="Verdana"/>
              </a:rPr>
              <a:t>Resource Development</a:t>
            </a:r>
            <a:endParaRPr b="1" lang="en-US" sz="2800" spc="-1" strike="noStrike">
              <a:solidFill>
                <a:srgbClr val="de101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-9360" y="858960"/>
            <a:ext cx="9144000" cy="0"/>
          </a:xfrm>
          <a:prstGeom prst="line">
            <a:avLst/>
          </a:prstGeom>
          <a:ln w="1908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9360" y="901800"/>
            <a:ext cx="9144000" cy="0"/>
          </a:xfrm>
          <a:prstGeom prst="line">
            <a:avLst/>
          </a:prstGeom>
          <a:ln w="12600">
            <a:solidFill>
              <a:srgbClr val="de1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4600" y="1514520"/>
            <a:ext cx="659772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The Keele University Innovation Centres are purpose built for</a:t>
            </a:r>
            <a:br>
              <a:rPr sz="1400"/>
            </a:b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high - technology, innovation and enterprise. Companies have access to the University’s wide range of service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79480" y="2401920"/>
            <a:ext cx="591192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Management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Medical technology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Materials science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Biotechnology</a:t>
            </a:r>
            <a:br>
              <a:rPr sz="1400"/>
            </a:br>
            <a:r>
              <a:rPr b="1" lang="en-US" sz="1400" spc="-1" strike="noStrike">
                <a:solidFill>
                  <a:srgbClr val="003d4a"/>
                </a:solidFill>
                <a:latin typeface="Verdana"/>
              </a:rPr>
              <a:t>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6640" y="25527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6640" y="28144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6040" y="3710160"/>
            <a:ext cx="638208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d4a"/>
                </a:solidFill>
                <a:latin typeface="Verdana"/>
              </a:rPr>
              <a:t>IC4 is now being built with sponsorship from the Regional Development Agency &amp; Private Sector for the Biotechnology Incubators that will feature as a large part of the buil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848640" y="0"/>
            <a:ext cx="2295360" cy="5143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65200" y="3065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65200" y="3327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563400" y="358308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4:29:29Z</dcterms:created>
  <dc:creator>HP registered user</dc:creator>
  <dc:description/>
  <dc:language>en-US</dc:language>
  <cp:lastModifiedBy>JRPurcell</cp:lastModifiedBy>
  <dcterms:modified xsi:type="dcterms:W3CDTF">2004-11-22T20:53:18Z</dcterms:modified>
  <cp:revision>107</cp:revision>
  <dc:subject/>
  <dc:title>Slide 1</dc:title>
</cp:coreProperties>
</file>