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3B3-1A6E-419A-9326-20868DCC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77B-CCD9-411F-ACBA-CF1CCCEE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CBA-F35D-4984-952F-F820BE95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90F-DA66-4AC6-B8AB-253FFF6E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3D0-BB57-4BCA-97C3-DC6A08F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4ED-4F06-439E-AF6A-55F27443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A2E-E92C-4AD5-9A04-137D6C8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7CD-57BA-4EED-B60A-49C2D60B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AE0-E6FF-43D6-8517-093E9F1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D28-D351-4EF6-A6AE-26EE0C93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ACE-0B2B-422B-B5C9-76430EFD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A93-DE60-4350-98ED-BA0EEEE8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2BEB-D751-4A58-9661-8EBA4E6E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600"/>
                </a:solidFill>
                <a:latin typeface="Comic Sans MS"/>
                <a:ea typeface="Times New Roman"/>
              </a:rPr>
              <a:t>FAME - </a:t>
            </a:r>
            <a:r>
              <a:rPr b="1" lang="pt-PT" sz="2400" spc="-1" strike="noStrike">
                <a:solidFill>
                  <a:srgbClr val="2b5600"/>
                </a:solidFill>
                <a:latin typeface="Comic Sans MS"/>
              </a:rPr>
              <a:t>Grant to Micro Companies</a:t>
            </a:r>
            <a:r>
              <a:rPr b="0" lang="pt-PT" sz="2400" spc="-1" strike="noStrike">
                <a:solidFill>
                  <a:srgbClr val="3f7e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62064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Alentejo Regional Development Ag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3060720" cy="142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627280" y="1052640"/>
            <a:ext cx="49690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79280" y="260280"/>
            <a:ext cx="8785080" cy="5439600"/>
            <a:chOff x="179280" y="260280"/>
            <a:chExt cx="8785080" cy="5439600"/>
          </a:xfrm>
        </p:grpSpPr>
        <p:sp>
          <p:nvSpPr>
            <p:cNvPr id="95" name=""/>
            <p:cNvSpPr/>
            <p:nvPr/>
          </p:nvSpPr>
          <p:spPr>
            <a:xfrm>
              <a:off x="2610360" y="260280"/>
              <a:ext cx="1097640" cy="1241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2b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63560" y="488160"/>
              <a:ext cx="1204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2b5600"/>
                  </a:solidFill>
                  <a:latin typeface="Comic Sans MS"/>
                </a:rPr>
                <a:t>Muni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2b5600"/>
                  </a:solidFill>
                  <a:latin typeface="Comic Sans MS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11600" y="260280"/>
              <a:ext cx="1097640" cy="1241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2b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3880" y="508320"/>
              <a:ext cx="957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400" spc="-1" strike="noStrike">
                  <a:solidFill>
                    <a:srgbClr val="2b5600"/>
                  </a:solidFill>
                  <a:latin typeface="Comic Sans MS"/>
                </a:rPr>
                <a:t>B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2b5600"/>
                  </a:solidFill>
                  <a:latin typeface="Comic Sans MS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65320" y="922680"/>
              <a:ext cx="14904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35840" y="922680"/>
              <a:ext cx="469800" cy="1158840"/>
            </a:xfrm>
            <a:prstGeom prst="downArrow">
              <a:avLst>
                <a:gd name="adj1" fmla="val 0"/>
                <a:gd name="adj2" fmla="val 61724"/>
              </a:avLst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7120" y="2136600"/>
              <a:ext cx="1082520" cy="398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0760">
              <a:solidFill>
                <a:srgbClr val="2b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b5600"/>
                  </a:solidFill>
                  <a:latin typeface="Comic Sans MS"/>
                </a:rPr>
                <a:t>F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22440" y="2048760"/>
              <a:ext cx="2496960" cy="578520"/>
            </a:xfrm>
            <a:prstGeom prst="rightArrow">
              <a:avLst>
                <a:gd name="adj1" fmla="val 0"/>
                <a:gd name="adj2" fmla="val 135358"/>
              </a:avLst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1764360" y="2052000"/>
              <a:ext cx="2261520" cy="578520"/>
            </a:xfrm>
            <a:prstGeom prst="rightArrow">
              <a:avLst>
                <a:gd name="adj1" fmla="val 0"/>
                <a:gd name="adj2" fmla="val 122595"/>
              </a:avLst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280" y="1722240"/>
              <a:ext cx="1490400" cy="1067760"/>
            </a:xfrm>
            <a:prstGeom prst="rect">
              <a:avLst/>
            </a:prstGeom>
            <a:noFill/>
            <a:ln cap="rnd" w="507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omic Sans MS"/>
                </a:rPr>
                <a:t>Evalution Commiss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B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AD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9840" y="1751400"/>
              <a:ext cx="1333080" cy="1092600"/>
            </a:xfrm>
            <a:prstGeom prst="rect">
              <a:avLst/>
            </a:prstGeom>
            <a:noFill/>
            <a:ln cap="rnd" w="507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omic Sans MS"/>
                </a:rPr>
                <a:t>Manager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pt-PT" sz="1200" spc="-1" strike="noStrike">
                  <a:solidFill>
                    <a:srgbClr val="ffffff"/>
                  </a:solidFill>
                  <a:latin typeface="Comic Sans MS"/>
                </a:rPr>
                <a:t>AD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4443480" y="2630160"/>
              <a:ext cx="330120" cy="390600"/>
            </a:xfrm>
            <a:prstGeom prst="rightArrow">
              <a:avLst>
                <a:gd name="adj1" fmla="val 0"/>
                <a:gd name="adj2" fmla="val 31361"/>
              </a:avLst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72480" y="2992320"/>
              <a:ext cx="755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600"/>
                  </a:solidFill>
                  <a:latin typeface="Comic Sans MS"/>
                </a:rPr>
                <a:t>BA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440" y="3406680"/>
              <a:ext cx="234720" cy="387000"/>
            </a:xfrm>
            <a:prstGeom prst="rect">
              <a:avLst/>
            </a:prstGeom>
            <a:noFill/>
            <a:ln cap="rnd" w="50760">
              <a:solidFill>
                <a:srgbClr val="2b5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58280" y="3903480"/>
              <a:ext cx="2901240" cy="443880"/>
            </a:xfrm>
            <a:prstGeom prst="rect">
              <a:avLst/>
            </a:prstGeom>
            <a:solidFill>
              <a:srgbClr val="2b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omic Sans MS"/>
                </a:rPr>
                <a:t>Interest Rate: Euribor + 2,5 % Sobr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omic Sans MS"/>
                </a:rPr>
                <a:t>50% do empréstimo</a:t>
              </a:r>
              <a:r>
                <a:rPr b="0" lang="pt-PT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7480" y="4399920"/>
              <a:ext cx="282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3737160"/>
              <a:ext cx="2942640" cy="7038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2b5600"/>
                  </a:solidFill>
                  <a:latin typeface="Comic Sans MS"/>
                </a:rPr>
                <a:t>New Companies</a:t>
              </a:r>
              <a:r>
                <a:rPr b="0" lang="pt-P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61320" y="3737160"/>
              <a:ext cx="2903040" cy="100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b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2b5600"/>
                  </a:solidFill>
                  <a:latin typeface="Comic Sans MS"/>
                </a:rPr>
                <a:t>Established Compan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9280" y="4482000"/>
              <a:ext cx="2946240" cy="946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2b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50% Private Equ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50% FAM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25% Without Inte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25% Euribor + 2,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61320" y="4482000"/>
              <a:ext cx="2903040" cy="1217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2b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00% FAM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50% Without Inter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pt-PT" sz="1400" spc="-1" strike="noStrike">
                  <a:solidFill>
                    <a:srgbClr val="000000"/>
                  </a:solidFill>
                  <a:latin typeface="Comic Sans MS"/>
                </a:rPr>
                <a:t>50% Euribor + 2,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15600" y="4565880"/>
              <a:ext cx="253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Loan payment deadline: 6 ye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132000" y="5013360"/>
            <a:ext cx="2952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(It is possible for companies to pay only the interest rates in the first year of the loa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44144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40360" y="549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tistics</a:t>
            </a:r>
            <a:r>
              <a:rPr b="1" lang="pt-P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78560" y="1484280"/>
            <a:ext cx="8119800" cy="4108680"/>
            <a:chOff x="1078560" y="1484280"/>
            <a:chExt cx="8119800" cy="4108680"/>
          </a:xfrm>
        </p:grpSpPr>
        <p:sp>
          <p:nvSpPr>
            <p:cNvPr id="120" name=""/>
            <p:cNvSpPr/>
            <p:nvPr/>
          </p:nvSpPr>
          <p:spPr>
            <a:xfrm>
              <a:off x="4664160" y="2352600"/>
              <a:ext cx="1008000" cy="107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97200" y="50115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2b5600"/>
                  </a:solidFill>
                  <a:latin typeface="Times New Roman"/>
                </a:rPr>
                <a:t>122 Approv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5200" y="3716280"/>
              <a:ext cx="1726920" cy="1295280"/>
            </a:xfrm>
            <a:prstGeom prst="downArrow">
              <a:avLst>
                <a:gd name="adj1" fmla="val 0"/>
                <a:gd name="adj2" fmla="val 79519"/>
              </a:avLst>
            </a:prstGeom>
            <a:solidFill>
              <a:srgbClr val="54a8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9200" y="1484280"/>
              <a:ext cx="5040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2b5600"/>
                  </a:solidFill>
                  <a:latin typeface="Comic Sans MS"/>
                </a:rPr>
                <a:t>Number of project applications rece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2b5600"/>
                  </a:solidFill>
                  <a:latin typeface="Comic Sans MS"/>
                </a:rPr>
                <a:t>18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78560" y="4583160"/>
              <a:ext cx="187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2b5600"/>
                  </a:solidFill>
                  <a:latin typeface="Comic Sans MS"/>
                </a:rPr>
                <a:t>50 Not Appro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3000" y="4606920"/>
              <a:ext cx="157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2b5600"/>
                  </a:solidFill>
                  <a:latin typeface="Comic Sans MS"/>
                </a:rPr>
                <a:t>17 Un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2b5600"/>
                  </a:solidFill>
                  <a:latin typeface="Comic Sans MS"/>
                </a:rPr>
                <a:t>consid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1681200" y="2923920"/>
              <a:ext cx="2736720" cy="151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599"/>
                  </a:moveTo>
                  <a:lnTo>
                    <a:pt x="17778" y="21599"/>
                  </a:lnTo>
                  <a:lnTo>
                    <a:pt x="17778" y="6489"/>
                  </a:lnTo>
                  <a:lnTo>
                    <a:pt x="13957" y="6489"/>
                  </a:lnTo>
                  <a:lnTo>
                    <a:pt x="17779" y="0"/>
                  </a:lnTo>
                  <a:lnTo>
                    <a:pt x="21600" y="6489"/>
                  </a:lnTo>
                  <a:lnTo>
                    <a:pt x="17779" y="6489"/>
                  </a:lnTo>
                  <a:lnTo>
                    <a:pt x="177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2a4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02280" y="2924280"/>
              <a:ext cx="2778120" cy="1444680"/>
              <a:chOff x="6002280" y="2924280"/>
              <a:chExt cx="2778120" cy="1444680"/>
            </a:xfrm>
          </p:grpSpPr>
          <p:sp>
            <p:nvSpPr>
              <p:cNvPr id="128" name=""/>
              <p:cNvSpPr/>
              <p:nvPr/>
            </p:nvSpPr>
            <p:spPr>
              <a:xfrm>
                <a:off x="7700760" y="2927520"/>
                <a:ext cx="1079640" cy="1441440"/>
              </a:xfrm>
              <a:prstGeom prst="downArrow">
                <a:avLst>
                  <a:gd name="adj1" fmla="val 0"/>
                  <a:gd name="adj2" fmla="val 41129"/>
                </a:avLst>
              </a:prstGeom>
              <a:solidFill>
                <a:srgbClr val="52a4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002280" y="2924280"/>
                <a:ext cx="223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09520" y="1465200"/>
            <a:ext cx="177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9520" y="1465200"/>
            <a:ext cx="177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9520" y="1465200"/>
            <a:ext cx="177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6720" y="2708280"/>
            <a:ext cx="820728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f7e00"/>
                </a:solidFill>
                <a:latin typeface="Comic Sans MS"/>
              </a:rPr>
              <a:t>ADRAL – </a:t>
            </a:r>
            <a:r>
              <a:rPr b="1" lang="en-GB" sz="2000" spc="-1" strike="noStrike">
                <a:solidFill>
                  <a:srgbClr val="3f7e00"/>
                </a:solidFill>
                <a:latin typeface="Comic Sans MS"/>
              </a:rPr>
              <a:t>Alentejo Regional Development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Rua Intermédia do Parque Industrial, Lote 4 e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7000 – 171 Év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Telefone: 266 769 150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Fax: 266 769 156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www.adral.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omic Sans MS"/>
              </a:rPr>
              <a:t>E-Mail: geral@adral.p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95480" y="1268280"/>
            <a:ext cx="80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ease contact us if you need any further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4941720"/>
            <a:ext cx="4464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35280" y="1844640"/>
            <a:ext cx="6842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Comic Sans MS"/>
              </a:rPr>
              <a:t>What is F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ME is an innovative and modern financial Instrument. Consists in a Grant, available for businesses and entrepreneurs, who want to promote invest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90120" y="1341360"/>
            <a:ext cx="5825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6a00"/>
                </a:solidFill>
                <a:latin typeface="Comic Sans MS"/>
              </a:rPr>
              <a:t>Which factors leaded to FAME cre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637000"/>
            <a:ext cx="734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igh costs of bank loa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pt-PT" sz="1800" spc="-1" strike="noStrike">
                <a:solidFill>
                  <a:srgbClr val="000000"/>
                </a:solidFill>
                <a:latin typeface="Comic Sans MS"/>
              </a:rPr>
              <a:t>Micro Companie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in the region experience difficulties to access financ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ck of simple and flexible financial instruments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ed for a local / regional Grant system compatible with others exist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ed to reinforce the entrepreneurial spir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32000" y="1197000"/>
            <a:ext cx="7812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00"/>
                </a:solidFill>
                <a:latin typeface="Comic Sans MS"/>
              </a:rPr>
              <a:t>Targ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promote and support the creation of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Micro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promote and support productive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make those companies more 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help them increase the quality of thei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promote the investment in areas such as quality,    environment, safety and hygi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3280" y="1413000"/>
            <a:ext cx="74898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600"/>
                </a:solidFill>
                <a:latin typeface="Comic Sans MS"/>
              </a:rPr>
              <a:t>Target Compan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cro companies in several municipalities of Alente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w companies who would like to set up business in this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924280"/>
            <a:ext cx="8244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600"/>
                </a:solidFill>
                <a:latin typeface="Comic Sans MS"/>
              </a:rPr>
              <a:t>Eligible Co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ildings  adaptation, remodelling and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asic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fic machines an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uting equipment (Hardware and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munications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ygiene and safety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1413000"/>
            <a:ext cx="795672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omic Sans MS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e is a loan with a preferential interest 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omic Sans MS"/>
              </a:rPr>
              <a:t>New Compan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mpany must have 50% of th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unicipality lends 25% of th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Bank lends 25% of the capital (euribor + spread 2.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omic Sans MS"/>
              </a:rPr>
              <a:t>Established Compan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unicipality lend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89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Bank lend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76360" y="2060640"/>
            <a:ext cx="7272360" cy="28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Reception of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 a specific application form which the companies owners need to complete and return to one of the FAME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roject must be approved by all the FAME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197000"/>
            <a:ext cx="8381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Comic Sans MS"/>
              </a:rPr>
              <a:t>Assessmen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jects may be handed in at any time to be analysed in one of the four annual perio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79280" y="2565360"/>
            <a:ext cx="8758440" cy="2962080"/>
            <a:chOff x="179280" y="2565360"/>
            <a:chExt cx="8758440" cy="2962080"/>
          </a:xfrm>
        </p:grpSpPr>
        <p:grpSp>
          <p:nvGrpSpPr>
            <p:cNvPr id="64" name=""/>
            <p:cNvGrpSpPr/>
            <p:nvPr/>
          </p:nvGrpSpPr>
          <p:grpSpPr>
            <a:xfrm>
              <a:off x="179280" y="2565360"/>
              <a:ext cx="8686800" cy="1584000"/>
              <a:chOff x="179280" y="2565360"/>
              <a:chExt cx="8686800" cy="1584000"/>
            </a:xfrm>
          </p:grpSpPr>
          <p:sp>
            <p:nvSpPr>
              <p:cNvPr id="65" name=""/>
              <p:cNvSpPr/>
              <p:nvPr/>
            </p:nvSpPr>
            <p:spPr>
              <a:xfrm>
                <a:off x="7885080" y="3629880"/>
                <a:ext cx="0" cy="51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179280" y="2565360"/>
                <a:ext cx="8686800" cy="1558800"/>
                <a:chOff x="179280" y="2565360"/>
                <a:chExt cx="8686800" cy="155880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79280" y="2565360"/>
                  <a:ext cx="8686800" cy="916920"/>
                  <a:chOff x="179280" y="2565360"/>
                  <a:chExt cx="8686800" cy="9169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6808680" y="2565360"/>
                    <a:ext cx="205740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th Ter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" name=""/>
                  <p:cNvGrpSpPr/>
                  <p:nvPr/>
                </p:nvGrpSpPr>
                <p:grpSpPr>
                  <a:xfrm>
                    <a:off x="179280" y="2565360"/>
                    <a:ext cx="6476760" cy="916920"/>
                    <a:chOff x="179280" y="2565360"/>
                    <a:chExt cx="6476760" cy="916920"/>
                  </a:xfrm>
                </p:grpSpPr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179280" y="2565360"/>
                      <a:ext cx="2057400" cy="9169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st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2388960" y="2565360"/>
                      <a:ext cx="2057400" cy="9169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nd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598640" y="2565360"/>
                      <a:ext cx="2057400" cy="9169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rd 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3" name=""/>
                <p:cNvSpPr/>
                <p:nvPr/>
              </p:nvSpPr>
              <p:spPr>
                <a:xfrm>
                  <a:off x="1170000" y="3604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379680" y="3604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89360" y="3604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" name=""/>
            <p:cNvGrpSpPr/>
            <p:nvPr/>
          </p:nvGrpSpPr>
          <p:grpSpPr>
            <a:xfrm>
              <a:off x="250920" y="4292280"/>
              <a:ext cx="8686800" cy="1235160"/>
              <a:chOff x="250920" y="4292280"/>
              <a:chExt cx="8686800" cy="1235160"/>
            </a:xfrm>
          </p:grpSpPr>
          <p:sp>
            <p:nvSpPr>
              <p:cNvPr id="77" name=""/>
              <p:cNvSpPr/>
              <p:nvPr/>
            </p:nvSpPr>
            <p:spPr>
              <a:xfrm>
                <a:off x="6880320" y="4292280"/>
                <a:ext cx="2057400" cy="1235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500" spc="-1" strike="noStrike">
                    <a:solidFill>
                      <a:srgbClr val="000000"/>
                    </a:solidFill>
                    <a:latin typeface="Comic Sans MS"/>
                  </a:rPr>
                  <a:t>The evaluation commission take a decision by 31sd Januar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250920" y="4292280"/>
                <a:ext cx="6476760" cy="1235160"/>
                <a:chOff x="250920" y="4292280"/>
                <a:chExt cx="6476760" cy="1235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50920" y="4292280"/>
                  <a:ext cx="2057400" cy="1235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00000"/>
                      </a:solidFill>
                      <a:latin typeface="Comic Sans MS"/>
                    </a:rPr>
                    <a:t>The evaluation commission take a decision by 30th Apri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460600" y="4292280"/>
                  <a:ext cx="2057400" cy="1235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00000"/>
                      </a:solidFill>
                      <a:latin typeface="Comic Sans MS"/>
                    </a:rPr>
                    <a:t>The evaluation commission take a decision by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00000"/>
                      </a:solidFill>
                      <a:latin typeface="Comic Sans MS"/>
                    </a:rPr>
                    <a:t>31st July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670280" y="4292280"/>
                  <a:ext cx="2057400" cy="1235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00000"/>
                      </a:solidFill>
                      <a:latin typeface="Comic Sans MS"/>
                    </a:rPr>
                    <a:t>The evaluation commission take a decision by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500" spc="-1" strike="noStrike">
                      <a:solidFill>
                        <a:srgbClr val="000000"/>
                      </a:solidFill>
                      <a:latin typeface="Comic Sans MS"/>
                    </a:rPr>
                    <a:t>31st October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0120" y="45252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411280" y="2548080"/>
          <a:ext cx="6516720" cy="38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548080"/>
                    <a:ext cx="6516720" cy="38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564000" y="2708280"/>
          <a:ext cx="2263680" cy="31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708280"/>
                    <a:ext cx="22636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24000" y="907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l the Municipalities where the FAME is located are represented on this Ma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1484280"/>
            <a:ext cx="223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Ferreira do Alente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ért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just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148428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ontemor-o-N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endas No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Por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digu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148428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Év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Redo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B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Mo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2781360"/>
          <a:ext cx="1846080" cy="33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781360"/>
                    <a:ext cx="18460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635280" y="189000"/>
            <a:ext cx="1355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5:58:14Z</dcterms:created>
  <dc:creator>ADRAL</dc:creator>
  <dc:description/>
  <dc:language>en-US</dc:language>
  <cp:lastModifiedBy>celsomendes</cp:lastModifiedBy>
  <dcterms:modified xsi:type="dcterms:W3CDTF">2006-07-11T11:17:08Z</dcterms:modified>
  <cp:revision>46</cp:revision>
  <dc:subject/>
  <dc:title>Apresentação do PowerPoint</dc:title>
</cp:coreProperties>
</file>