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C22-C789-4917-9A86-05D119AC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E27-7C8A-4796-91BD-18FE04D4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8D8-943E-465B-9E13-B2004935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2AD-C1CA-438E-97CF-789DC119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DDD-66F4-4458-80DD-2076B415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DEA-771A-4F44-8A03-D1009E4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AFE-3339-4C86-85DB-0E017335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DC1-D945-47FA-A087-CAC3DF3D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594-1F68-453B-B733-82F52CD9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8B7-3899-47C9-93EC-D6D7DB19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D31-88EC-4779-98AC-F3FC31BA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0DB-A78E-4BD9-97A0-7210B5A8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CA8C-937B-4377-99D3-D5771E6FF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819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76720" y="3807360"/>
            <a:ext cx="228600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É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2055240"/>
            <a:ext cx="7696080" cy="1373760"/>
          </a:xfrm>
          <a:prstGeom prst="rect">
            <a:avLst/>
          </a:prstGeom>
          <a:solidFill>
            <a:srgbClr val="f8c900"/>
          </a:solidFill>
          <a:ln w="0">
            <a:noFill/>
          </a:ln>
          <a:effectLst>
            <a:outerShdw dist="40186" dir="430364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importância das </a:t>
            </a:r>
            <a:r>
              <a:rPr b="1" i="1" lang="pt-PT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art-ups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e </a:t>
            </a:r>
            <a:r>
              <a:rPr b="1" i="1" lang="pt-PT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pin-offs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para a inovaçã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prendizagens dos PRAI</a:t>
            </a:r>
            <a:r>
              <a:rPr b="0" i="1" lang="pt-PT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5408640"/>
            <a:ext cx="3505320" cy="368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Trebuchet MS"/>
              </a:rPr>
              <a:t>CCDRAlentejo, 12 Julh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18040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rebuchet MS"/>
              </a:rPr>
              <a:t>Joaquim Fi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Trebuchet MS"/>
              </a:rPr>
              <a:t>www.joaquim.fialho@ccdr-a.gov.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21932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1123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ortunidades para Inovação e Tec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989000"/>
            <a:ext cx="830592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15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vestigação em sistemas de rega e técnicas de reg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15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roveitamento das energias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15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vestigação em biotecn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15000"/>
              </a:lnSpc>
              <a:spcBef>
                <a:spcPts val="2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rodução de processos produtivos e transformadores eco-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15000"/>
              </a:lnSpc>
              <a:spcBef>
                <a:spcPts val="2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vestigação em recuperaçã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15000"/>
              </a:lnSpc>
              <a:spcBef>
                <a:spcPts val="2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nvolvimento de novos produtos e destinos turí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15000"/>
              </a:lnSpc>
              <a:spcBef>
                <a:spcPts val="20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rketing, design, marcas e acesso a mercados intern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64000" y="2276640"/>
            <a:ext cx="16761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de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3789360"/>
            <a:ext cx="1676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roces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3789360"/>
            <a:ext cx="14475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733920"/>
            <a:ext cx="2590920" cy="53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2743200"/>
            <a:ext cx="763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5334120"/>
            <a:ext cx="1447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343400"/>
            <a:ext cx="763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6362640" y="3543120"/>
            <a:ext cx="759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2628720" y="3543120"/>
            <a:ext cx="759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216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vo Model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09320" y="2743200"/>
            <a:ext cx="2133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743200"/>
            <a:ext cx="24382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343040" y="4038480"/>
            <a:ext cx="2514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4038480"/>
            <a:ext cx="2133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09680" y="1216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vo Model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003040"/>
            <a:ext cx="739152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andir actividades científicas e tecn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ver uma mudança cultural para a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ruturar um modelo articulado de apoio à tecnologia e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nvolver capacidades e conhecimento para aproveitamento das tecnolo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642040"/>
            <a:ext cx="800100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vos mercados e/ou melhoria dos produtos e 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vas atitudes 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ior colaboração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figuração de um sistema regional de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1875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1216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vo Model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409896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400000">
            <a:off x="2437920" y="2971800"/>
            <a:ext cx="1219320" cy="277920"/>
          </a:xfrm>
          <a:prstGeom prst="rightArrow">
            <a:avLst>
              <a:gd name="adj1" fmla="val 50000"/>
              <a:gd name="adj2" fmla="val 109683"/>
            </a:avLst>
          </a:prstGeom>
          <a:gradFill rotWithShape="0">
            <a:gsLst>
              <a:gs pos="0">
                <a:srgbClr val="9b9bc2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2286000"/>
            <a:ext cx="144792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286000"/>
            <a:ext cx="16761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onhec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2286000"/>
            <a:ext cx="14475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ov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581280"/>
            <a:ext cx="24386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ISTEMA REGIONAL DE INOV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291560" y="2946960"/>
            <a:ext cx="685800" cy="277920"/>
          </a:xfrm>
          <a:prstGeom prst="rightArrow">
            <a:avLst>
              <a:gd name="adj1" fmla="val 51046"/>
              <a:gd name="adj2" fmla="val 100247"/>
            </a:avLst>
          </a:prstGeom>
          <a:gradFill rotWithShape="0">
            <a:gsLst>
              <a:gs pos="0">
                <a:srgbClr val="9b9bc2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2590920" y="4876560"/>
            <a:ext cx="3962160" cy="7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4572000"/>
            <a:ext cx="7596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8400000">
            <a:off x="5562360" y="2971440"/>
            <a:ext cx="1218960" cy="277920"/>
          </a:xfrm>
          <a:prstGeom prst="rightArrow">
            <a:avLst>
              <a:gd name="adj1" fmla="val 50000"/>
              <a:gd name="adj2" fmla="val 109650"/>
            </a:avLst>
          </a:prstGeom>
          <a:gradFill rotWithShape="0">
            <a:gsLst>
              <a:gs pos="0">
                <a:srgbClr val="9b9bc2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191120"/>
            <a:ext cx="167652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ecess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191120"/>
            <a:ext cx="1676160" cy="580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4406040" y="5499720"/>
            <a:ext cx="457200" cy="277920"/>
          </a:xfrm>
          <a:prstGeom prst="rightArrow">
            <a:avLst>
              <a:gd name="adj1" fmla="val 51046"/>
              <a:gd name="adj2" fmla="val 66831"/>
            </a:avLst>
          </a:prstGeom>
          <a:gradFill rotWithShape="0">
            <a:gsLst>
              <a:gs pos="0">
                <a:srgbClr val="9b9bc2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4572000"/>
            <a:ext cx="7596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952880"/>
            <a:ext cx="144792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mpres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6019920"/>
            <a:ext cx="426708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umento da Capacidade Competi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4941720"/>
            <a:ext cx="144792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esso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4941720"/>
            <a:ext cx="144792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stit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1216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vo Model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429000" y="4264560"/>
            <a:ext cx="228600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Obr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864160"/>
            <a:ext cx="830592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Fim da Apres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219320" cy="513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15236" t="0" r="18571" b="14016"/>
          <a:stretch/>
        </p:blipFill>
        <p:spPr>
          <a:xfrm>
            <a:off x="8229600" y="5410080"/>
            <a:ext cx="6094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064160"/>
            <a:ext cx="29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AI - Alent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219320" cy="513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708360" y="1989000"/>
            <a:ext cx="1981080" cy="475200"/>
            <a:chOff x="3708360" y="1989000"/>
            <a:chExt cx="1981080" cy="475200"/>
          </a:xfrm>
        </p:grpSpPr>
        <p:sp>
          <p:nvSpPr>
            <p:cNvPr id="48" name=""/>
            <p:cNvSpPr/>
            <p:nvPr/>
          </p:nvSpPr>
          <p:spPr>
            <a:xfrm>
              <a:off x="3708360" y="1989000"/>
              <a:ext cx="1904760" cy="457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08360" y="206532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rebuchet MS"/>
                </a:rPr>
                <a:t>Neg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11280" y="2852640"/>
            <a:ext cx="82087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ouca apetência para a coop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ouca experiência em projectos i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alta de cultura e experiência de trabalho em parc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ificuldade na passagem da ideia para o projecto/candid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06416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AI - Alent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219320" cy="51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87280" y="3141720"/>
            <a:ext cx="6121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ximidade com os promo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companhamento da candid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Rapidez e celeridade process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igação entre investigação e aplicação p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08360" y="1916280"/>
            <a:ext cx="1981080" cy="475200"/>
            <a:chOff x="3708360" y="1916280"/>
            <a:chExt cx="1981080" cy="475200"/>
          </a:xfrm>
        </p:grpSpPr>
        <p:sp>
          <p:nvSpPr>
            <p:cNvPr id="55" name=""/>
            <p:cNvSpPr/>
            <p:nvPr/>
          </p:nvSpPr>
          <p:spPr>
            <a:xfrm>
              <a:off x="3708360" y="1916280"/>
              <a:ext cx="1904760" cy="457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08360" y="19926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rebuchet MS"/>
                </a:rPr>
                <a:t>Pos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1064160"/>
            <a:ext cx="30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AI - Alent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219320" cy="5130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708360" y="1916280"/>
            <a:ext cx="1981080" cy="780120"/>
            <a:chOff x="3708360" y="1916280"/>
            <a:chExt cx="1981080" cy="780120"/>
          </a:xfrm>
        </p:grpSpPr>
        <p:sp>
          <p:nvSpPr>
            <p:cNvPr id="60" name=""/>
            <p:cNvSpPr/>
            <p:nvPr/>
          </p:nvSpPr>
          <p:spPr>
            <a:xfrm>
              <a:off x="3708360" y="1916280"/>
              <a:ext cx="1904760" cy="457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08360" y="1992600"/>
              <a:ext cx="19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411280" y="2997360"/>
            <a:ext cx="496908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vas parc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jectos-piloto, demonst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rticipação em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lano Regional de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577440"/>
            <a:ext cx="7299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PT" sz="2400" spc="-1" strike="noStrike">
                <a:solidFill>
                  <a:srgbClr val="000000"/>
                </a:solidFill>
                <a:latin typeface="Trebuchet MS"/>
              </a:rPr>
              <a:t>Linhas orientadoras para a estratégia da regi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rebuchet MS"/>
              </a:rPr>
              <a:t>http://www.ccdr-a.gov.pt/alentejo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209680"/>
            <a:ext cx="5638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celerar a criação de riqueza, emprego e o desenvolvimento empresarial, com base na inovação, no conhecimento e no domínio d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746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Trebuchet MS"/>
              </a:rPr>
              <a:t>Organizar e consolidar as vantagens logísticas na localização das actividades a partir das relações económicas com o ext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210280"/>
            <a:ext cx="493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romover o desenvolvimento sustentável e melhorar a qualidade de vida global na regi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615000" y="1994760"/>
            <a:ext cx="1766880" cy="1158120"/>
            <a:chOff x="6615000" y="1994760"/>
            <a:chExt cx="1766880" cy="1158120"/>
          </a:xfrm>
        </p:grpSpPr>
        <p:sp>
          <p:nvSpPr>
            <p:cNvPr id="68" name=""/>
            <p:cNvSpPr/>
            <p:nvPr/>
          </p:nvSpPr>
          <p:spPr>
            <a:xfrm>
              <a:off x="6615000" y="2286000"/>
              <a:ext cx="1766880" cy="8668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81680" y="1994760"/>
              <a:ext cx="144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rebuchet MS"/>
                </a:rPr>
                <a:t>Criação de Riquez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15000" y="3692520"/>
            <a:ext cx="1766880" cy="866880"/>
            <a:chOff x="6615000" y="3692520"/>
            <a:chExt cx="1766880" cy="866880"/>
          </a:xfrm>
        </p:grpSpPr>
        <p:sp>
          <p:nvSpPr>
            <p:cNvPr id="71" name=""/>
            <p:cNvSpPr/>
            <p:nvPr/>
          </p:nvSpPr>
          <p:spPr>
            <a:xfrm>
              <a:off x="6615000" y="3692520"/>
              <a:ext cx="1766880" cy="8668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1680" y="381528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bertura ao exter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629400" y="4831200"/>
            <a:ext cx="1766880" cy="1155240"/>
            <a:chOff x="6629400" y="4831200"/>
            <a:chExt cx="1766880" cy="1155240"/>
          </a:xfrm>
        </p:grpSpPr>
        <p:sp>
          <p:nvSpPr>
            <p:cNvPr id="74" name=""/>
            <p:cNvSpPr/>
            <p:nvPr/>
          </p:nvSpPr>
          <p:spPr>
            <a:xfrm>
              <a:off x="6629400" y="5076720"/>
              <a:ext cx="1766880" cy="8668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82040" y="4831200"/>
              <a:ext cx="144756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mbiente e qualidade de v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85800" y="1981080"/>
            <a:ext cx="8153280" cy="14479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10641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ta de Organização do POR Alentejo 2007/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505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riação de Riqu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334120" y="3352680"/>
            <a:ext cx="3428640" cy="1014120"/>
            <a:chOff x="5334120" y="3352680"/>
            <a:chExt cx="3428640" cy="1014120"/>
          </a:xfrm>
        </p:grpSpPr>
        <p:sp>
          <p:nvSpPr>
            <p:cNvPr id="81" name=""/>
            <p:cNvSpPr/>
            <p:nvPr/>
          </p:nvSpPr>
          <p:spPr>
            <a:xfrm>
              <a:off x="5334120" y="3352680"/>
              <a:ext cx="3428640" cy="10141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57400" y="3366360"/>
              <a:ext cx="280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rebuchet MS"/>
                </a:rPr>
                <a:t>Competitividade e Inov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668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inha Orient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38280" y="1905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mpetitividade e Inov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657600"/>
            <a:ext cx="8077320" cy="1981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a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e de Ciência e Tec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 de Incentivos ao Desenvolvimento Empres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ção e Marketing 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ólos Regionais de Competi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1905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2895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strumentos de Polític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0641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ta de Organização do POR Alentejo 2007/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362320" y="19051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de de Ciência e Tec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657600"/>
            <a:ext cx="8664480" cy="27241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a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envolver a oferta de apoios tecn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mentar as actividades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lhorar as respostas às necessidades d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mentar a ligação das empresas à oferta científica e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1981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3048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bj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0641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ta de Organização do POR Alentejo 2007/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19051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stema de Incentivos ao Desenvolvimento Empres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657600"/>
            <a:ext cx="8686800" cy="1981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a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lhorar a interacção entre as empres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 as entidades do sistema científico e tecn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mover a inovação empresarial e o empreendedor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xpandir e organizar a interface do sistema de inovação reg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89320" cy="59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2895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bj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0641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ta de Organização do POR Alentejo 2007/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0:39:50Z</dcterms:created>
  <dc:creator>CCDRA</dc:creator>
  <dc:description/>
  <dc:language>en-US</dc:language>
  <cp:lastModifiedBy>CCDRA</cp:lastModifiedBy>
  <dcterms:modified xsi:type="dcterms:W3CDTF">2006-07-12T07:52:09Z</dcterms:modified>
  <cp:revision>79</cp:revision>
  <dc:subject/>
  <dc:title>Apresentação do PowerPoint</dc:title>
</cp:coreProperties>
</file>