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029-982F-4085-BAD7-9EB258E0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C12-5C2A-4438-ABD4-5C24A5C8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ED4-D0C3-43FC-B227-079634EC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360-3FEB-4645-B3CC-C92FD198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FEB-4C76-4515-8DFF-722EFD3F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3BF-7696-4F5D-AA07-ED910281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C4A-4CAC-4EE5-A746-9759A0A5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4D7-26DA-4A5A-B96D-96FAB628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23B-28B1-4170-885F-FD95DE1E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2E1-F0EC-4B95-B4E2-DE6346D7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688-7A0D-48A0-B18B-746FE7AF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4E8-4E21-44FE-B116-34ED5CB4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9242-19FB-4876-9141-E4A527C21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2840" y="2027160"/>
            <a:ext cx="776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VALIAÇÃO EXTE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 PROGRAMA REGIONAL DE ACÇÕES INOVADOR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A REGIÃO ALENTEJ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AI ALENT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94600" y="5029200"/>
            <a:ext cx="152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0760" y="6140520"/>
            <a:ext cx="21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. José Rodrigu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940520" y="5524560"/>
          <a:ext cx="103824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40520" y="5524560"/>
                    <a:ext cx="10382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235480"/>
            <a:ext cx="105732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2600" y="467028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66920" y="4657680"/>
            <a:ext cx="75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prendizagens resultantes do processo de avali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46040" y="2044800"/>
            <a:ext cx="737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ficilmente poderia ter sido outra a opçã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ado qu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ão existia um quadro de referência estratégico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 clara definição de linhas orientadoras e acções a empreen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tu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esta lacuna, limitadora de decisões a tomar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ultou em ideias (projectos) desgarrados e pouco consist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cretização do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lano Estratégico de Inovaçã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entretanto desenvolvido ao abrigo deste Programa, configura que no futuro período de programação, poderá e deverá avançar rapidamente, um Programa de Acçã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47840" y="950760"/>
            <a:ext cx="75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32080" y="1369440"/>
            <a:ext cx="71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I ALENTEJO: UM PROGRAMA COM IMPACTE NA REGIÃ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76200" y="1931040"/>
            <a:ext cx="7512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Possibilitou a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criação de redes de conhecimentos e troca de experiências entre promotores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, despoletou e fomentou a possibilidade de futuras parcerias e estabelecimento de relações entre instituições/entidad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Suscitou e despoletou o debate e reflexão, no que às questões da inovação e do desenvolvimento cientifico e tecnológico diz respeito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e do papel que às mesmas é concedido enquanto factores de competitividade da econom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Permitiu que pequenas ideias, pequenas “utopias” de algumas pessoas/agentes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, que dificilmente equacionariam concretizá-las,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fossem postas em prática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com um sucesso assinalável e fossem, nacional e internacionalmente, reconhecidas  - apoiando o empreendedor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59000" y="1010880"/>
            <a:ext cx="71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I ALENTEJO: UM PROGRAMA COM IMPACTE NA REGI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...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76200" y="2295720"/>
            <a:ext cx="75121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iou alguns projectos que poderão ser a base de suporte de futuras intervenções de maior alcance e escala – Por exemplo,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scola Dig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carácter demonstrativo, as unidades piloto criadas, as oficinas de experimentação, poderão ser adoptadas e seguidas por outras regiões portuguesas uma vez que as metodologias empreendidas e os resultados de sucesso alcançados poderão ser facilmente transpostas para legislação nacional e mesmo replicadas internacionalmente – boas Ideias/bons negócio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59000" y="1009080"/>
            <a:ext cx="71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I ALENTEJO: UM CONJUNTO D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OAS PRÁTICA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 NÍVEL DA GESTÃO..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67000" y="1701720"/>
            <a:ext cx="726408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O PRAI-Alentejo enquanto meio promotor de informação sobre disponibilidades de financiamentos comunitários, instigando os  promotores a apresentar projectos relevantes para a Região.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Alguns dos projectos apresentados por parceiros públicos e privados, que não tinham possibilidade de ser apoiados financeiramente pelo PRAI, foram reencaminhados para outras fontes de financiamento comunitário. O facto de terem sido apoiados por esses Programas, demonstra a importância desta prátic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2.   Para além de procurar possíveis promotores, a Estrutura Técnica de Apoio (ETA) apoiou em vários projectos o processo de parceria, procurando em colaboração com os promotores os parceiros adequados a cada projecto.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O papel da ETA no trabalho de consolidação de projectos e parcerias foi essencial,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quer para a sua implementação quer em termos de sustentabilidade fu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87520" y="1103040"/>
            <a:ext cx="710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I ALENTEJO: UM CONJUNTO D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OAS PRÁTICA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 NÍVEL DA GESTÃO... A MERECER ATENÇÃO NO FUTURO PERÍODO DE PROGRAMAÇÃ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36760" y="2397240"/>
            <a:ext cx="7264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 papel pró-activo, de enorme disponibilidade, de ajuda na elaboração e apresentação das candidaturas por parte da EAT foi fundamental em toda a execução do Program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i notória alguma falta de experiência das entidades proponentes no desenvolvimento de projectos em parceria e nos domínios da investigação e tecnológico (note-se que os promotores estavam sobretudo habituados a apresentar projectos de natureza mater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28840" y="1022040"/>
            <a:ext cx="710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I ALENTEJO: UM CONJUNTO D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OAS PRÁTICA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 NÍVEL DA GESTÃO... A MERECER ATENÇÃO NO FUTURO PERÍODO DE PROGRAMAÇÃ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36760" y="2312280"/>
            <a:ext cx="72644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Dado o reduzido calendário de execução do Programa, foi fundamental a adopção de metodologias muito resolut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rande proximidade e ajuda ao promotor quando da concepção e apresentação da candidatur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do apresentada a candidatura era já analisada numa versão muito detalhada, sem necessitar de correcções (podia seguir imediatamente para a Unidade de Gestão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a imediatamente realizada a Unidade de Gestão (mesmo que fosse apenas para aprovar um único projecto), de modo a encurtar o tempo e conceder maior disponibilidade temporal à execuçã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9000" y="872640"/>
            <a:ext cx="710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I ALENTEJO: UM CONJUNTO D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OAS PRÁTICA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 MERECER ATENÇÃO NO FUTURO PERÍODO DE PROGRAMAÇÃ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67000" y="2022120"/>
            <a:ext cx="72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5. O constante incentivo por parte ETA à utilização de procedimentos modernos de de produção, comercialização e prestação de serviços e o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apoio à participação em certames nacionais e internacionais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, revelando o bom desempenho e competitividade de alguns dos projectos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A realização de </a:t>
            </a:r>
            <a:r>
              <a:rPr b="0" i="1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Focus Group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 temáticos e de um </a:t>
            </a:r>
            <a:r>
              <a:rPr b="0" i="1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Workshop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, no âmbito do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Plano Estratégico Regional de Inovação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, bem como a concretização de um dos projectos (Ciclos de Inovação) para além de terem possibilitado o aparecimento de potenciais parceiros para Acções, envolveu inúmeras entidades, públicas e privadas, que partilharam ideias e experiências, que poderão originar o lançamento de importantes iniciativas/projec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9000" y="1010880"/>
            <a:ext cx="71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EIRAS PISTAS PARA UM NOVO PROGRAMA/EIXO QUE INCIDA NAS QUESTÕES DA INOVAÇÃO NO ALENTE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94000" y="1652400"/>
            <a:ext cx="724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1. A concepção e aplicação de políticas regionais de inovação deverão ter em conta as especificidades e principais características sociais e económicas da Regiã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2. A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concretização do Plano Estratégico de Inovação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, desenvolvido ao abrigo deste Programa, permitirá que a Região disponha de um Quadro de Referência, com um diagnóstico detalhado da situação de partida, com uma série de linhas de orientação estratégica a seguir, que poderão e deverão consubstanciar um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Plano de Acção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dirigido para as dinâmicas existentes e emergentes ao nível dos diversos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clusters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regiona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3. É fundamental tirar partido de experiências obtidas noutros locais, aproveitar verdadeiramente as oportunidades decorrentes da participação em redes transregionais e transnacionais –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Erik 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59000" y="1010880"/>
            <a:ext cx="71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EIRAS PISTAS PARA UM NOVO PROGRAMA/EIXO QUE INCIDA NAS QUESTÕES DA INOVAÇÃO NO ALENTE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6120" y="1858320"/>
            <a:ext cx="7240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A Região, no futuro período de programação, deverá avançar rapidamente com uma série de projectos inovadores, sendo fundamental que, desde já, se procur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riar uma rede de parceiros/promotores público e priv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verdadeiramente interessados. Tendo igualmente a preocupação de um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ior diversificação territorial de tais parceiros/promo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Uma das boas práticas patenteadas deverá ser replicada no futuro, não só em programas desta natureza, mas em outros programas regionais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 pró-actividade das ET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or um lado, de constante e grande disponibilidade, para ajudar os promotores na elaboração e apresentação das candidaturas (grande proximidade entre a EAT e os promotores), por outro lado, ao nível da partilha de ideias, sugestões, caminhos e soluç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80960" y="1123920"/>
            <a:ext cx="776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VALIAÇÃO EXTE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 PROGRAMA REGIONAL DE ACÇÕES INOVADOR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A REGIÃO ALENTEJ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AI ALENT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4600" y="5029200"/>
            <a:ext cx="152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0760" y="6140520"/>
            <a:ext cx="21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. José Rodrigu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940520" y="5524560"/>
          <a:ext cx="103824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40520" y="5524560"/>
                    <a:ext cx="10382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0" y="5235480"/>
            <a:ext cx="1057320" cy="584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2600" y="467028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366920" y="3524400"/>
            <a:ext cx="75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prendizagens resultantes do processo de avali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0000" y="4670280"/>
            <a:ext cx="75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8760" y="3813120"/>
          <a:ext cx="7174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813120"/>
                    <a:ext cx="7174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347840" y="950760"/>
            <a:ext cx="75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TRUTURA DA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15960" y="2087640"/>
            <a:ext cx="7226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pectiva e aspectos metodológicos da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rendizagen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  Enquadramento e estrutura do Programa – Obstáculos e condicionant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  Impactes do Program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  Boas práticas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  Alguns elementos da aprendizagem para o próximo período de program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47800" y="4545000"/>
            <a:ext cx="672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8760" y="3813120"/>
          <a:ext cx="7174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813120"/>
                    <a:ext cx="7174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803240" y="2085840"/>
            <a:ext cx="672804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valiação focalizada em 5 aspe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arácter de alavancagem das Ac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arácter complementar das acções relativamente a outros investimentos do QCA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Relevância acrescida do partenariado como meio e objectivo do Pr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arácter demonstrativo dos projectos (focalização ao nível do project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Relevar da experiência empreendida elementos de aprendizagem para o próximo período de progra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47800" y="4545000"/>
            <a:ext cx="672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47840" y="950760"/>
            <a:ext cx="754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iderando os Objectivos Específicos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AI- Alentej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47840" y="950760"/>
            <a:ext cx="75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ÍNTESE DA ABORDAGEM METODOLÓGICA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00160" y="1660680"/>
            <a:ext cx="8031240" cy="44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134200" y="62118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47840" y="950760"/>
            <a:ext cx="7549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LATÓRIO PRELIMINA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PT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(FEVEREIRO 2006)</a:t>
            </a:r>
            <a:r>
              <a:rPr b="1" lang="pt-PT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54120" y="2068560"/>
            <a:ext cx="696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MPONENTES DA AVALIAÇÃO JÁ ABORDA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– Avaliação da Pertinência e Adequação da Estratégia do PRAI Alentejo à Regi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- Análise da Coerência Interna  e da Coerência Externa do PRAI Alent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 - Avaliação da Qualidade do Sistema de Gestão e Acompanha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V - Avaliação da Eficácia e Eficiência do PRAI Alente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52520" y="2093040"/>
            <a:ext cx="62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NCIPA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NTES DE INFORM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1520" y="2495520"/>
            <a:ext cx="7092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1. estatísticas e documentais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2. informação/indicadores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- retirados das fichas de candidatura e relatórios intercalares e finais dos projec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3. reuniões com a Estrutura de Apoio Técnico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4. casos de estudo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- apreciação dos projectos, com base numa matriz de avaliação (i. Planeamento e eficiência; ii.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Accountability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; iii. Implementação e sustentabilidad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82800" y="895320"/>
            <a:ext cx="4572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LATÓRIO PRELIMINA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(FEVEREIRO 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22640" y="1744560"/>
            <a:ext cx="57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ENQUADRAMENTO DO PR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4960" y="2293920"/>
            <a:ext cx="737892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PRAI–Alentejo insere-se nas grandes linhas orientadoras definidas pelos Estados Membros e Comissão Europeia, aquando da Cimeira de Lisboa em 2001 - as principais fontes de riqueza são o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hecimento e a inovaçã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PRAI reforça apoios e concede maior destaque e reconhecimento à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mensão regio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m todo este proce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Programa, pelo seu carácter pragmático, procur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forçar as parcerias regionais público-priv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ão obstante as inúmeras mais valias para o despoletar de parcerias e intervenções estruturantes do território, inicialment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ão foi formatado segundo uma lógica de incentivo às dinâmicas e necessidades territoriais próprias do Alentej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68280" y="913320"/>
            <a:ext cx="62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MA PRIMEIRA LEITU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62080" y="1684800"/>
            <a:ext cx="719784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esar do vasto leque de parceiros envolvidos desde o início (públicos e privados), apenas um restrito número de promotores apresentou projectos –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Justificaçõ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onstrangimentos orçamentais dos promoto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imposições/exigências do Pacto de Estabilidade e Crescimento) – dificuldade de assegurar a contrapartida nacional (não obstante a taxa de comparticipação ter sido excepcionalmente de 80%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ucessivas mudanças politicas e instituciona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 consequentemente ao nível das Estruturas Regionalmente Desconcentradas originaram alterações nos interlocutores com quem tinham sido negociados projectos e o aparecimento de novas orientações estratégicas por parte das entidades beneficiár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raca tradição de “trabalhos em parceria” na Regiã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bem como o desconhecimento, numa larga maioria de potenciais promotores/parceiros, das normas processuais a adoptar na elaboração de candidatur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26400" y="1188360"/>
            <a:ext cx="50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TÁCULOS/CONDICIONANTES INICIAI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16200000">
            <a:off x="-2897640" y="2888280"/>
            <a:ext cx="6858000" cy="1081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20640"/>
            <a:ext cx="9144000" cy="14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63360" y="591516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v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lho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77840" y="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VALIAÇÃO EXTERNA DO PROGRAMA REGIONAL DE ACÇÕES INOV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REGIÃO ALENTEJO – PRAI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5160" y="961560"/>
            <a:ext cx="68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JUSTE DA ESTRUTURA DO PROGRA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À REALIDADE DA REGIÃ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9520" y="1995480"/>
            <a:ext cx="719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Dadas as carências existentes ao nível da inovação previa-se o aparecimento de projectos muito interessantes em domínios carenciados, nomeadamente no estimulo e apoio a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clusters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regiona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Todavia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O Programa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, foi apresentado à Região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demasiado formatado/fechado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- Em alguns casos: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uma ideia – um projecto – uma Acção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. Algumas destas ideias, apresentadas por alguns promotores, não se concretizaram, limitando a acção da Gestão, impossibilitada de proceder à sua simples substitui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1800" spc="-1" strike="noStrike" u="sng">
                <a:solidFill>
                  <a:srgbClr val="ffffff"/>
                </a:solidFill>
                <a:uFillTx/>
                <a:latin typeface="Arial"/>
              </a:rPr>
              <a:t>Foi nas denominadas acções de natureza mais “aberta” que, porventura, foi mais enriquecedor e inovador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00160" y="3854520"/>
          <a:ext cx="6760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854520"/>
                    <a:ext cx="6760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5248440"/>
            <a:ext cx="1057320" cy="583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2600" y="4683240"/>
            <a:ext cx="1044720" cy="438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134200" y="6032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15:00:17Z</dcterms:created>
  <dc:creator>cedru</dc:creator>
  <dc:description/>
  <dc:language>en-US</dc:language>
  <cp:lastModifiedBy>Pentium</cp:lastModifiedBy>
  <dcterms:modified xsi:type="dcterms:W3CDTF">2006-07-11T23:49:08Z</dcterms:modified>
  <cp:revision>190</cp:revision>
  <dc:subject/>
  <dc:title>Sem título de diapositivo</dc:title>
</cp:coreProperties>
</file>