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8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10.png" ContentType="image/png"/>
  <Override PartName="/ppt/media/image36.png" ContentType="image/png"/>
  <Override PartName="/ppt/media/image6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media/image19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1E3C-05B7-4096-8B30-70512B61C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600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B157-C9E5-4958-BE85-88F808AB4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600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600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E367-ABA3-42B0-9F16-D53281D3F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600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600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600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7DC8-4F91-43E2-B34C-B7F952E43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6D6BC-38E7-4728-937E-12E1AACF74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EFA3E-54A9-48E4-AB4F-3B301C2636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82514-EEAC-4DCF-A0EA-C911F36588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AAC37-38A3-4D09-BE13-91FD2C5ADD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FA5A6-310C-4B0B-9B40-9CC2A7AC04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58E9C-4F52-476C-AD6D-339BA6579B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1600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EF29D-8084-40F5-B8AF-C1C6DA67F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33D7-DD12-48DC-9E42-98CFB9F91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1600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59114-3D1D-4290-B920-FFBA7FE620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600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0B266-7818-461B-81B6-94664C5AC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1600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BF145-2A69-4A21-84B8-086E3B0593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600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1600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66C76-A559-4E05-81BB-B3C5096529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1600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1600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1600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7B735-290D-46BA-9FDD-36ABDCDC2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E2F2-0770-4444-8C10-573AFFBB0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3D87-5133-467C-8B48-BFAD749F9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A0DE-4FBA-4795-9745-961B27EBC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A269-F80E-4F9D-9F44-CF0049F57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600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2289-44CA-4195-A637-B04DEC832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600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60B9-415E-4AB2-B8DE-0F1D84EFE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600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A929-C160-4E6E-8D4E-F7C760C5F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439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25800" y="6337080"/>
            <a:ext cx="575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0720" y="6324480"/>
            <a:ext cx="1303560" cy="403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244000" y="6337080"/>
            <a:ext cx="44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127F-F396-4BF6-88DE-4E3DCE88299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4395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468360" y="6337080"/>
            <a:ext cx="741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652480" cy="82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8244000" y="6337080"/>
            <a:ext cx="44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63D-BA5B-4787-8E78-71040F8A736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pn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jpe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jpeg"/><Relationship Id="rId22" Type="http://schemas.openxmlformats.org/officeDocument/2006/relationships/image" Target="../media/image30.jpe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33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2895120"/>
            <a:ext cx="738036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3399"/>
                </a:solidFill>
                <a:latin typeface="Arial"/>
              </a:rPr>
              <a:t>Life sciences in Flanders:  </a:t>
            </a:r>
            <a:br>
              <a:rPr sz="2800"/>
            </a:br>
            <a:r>
              <a:rPr b="1" lang="nl-BE" sz="2800" spc="-1" strike="noStrike">
                <a:solidFill>
                  <a:srgbClr val="003399"/>
                </a:solidFill>
                <a:latin typeface="Arial"/>
              </a:rPr>
              <a:t>FlandersBio &amp; VIB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B10D-16EF-49EE-8428-DEBD18C884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99"/>
                </a:solidFill>
                <a:latin typeface="Arial"/>
              </a:rPr>
              <a:t>FlandersBio  - How do we work ?</a:t>
            </a: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484280"/>
            <a:ext cx="8229600" cy="4471560"/>
            <a:chOff x="457200" y="1484280"/>
            <a:chExt cx="8229600" cy="4471560"/>
          </a:xfrm>
        </p:grpSpPr>
        <p:cxnSp>
          <p:nvCxnSpPr>
            <p:cNvPr id="128" name="_s128005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514480" y="2268360"/>
              <a:ext cx="1016280" cy="2902320"/>
            </a:xfrm>
            <a:prstGeom prst="bentConnector3">
              <a:avLst>
                <a:gd name="adj1" fmla="val 112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128006"/>
            <p:cNvCxnSpPr>
              <a:stCxn id="132" idx="0"/>
              <a:endCxn id="130" idx="2"/>
            </p:cNvCxnSpPr>
            <p:nvPr/>
          </p:nvCxnSpPr>
          <p:spPr>
            <a:xfrm flipV="1">
              <a:off x="4572000" y="3211560"/>
              <a:ext cx="1440" cy="101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28007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612880" y="2268360"/>
              <a:ext cx="1016280" cy="2902680"/>
            </a:xfrm>
            <a:prstGeom prst="bentConnector3">
              <a:avLst>
                <a:gd name="adj1" fmla="val 112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128008"/>
            <p:cNvSpPr/>
            <p:nvPr/>
          </p:nvSpPr>
          <p:spPr>
            <a:xfrm>
              <a:off x="3359160" y="148428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andersBio Bo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28009"/>
            <p:cNvSpPr/>
            <p:nvPr/>
          </p:nvSpPr>
          <p:spPr>
            <a:xfrm>
              <a:off x="457200" y="422784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</a:rPr>
                <a:t>Steering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</a:rPr>
                <a:t>Biote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28010"/>
            <p:cNvSpPr/>
            <p:nvPr/>
          </p:nvSpPr>
          <p:spPr>
            <a:xfrm>
              <a:off x="3359160" y="422784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Arial"/>
                </a:rPr>
                <a:t>Steering Committ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Arial"/>
                </a:rPr>
                <a:t>Bio-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8011"/>
            <p:cNvSpPr/>
            <p:nvPr/>
          </p:nvSpPr>
          <p:spPr>
            <a:xfrm>
              <a:off x="6261120" y="422784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</a:rPr>
                <a:t>Steering Committee Med te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tebulb"/>
            <p:cNvSpPr/>
            <p:nvPr/>
          </p:nvSpPr>
          <p:spPr>
            <a:xfrm>
              <a:off x="6732720" y="3574800"/>
              <a:ext cx="1584360" cy="238104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42920" y="3500280"/>
            <a:ext cx="1584360" cy="2381400"/>
            <a:chOff x="1042920" y="3500280"/>
            <a:chExt cx="1584360" cy="2381400"/>
          </a:xfrm>
        </p:grpSpPr>
        <p:sp>
          <p:nvSpPr>
            <p:cNvPr id="137" name="Litebulb"/>
            <p:cNvSpPr/>
            <p:nvPr/>
          </p:nvSpPr>
          <p:spPr>
            <a:xfrm>
              <a:off x="1042920" y="3500280"/>
              <a:ext cx="1584360" cy="238140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8920" y="4005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Arial"/>
                </a:rPr>
                <a:t>IWT - T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87708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IWT - 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08360" y="3573360"/>
            <a:ext cx="1584360" cy="2381400"/>
            <a:chOff x="3708360" y="3573360"/>
            <a:chExt cx="1584360" cy="2381400"/>
          </a:xfrm>
        </p:grpSpPr>
        <p:sp>
          <p:nvSpPr>
            <p:cNvPr id="141" name="Litebulb"/>
            <p:cNvSpPr/>
            <p:nvPr/>
          </p:nvSpPr>
          <p:spPr>
            <a:xfrm>
              <a:off x="3708360" y="3573360"/>
              <a:ext cx="1584360" cy="238140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24360" y="4078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Arial"/>
                </a:rPr>
                <a:t>IWT - T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8FCC-C8CD-4E93-B018-E3308BF7E6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D bio-IT : Organiz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by Flanders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dvisors-coordin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ie Beka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IOBIX, FBE, U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t Coess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SAT-SCD, KULeu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ring committ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sure project goals are in tune with the sector’s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number of members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and providers of bioinformatics sol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d Maths, Genohm, PharmaDM, Algonomics, Silicos, 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Devgen, Bayer CropScience, Galápagos, Tibotec-Virco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epresentatives of the board of Flanders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D358-8EB5-4E1B-B126-96A9057E49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D bio-IT : Goal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use of customized bioinformatics applications and database management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wareness and more sensible use of bioinformatics and data management/mining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nd better interactions between Flemish biotech companies and bioinformatics expert ce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informatics education that better meets the needs of the biotech indu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manent facilitating effect on future bioinformatics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4195-855F-4649-A3E4-16B95052F5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D bio-IT: Servic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-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and distribute bioinformatics-rel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workshops on hot top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al data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: who’s-who, experts compendium, annu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short questions (max. 2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ance towards possible collab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0B01-7F77-4734-950E-865D7AF5E1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D project : Bioscope -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cope-IT provides Technological Advice to the biotech sector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 pro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2 year, 80% of total cost f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of total cost through strategic sponsorship and revenue from services/semin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4360" y="3573360"/>
          <a:ext cx="7543800" cy="21607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219320"/>
                <a:gridCol w="1218960"/>
                <a:gridCol w="1219320"/>
                <a:gridCol w="1219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.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.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.8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.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8.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idy (8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.9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.4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.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.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C8B2-3FBC-48AE-A64E-C0F82D8184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D project : Bioscope -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GTA ( thorough technological advice – limited sc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Up to 10 days (max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Credit line : € 111.000 (4 y peri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7DB3-D679-4CC0-B63B-7FCEB37780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VIB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900 scientists and tech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3429000"/>
            <a:ext cx="79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60 research groups in 9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4005360"/>
            <a:ext cx="795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4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632400" cy="1778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26920" y="4581360"/>
            <a:ext cx="79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research budget 60 M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03280" y="5013360"/>
            <a:ext cx="6837120" cy="1223640"/>
            <a:chOff x="1403280" y="5013360"/>
            <a:chExt cx="6837120" cy="1223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403280" y="5232960"/>
              <a:ext cx="946080" cy="78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4071960" y="5334840"/>
              <a:ext cx="153108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6159600" y="5375880"/>
              <a:ext cx="208080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2904120" y="5013360"/>
              <a:ext cx="611640" cy="12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stitute without Wall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619280" y="1557360"/>
            <a:ext cx="6847920" cy="1044720"/>
            <a:chOff x="1619280" y="1557360"/>
            <a:chExt cx="6847920" cy="104472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619280" y="1744920"/>
              <a:ext cx="94752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292280" y="1832040"/>
              <a:ext cx="153324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383160" y="1866960"/>
              <a:ext cx="208404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3122280" y="1557360"/>
              <a:ext cx="612360" cy="10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971640" y="2852640"/>
            <a:ext cx="7735680" cy="2568600"/>
            <a:chOff x="971640" y="2852640"/>
            <a:chExt cx="7735680" cy="2568600"/>
          </a:xfrm>
        </p:grpSpPr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971640" y="2852640"/>
              <a:ext cx="7735680" cy="25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916000" y="36496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3366"/>
                  </a:solidFill>
                  <a:latin typeface="Arial"/>
                </a:rPr>
                <a:t>Gh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80000" y="3297240"/>
              <a:ext cx="11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3366"/>
                  </a:solidFill>
                  <a:latin typeface="Arial"/>
                </a:rPr>
                <a:t>Antwer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51280" y="4773600"/>
              <a:ext cx="11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3366"/>
                  </a:solidFill>
                  <a:latin typeface="Arial"/>
                </a:rPr>
                <a:t>Louv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75000" y="3638520"/>
              <a:ext cx="145800" cy="1224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86280" y="4506840"/>
              <a:ext cx="145440" cy="1224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61080" y="4567320"/>
              <a:ext cx="145440" cy="1220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19640" y="4592520"/>
              <a:ext cx="12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3366"/>
                  </a:solidFill>
                  <a:latin typeface="Arial"/>
                </a:rPr>
                <a:t>Bruss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03520" y="3973320"/>
              <a:ext cx="145800" cy="1224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0040" y="3752640"/>
              <a:ext cx="178920" cy="1447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27680" y="4437000"/>
              <a:ext cx="178920" cy="1443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4687920"/>
              <a:ext cx="178920" cy="1443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48040" y="4437000"/>
              <a:ext cx="179280" cy="1443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75320" y="4579920"/>
              <a:ext cx="178920" cy="1443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98960" y="4545000"/>
              <a:ext cx="178920" cy="1443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06600" y="4005360"/>
              <a:ext cx="178920" cy="1443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87680" y="4113000"/>
              <a:ext cx="178920" cy="1447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66960" y="4005360"/>
              <a:ext cx="178920" cy="1443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5D15-9ECD-4DE1-B7F3-3C485688A6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VIB: Mission &amp; Objectiv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o conduct top level research in life sciences for the benefit of scientific progress and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trategic basic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ranslate research results into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ublic outreach &amp;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0D25-F220-46D9-97BE-729BDFB4FB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99"/>
                </a:solidFill>
                <a:latin typeface="Arial"/>
              </a:rPr>
              <a:t>Basic Research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9567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olecular mechanism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Growt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Health and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lant Systems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C0C2-C263-4F6D-B50B-44B92D33E5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Presentation outlin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Life sciences in Fla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landers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xamples of IWT funding  for FlandersBio –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AFFB-DCD5-42C8-916C-7CFE89C4F6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4751280" y="1341360"/>
            <a:ext cx="4249800" cy="2935440"/>
            <a:chOff x="4751280" y="1341360"/>
            <a:chExt cx="4249800" cy="293544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9579" t="0" r="23035" b="0"/>
            <a:stretch/>
          </p:blipFill>
          <p:spPr>
            <a:xfrm>
              <a:off x="7236000" y="1341360"/>
              <a:ext cx="1765080" cy="53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4751280" y="1341360"/>
              <a:ext cx="1548000" cy="525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8136000" y="2565360"/>
              <a:ext cx="865080" cy="52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98" name="" descr=""/>
            <p:cNvPicPr/>
            <p:nvPr/>
          </p:nvPicPr>
          <p:blipFill>
            <a:blip r:embed="rId4">
              <a:alphaModFix amt="0"/>
            </a:blip>
            <a:srcRect l="28258" t="10038" r="28149" b="10710"/>
            <a:stretch/>
          </p:blipFill>
          <p:spPr>
            <a:xfrm>
              <a:off x="6480000" y="1341360"/>
              <a:ext cx="613080" cy="576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99" name="" descr=""/>
            <p:cNvPicPr/>
            <p:nvPr/>
          </p:nvPicPr>
          <p:blipFill>
            <a:blip r:embed="rId5"/>
            <a:srcRect l="-2109" t="5454" r="66974" b="8099"/>
            <a:stretch/>
          </p:blipFill>
          <p:spPr>
            <a:xfrm>
              <a:off x="8424720" y="3249720"/>
              <a:ext cx="576360" cy="576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00" name="" descr=""/>
            <p:cNvPicPr/>
            <p:nvPr/>
          </p:nvPicPr>
          <p:blipFill>
            <a:blip r:embed="rId6"/>
            <a:stretch/>
          </p:blipFill>
          <p:spPr>
            <a:xfrm>
              <a:off x="7488360" y="1989000"/>
              <a:ext cx="1512720" cy="432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01" name="" descr=""/>
            <p:cNvPicPr/>
            <p:nvPr/>
          </p:nvPicPr>
          <p:blipFill>
            <a:blip r:embed="rId7"/>
            <a:stretch/>
          </p:blipFill>
          <p:spPr>
            <a:xfrm>
              <a:off x="7632720" y="4041720"/>
              <a:ext cx="1368360" cy="235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202" name=""/>
          <p:cNvSpPr/>
          <p:nvPr/>
        </p:nvSpPr>
        <p:spPr>
          <a:xfrm>
            <a:off x="2303640" y="1341360"/>
            <a:ext cx="65991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fer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24360" y="2960640"/>
            <a:ext cx="2002680" cy="1189080"/>
            <a:chOff x="5724360" y="2960640"/>
            <a:chExt cx="2002680" cy="1189080"/>
          </a:xfrm>
        </p:grpSpPr>
        <p:sp>
          <p:nvSpPr>
            <p:cNvPr id="204" name=""/>
            <p:cNvSpPr/>
            <p:nvPr/>
          </p:nvSpPr>
          <p:spPr>
            <a:xfrm flipH="1">
              <a:off x="5724360" y="2960640"/>
              <a:ext cx="1873440" cy="1189080"/>
            </a:xfrm>
            <a:prstGeom prst="flowChartOnlineStorag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878200">
              <a:off x="5834160" y="3284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Agre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H="1">
            <a:off x="4210920" y="3033720"/>
            <a:ext cx="1873080" cy="1260360"/>
          </a:xfrm>
          <a:prstGeom prst="flowChartOnlineStorag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0920" y="1233360"/>
            <a:ext cx="3603600" cy="4888080"/>
            <a:chOff x="250920" y="1233360"/>
            <a:chExt cx="3603600" cy="4888080"/>
          </a:xfrm>
        </p:grpSpPr>
        <p:pic>
          <p:nvPicPr>
            <p:cNvPr id="208" name="" descr=""/>
            <p:cNvPicPr/>
            <p:nvPr/>
          </p:nvPicPr>
          <p:blipFill>
            <a:blip r:embed="rId8"/>
            <a:stretch/>
          </p:blipFill>
          <p:spPr>
            <a:xfrm>
              <a:off x="2050920" y="1233360"/>
              <a:ext cx="1297080" cy="6811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09" name="" descr=""/>
            <p:cNvPicPr/>
            <p:nvPr/>
          </p:nvPicPr>
          <p:blipFill>
            <a:blip r:embed="rId9"/>
            <a:stretch/>
          </p:blipFill>
          <p:spPr>
            <a:xfrm>
              <a:off x="1295280" y="1628640"/>
              <a:ext cx="939960" cy="731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10" name="" descr=""/>
            <p:cNvPicPr/>
            <p:nvPr/>
          </p:nvPicPr>
          <p:blipFill>
            <a:blip r:embed="rId10"/>
            <a:stretch/>
          </p:blipFill>
          <p:spPr>
            <a:xfrm>
              <a:off x="468360" y="2168640"/>
              <a:ext cx="1106280" cy="5634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11" name="" descr=""/>
            <p:cNvPicPr/>
            <p:nvPr/>
          </p:nvPicPr>
          <p:blipFill>
            <a:blip r:embed="rId11"/>
            <a:stretch/>
          </p:blipFill>
          <p:spPr>
            <a:xfrm>
              <a:off x="250920" y="2673360"/>
              <a:ext cx="1008000" cy="747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12" name="" descr=""/>
            <p:cNvPicPr/>
            <p:nvPr/>
          </p:nvPicPr>
          <p:blipFill>
            <a:blip r:embed="rId12"/>
            <a:stretch/>
          </p:blipFill>
          <p:spPr>
            <a:xfrm>
              <a:off x="539640" y="3249720"/>
              <a:ext cx="482760" cy="10429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13" name="" descr=""/>
            <p:cNvPicPr/>
            <p:nvPr/>
          </p:nvPicPr>
          <p:blipFill>
            <a:blip r:embed="rId13"/>
            <a:stretch/>
          </p:blipFill>
          <p:spPr>
            <a:xfrm>
              <a:off x="755640" y="3860640"/>
              <a:ext cx="888840" cy="8161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14" name="" descr=""/>
            <p:cNvPicPr/>
            <p:nvPr/>
          </p:nvPicPr>
          <p:blipFill>
            <a:blip r:embed="rId14"/>
            <a:stretch/>
          </p:blipFill>
          <p:spPr>
            <a:xfrm>
              <a:off x="1116000" y="4222800"/>
              <a:ext cx="657360" cy="10429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215" name=""/>
            <p:cNvGrpSpPr/>
            <p:nvPr/>
          </p:nvGrpSpPr>
          <p:grpSpPr>
            <a:xfrm>
              <a:off x="1511280" y="4581360"/>
              <a:ext cx="966960" cy="933480"/>
              <a:chOff x="1511280" y="4581360"/>
              <a:chExt cx="966960" cy="9334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5">
                <a:lum bright="24000"/>
              </a:blip>
              <a:stretch/>
            </p:blipFill>
            <p:spPr>
              <a:xfrm>
                <a:off x="1511280" y="4581360"/>
                <a:ext cx="966960" cy="43812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</p:pic>
          <p:pic>
            <p:nvPicPr>
              <p:cNvPr id="21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11280" y="5038920"/>
                <a:ext cx="964080" cy="47592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</p:pic>
        </p:grpSp>
        <p:pic>
          <p:nvPicPr>
            <p:cNvPr id="218" name="" descr=""/>
            <p:cNvPicPr/>
            <p:nvPr/>
          </p:nvPicPr>
          <p:blipFill>
            <a:blip r:embed="rId17"/>
            <a:stretch/>
          </p:blipFill>
          <p:spPr>
            <a:xfrm>
              <a:off x="1979640" y="5229360"/>
              <a:ext cx="919080" cy="7380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19" name="" descr=""/>
            <p:cNvPicPr/>
            <p:nvPr/>
          </p:nvPicPr>
          <p:blipFill>
            <a:blip r:embed="rId18"/>
            <a:stretch/>
          </p:blipFill>
          <p:spPr>
            <a:xfrm>
              <a:off x="2592360" y="5553000"/>
              <a:ext cx="1262160" cy="568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220" name=""/>
          <p:cNvSpPr/>
          <p:nvPr/>
        </p:nvSpPr>
        <p:spPr>
          <a:xfrm>
            <a:off x="4427640" y="3249720"/>
            <a:ext cx="176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ecord of I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492000" y="3033720"/>
            <a:ext cx="1873080" cy="1260360"/>
            <a:chOff x="3492000" y="3033720"/>
            <a:chExt cx="1873080" cy="1260360"/>
          </a:xfrm>
        </p:grpSpPr>
        <p:sp>
          <p:nvSpPr>
            <p:cNvPr id="222" name=""/>
            <p:cNvSpPr/>
            <p:nvPr/>
          </p:nvSpPr>
          <p:spPr>
            <a:xfrm flipH="1">
              <a:off x="3491640" y="3033720"/>
              <a:ext cx="1873080" cy="1260360"/>
            </a:xfrm>
            <a:prstGeom prst="flowChartOnlineStorag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32000" y="339264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IP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56000" y="3429000"/>
            <a:ext cx="1998720" cy="1189080"/>
            <a:chOff x="5256000" y="3429000"/>
            <a:chExt cx="1998720" cy="1189080"/>
          </a:xfrm>
        </p:grpSpPr>
        <p:sp>
          <p:nvSpPr>
            <p:cNvPr id="225" name=""/>
            <p:cNvSpPr/>
            <p:nvPr/>
          </p:nvSpPr>
          <p:spPr>
            <a:xfrm flipH="1">
              <a:off x="5255640" y="3429000"/>
              <a:ext cx="1873080" cy="1189080"/>
            </a:xfrm>
            <a:prstGeom prst="flowChartOnlineStorage">
              <a:avLst/>
            </a:prstGeom>
            <a:solidFill>
              <a:srgbClr val="0099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420000">
              <a:off x="5365800" y="3752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Start-u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832360" y="3429000"/>
            <a:ext cx="3168720" cy="2527200"/>
            <a:chOff x="5832360" y="3429000"/>
            <a:chExt cx="3168720" cy="2527200"/>
          </a:xfrm>
        </p:grpSpPr>
        <p:pic>
          <p:nvPicPr>
            <p:cNvPr id="228" name="" descr=""/>
            <p:cNvPicPr/>
            <p:nvPr/>
          </p:nvPicPr>
          <p:blipFill>
            <a:blip r:embed="rId19"/>
            <a:stretch/>
          </p:blipFill>
          <p:spPr>
            <a:xfrm>
              <a:off x="8091360" y="3429000"/>
              <a:ext cx="909720" cy="714240"/>
            </a:xfrm>
            <a:prstGeom prst="rect">
              <a:avLst/>
            </a:prstGeom>
            <a:ln w="1908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29" name="" descr=""/>
            <p:cNvPicPr/>
            <p:nvPr/>
          </p:nvPicPr>
          <p:blipFill>
            <a:blip r:embed="rId20"/>
            <a:stretch/>
          </p:blipFill>
          <p:spPr>
            <a:xfrm>
              <a:off x="7848720" y="4400640"/>
              <a:ext cx="909360" cy="725400"/>
            </a:xfrm>
            <a:prstGeom prst="rect">
              <a:avLst/>
            </a:prstGeom>
            <a:ln w="1908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30" name="" descr=""/>
            <p:cNvPicPr/>
            <p:nvPr/>
          </p:nvPicPr>
          <p:blipFill>
            <a:blip r:embed="rId21"/>
            <a:stretch/>
          </p:blipFill>
          <p:spPr>
            <a:xfrm>
              <a:off x="5832360" y="4834080"/>
              <a:ext cx="1800360" cy="409320"/>
            </a:xfrm>
            <a:prstGeom prst="rect">
              <a:avLst/>
            </a:prstGeom>
            <a:ln w="1908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31" name="" descr=""/>
            <p:cNvPicPr/>
            <p:nvPr/>
          </p:nvPicPr>
          <p:blipFill>
            <a:blip r:embed="rId22"/>
            <a:stretch/>
          </p:blipFill>
          <p:spPr>
            <a:xfrm>
              <a:off x="7596360" y="5445000"/>
              <a:ext cx="1225440" cy="511200"/>
            </a:xfrm>
            <a:prstGeom prst="rect">
              <a:avLst/>
            </a:prstGeom>
            <a:ln w="1908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232" name=""/>
          <p:cNvGrpSpPr/>
          <p:nvPr/>
        </p:nvGrpSpPr>
        <p:grpSpPr>
          <a:xfrm>
            <a:off x="4032360" y="1341360"/>
            <a:ext cx="4879800" cy="3348000"/>
            <a:chOff x="4032360" y="1341360"/>
            <a:chExt cx="4879800" cy="3348000"/>
          </a:xfrm>
        </p:grpSpPr>
        <p:grpSp>
          <p:nvGrpSpPr>
            <p:cNvPr id="233" name=""/>
            <p:cNvGrpSpPr/>
            <p:nvPr/>
          </p:nvGrpSpPr>
          <p:grpSpPr>
            <a:xfrm>
              <a:off x="4032360" y="1341360"/>
              <a:ext cx="2808000" cy="505080"/>
              <a:chOff x="4032360" y="1341360"/>
              <a:chExt cx="2808000" cy="505080"/>
            </a:xfrm>
          </p:grpSpPr>
          <p:pic>
            <p:nvPicPr>
              <p:cNvPr id="234" name="" descr=""/>
              <p:cNvPicPr/>
              <p:nvPr/>
            </p:nvPicPr>
            <p:blipFill>
              <a:blip r:embed="rId23"/>
              <a:srcRect l="4939" t="9612" r="3759" b="16661"/>
              <a:stretch/>
            </p:blipFill>
            <p:spPr>
              <a:xfrm>
                <a:off x="4032360" y="1341360"/>
                <a:ext cx="2808000" cy="505080"/>
              </a:xfrm>
              <a:prstGeom prst="rect">
                <a:avLst/>
              </a:prstGeom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235" name=""/>
              <p:cNvSpPr/>
              <p:nvPr/>
            </p:nvSpPr>
            <p:spPr>
              <a:xfrm>
                <a:off x="5131080" y="1780560"/>
                <a:ext cx="1525680" cy="6552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6" name="" descr=""/>
            <p:cNvPicPr/>
            <p:nvPr/>
          </p:nvPicPr>
          <p:blipFill>
            <a:blip r:embed="rId24"/>
            <a:srcRect l="0" t="0" r="0" b="25022"/>
            <a:stretch/>
          </p:blipFill>
          <p:spPr>
            <a:xfrm>
              <a:off x="7851600" y="2073240"/>
              <a:ext cx="1060560" cy="393840"/>
            </a:xfrm>
            <a:prstGeom prst="rect">
              <a:avLst/>
            </a:prstGeom>
            <a:ln w="1260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37" name="" descr=""/>
            <p:cNvPicPr/>
            <p:nvPr/>
          </p:nvPicPr>
          <p:blipFill>
            <a:blip r:embed="rId25"/>
            <a:stretch/>
          </p:blipFill>
          <p:spPr>
            <a:xfrm>
              <a:off x="7012080" y="1357200"/>
              <a:ext cx="1008000" cy="489240"/>
            </a:xfrm>
            <a:prstGeom prst="rect">
              <a:avLst/>
            </a:prstGeom>
            <a:ln w="1260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38" name="" descr=""/>
            <p:cNvPicPr/>
            <p:nvPr/>
          </p:nvPicPr>
          <p:blipFill>
            <a:blip r:embed="rId26"/>
            <a:stretch/>
          </p:blipFill>
          <p:spPr>
            <a:xfrm>
              <a:off x="7632720" y="2695680"/>
              <a:ext cx="1279440" cy="42372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39" name="" descr=""/>
            <p:cNvPicPr/>
            <p:nvPr/>
          </p:nvPicPr>
          <p:blipFill>
            <a:blip r:embed="rId27"/>
            <a:stretch/>
          </p:blipFill>
          <p:spPr>
            <a:xfrm>
              <a:off x="8191440" y="1346040"/>
              <a:ext cx="720720" cy="50040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40" name="" descr=""/>
            <p:cNvPicPr/>
            <p:nvPr/>
          </p:nvPicPr>
          <p:blipFill>
            <a:blip r:embed="rId28"/>
            <a:stretch/>
          </p:blipFill>
          <p:spPr>
            <a:xfrm>
              <a:off x="7580160" y="3348000"/>
              <a:ext cx="1332000" cy="68112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41" name="" descr=""/>
            <p:cNvPicPr/>
            <p:nvPr/>
          </p:nvPicPr>
          <p:blipFill>
            <a:blip r:embed="rId29"/>
            <a:srcRect l="0" t="0" r="0" b="9373"/>
            <a:stretch/>
          </p:blipFill>
          <p:spPr>
            <a:xfrm>
              <a:off x="6588000" y="4257720"/>
              <a:ext cx="2324160" cy="43164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42" name=""/>
            <p:cNvSpPr/>
            <p:nvPr/>
          </p:nvSpPr>
          <p:spPr>
            <a:xfrm>
              <a:off x="7343640" y="4616280"/>
              <a:ext cx="1549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050920" y="274680"/>
            <a:ext cx="7093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Tech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685B-E952-440B-9B64-F94A5DFBE2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4 0.00579 L 0.33854 -0.00185 E">
                                      <p:cBhvr>
                                        <p:cTn id="61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6185E-006 L -0.2875 0.00254 E">
                                      <p:cBhvr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6185E-006 L -0.27951 -0.00277 E">
                                      <p:cBhvr>
                                        <p:cTn id="7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your results into products for the benefit of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 econom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research € to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rich your academic experiences through contacts with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A6F7-0073-4487-9EEB-CFE57201C591}" type="slidenum">
              <a:t>21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Public Outreach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information on life sciences &amp; gen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chnical &amp; scientific asp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, economical, ethical and societal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based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izens need to be informed about ‘issue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nding tax payers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 youngsters for a scientific car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 balanced, informe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981000"/>
            <a:ext cx="1406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3068640"/>
            <a:ext cx="1262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o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Life sciences in Fland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R&amp;D/ production based life science companies in Flan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Biomedical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Red’ Biotech  &gt; 1500 persons  – 45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harma &gt;  2000 persons - 2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ed tech  &gt; 3000 persons -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ndustrial bio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dicated ‘white’ biotech  approx. 400 persons - 3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Agro(food) biot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dicated ‘green’ biotech approx. 400 persons in 3 companies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7FF8-607D-4B30-BE97-745695AB5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20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ndersBio is acting as a driving force for the sustained growth of the Flemish knowledge-based bio-economy by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ng the flow of knowledge between -and collaboration among- participan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366cc"/>
                </a:solidFill>
                <a:latin typeface="Arial"/>
              </a:rPr>
              <a:t>→ network(ing)/collaboration projects/training seminar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supportive environment for life sci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366cc"/>
                </a:solidFill>
                <a:latin typeface="Arial"/>
              </a:rPr>
              <a:t>→ infrastructure/funding/regulatory/fisca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ing the international visibility and reputation of Flanders as a life sciences reg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366cc"/>
                </a:solidFill>
                <a:latin typeface="Arial"/>
              </a:rPr>
              <a:t>→ trade : fact sheets / trade fair / press miss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3366cc"/>
                </a:solidFill>
                <a:latin typeface="Arial"/>
              </a:rPr>
              <a:t> → </a:t>
            </a:r>
            <a:r>
              <a:rPr b="0" lang="nl-NL" sz="1800" spc="-1" strike="noStrike">
                <a:solidFill>
                  <a:srgbClr val="3366cc"/>
                </a:solidFill>
                <a:latin typeface="Arial"/>
              </a:rPr>
              <a:t>invest: 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pro-actively contacting and guiding life science companies 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willing to invest in Flanders </a:t>
            </a:r>
            <a:br>
              <a:rPr sz="1800"/>
            </a:b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3399"/>
                </a:solidFill>
                <a:latin typeface="Arial"/>
              </a:rPr>
              <a:t>FlandersBio  - Missio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074B-7090-49D9-8A80-EC53BC4839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99"/>
                </a:solidFill>
                <a:latin typeface="Arial"/>
              </a:rPr>
              <a:t>FlandersBio  - How do we work ?</a:t>
            </a: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484280"/>
            <a:ext cx="8229600" cy="4471560"/>
            <a:chOff x="457200" y="1484280"/>
            <a:chExt cx="8229600" cy="4471560"/>
          </a:xfrm>
        </p:grpSpPr>
        <p:cxnSp>
          <p:nvCxnSpPr>
            <p:cNvPr id="95" name="_s121861"/>
            <p:cNvCxnSpPr>
              <a:stCxn id="96" idx="0"/>
              <a:endCxn id="97" idx="2"/>
            </p:cNvCxnSpPr>
            <p:nvPr/>
          </p:nvCxnSpPr>
          <p:spPr>
            <a:xfrm flipV="1" rot="16200000">
              <a:off x="5514480" y="2268360"/>
              <a:ext cx="1016280" cy="2902320"/>
            </a:xfrm>
            <a:prstGeom prst="bentConnector3">
              <a:avLst>
                <a:gd name="adj1" fmla="val 112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21862"/>
            <p:cNvCxnSpPr>
              <a:stCxn id="99" idx="0"/>
              <a:endCxn id="97" idx="2"/>
            </p:cNvCxnSpPr>
            <p:nvPr/>
          </p:nvCxnSpPr>
          <p:spPr>
            <a:xfrm flipV="1">
              <a:off x="4572000" y="3211560"/>
              <a:ext cx="1440" cy="101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21863"/>
            <p:cNvCxnSpPr>
              <a:stCxn id="101" idx="0"/>
              <a:endCxn id="97" idx="2"/>
            </p:cNvCxnSpPr>
            <p:nvPr/>
          </p:nvCxnSpPr>
          <p:spPr>
            <a:xfrm flipH="1" flipV="1" rot="5400000">
              <a:off x="2612880" y="2268360"/>
              <a:ext cx="1016280" cy="2902680"/>
            </a:xfrm>
            <a:prstGeom prst="bentConnector3">
              <a:avLst>
                <a:gd name="adj1" fmla="val 112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7" name="_s121864"/>
            <p:cNvSpPr/>
            <p:nvPr/>
          </p:nvSpPr>
          <p:spPr>
            <a:xfrm>
              <a:off x="3359160" y="148428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andersBio Bo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21865"/>
            <p:cNvSpPr/>
            <p:nvPr/>
          </p:nvSpPr>
          <p:spPr>
            <a:xfrm>
              <a:off x="457200" y="422784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</a:rPr>
                <a:t>Steering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</a:rPr>
                <a:t>Biote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21866"/>
            <p:cNvSpPr/>
            <p:nvPr/>
          </p:nvSpPr>
          <p:spPr>
            <a:xfrm>
              <a:off x="3359160" y="422784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Arial"/>
                </a:rPr>
                <a:t>Steering Committ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Arial"/>
                </a:rPr>
                <a:t>Bio-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21867"/>
            <p:cNvSpPr/>
            <p:nvPr/>
          </p:nvSpPr>
          <p:spPr>
            <a:xfrm>
              <a:off x="6261120" y="422784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</a:rPr>
                <a:t>Steering Committee Med te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C70D-0394-429F-B3F5-EF2F274D0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99"/>
                </a:solidFill>
                <a:latin typeface="Arial"/>
              </a:rPr>
              <a:t>FlandersBio  - How do we work ?</a:t>
            </a: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" y="1484280"/>
            <a:ext cx="8229600" cy="4471560"/>
            <a:chOff x="457200" y="1484280"/>
            <a:chExt cx="8229600" cy="4471560"/>
          </a:xfrm>
        </p:grpSpPr>
        <p:cxnSp>
          <p:nvCxnSpPr>
            <p:cNvPr id="104" name="_s126981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514480" y="2268360"/>
              <a:ext cx="1016280" cy="2902320"/>
            </a:xfrm>
            <a:prstGeom prst="bentConnector3">
              <a:avLst>
                <a:gd name="adj1" fmla="val 112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26982"/>
            <p:cNvCxnSpPr>
              <a:stCxn id="108" idx="0"/>
              <a:endCxn id="106" idx="2"/>
            </p:cNvCxnSpPr>
            <p:nvPr/>
          </p:nvCxnSpPr>
          <p:spPr>
            <a:xfrm flipV="1">
              <a:off x="4572000" y="3211560"/>
              <a:ext cx="1440" cy="101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26983"/>
            <p:cNvCxnSpPr>
              <a:stCxn id="110" idx="0"/>
              <a:endCxn id="106" idx="2"/>
            </p:cNvCxnSpPr>
            <p:nvPr/>
          </p:nvCxnSpPr>
          <p:spPr>
            <a:xfrm flipH="1" flipV="1" rot="5400000">
              <a:off x="2612880" y="2268360"/>
              <a:ext cx="1016280" cy="2902680"/>
            </a:xfrm>
            <a:prstGeom prst="bentConnector3">
              <a:avLst>
                <a:gd name="adj1" fmla="val 112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126984"/>
            <p:cNvSpPr/>
            <p:nvPr/>
          </p:nvSpPr>
          <p:spPr>
            <a:xfrm>
              <a:off x="3359160" y="148428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andersBio Bo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26985"/>
            <p:cNvSpPr/>
            <p:nvPr/>
          </p:nvSpPr>
          <p:spPr>
            <a:xfrm>
              <a:off x="457200" y="422784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</a:rPr>
                <a:t>Steering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</a:rPr>
                <a:t>Biote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26986"/>
            <p:cNvSpPr/>
            <p:nvPr/>
          </p:nvSpPr>
          <p:spPr>
            <a:xfrm>
              <a:off x="3359160" y="422784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Arial"/>
                </a:rPr>
                <a:t>Steering Committ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Arial"/>
                </a:rPr>
                <a:t>Bio-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26987"/>
            <p:cNvSpPr/>
            <p:nvPr/>
          </p:nvSpPr>
          <p:spPr>
            <a:xfrm>
              <a:off x="6261120" y="4227840"/>
              <a:ext cx="2425680" cy="172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700" spc="-1" strike="noStrike">
                  <a:solidFill>
                    <a:srgbClr val="000000"/>
                  </a:solidFill>
                  <a:latin typeface="Arial"/>
                </a:rPr>
                <a:t>Steering Committee Med te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tebulb"/>
            <p:cNvSpPr/>
            <p:nvPr/>
          </p:nvSpPr>
          <p:spPr>
            <a:xfrm>
              <a:off x="6732720" y="3574800"/>
              <a:ext cx="1584360" cy="238104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42920" y="3500280"/>
            <a:ext cx="1584360" cy="2381400"/>
            <a:chOff x="1042920" y="3500280"/>
            <a:chExt cx="1584360" cy="2381400"/>
          </a:xfrm>
        </p:grpSpPr>
        <p:sp>
          <p:nvSpPr>
            <p:cNvPr id="113" name="Litebulb"/>
            <p:cNvSpPr/>
            <p:nvPr/>
          </p:nvSpPr>
          <p:spPr>
            <a:xfrm>
              <a:off x="1042920" y="3500280"/>
              <a:ext cx="1584360" cy="238140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8920" y="4005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Arial"/>
                </a:rPr>
                <a:t>IWT - T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87708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IWT - 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708360" y="3573360"/>
            <a:ext cx="1584360" cy="2381400"/>
            <a:chOff x="3708360" y="3573360"/>
            <a:chExt cx="1584360" cy="2381400"/>
          </a:xfrm>
        </p:grpSpPr>
        <p:sp>
          <p:nvSpPr>
            <p:cNvPr id="117" name="Litebulb"/>
            <p:cNvSpPr/>
            <p:nvPr/>
          </p:nvSpPr>
          <p:spPr>
            <a:xfrm>
              <a:off x="3708360" y="3573360"/>
              <a:ext cx="1584360" cy="238140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24360" y="4078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Arial"/>
                </a:rPr>
                <a:t>IWT - T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DEEE-C655-4C2E-9097-12CCA0422B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TIS Biotech network - Target group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dicated biotech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iversified biotech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Biotech research 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Life science capital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ervice/product providers to the life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96A6-5C6D-4CBD-89F0-7B88008B3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TIS Biotech network – typical activities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nowledge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1 day seminars (eg innovation funding, clinical trial management, new purification methods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arly Knowledge for Growth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ecial interest groups : CEO, CFO, HR...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alary/Training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irroring public databases/sharing computation 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oup purchase lab 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ebsite, newslette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oup participations@conferences (Bio US, BioJapan, Bioforum Scandinav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Explorative Biotech mission (China 05; India 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actsheets, pressmission .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upportiv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fe scienc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EDF4-8E7D-420F-8010-850040897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99"/>
                </a:solidFill>
                <a:latin typeface="Arial"/>
              </a:rPr>
              <a:t>TIS Biotech network – funding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WT : VIS program :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hematische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nnovatie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imulering (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uration: 2 yea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→ evaluation → 2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wn (20% costs) through income from activities, membership fee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2924280"/>
          <a:ext cx="7924680" cy="1981080"/>
        </p:xfrm>
        <a:graphic>
          <a:graphicData uri="http://schemas.openxmlformats.org/drawingml/2006/table">
            <a:tbl>
              <a:tblPr/>
              <a:tblGrid>
                <a:gridCol w="1520640"/>
                <a:gridCol w="1281240"/>
                <a:gridCol w="1280520"/>
                <a:gridCol w="1281240"/>
                <a:gridCol w="1280520"/>
                <a:gridCol w="12805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.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.0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3.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idy (8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.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.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.7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landersBi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3031-9120-409B-B85A-D0291A97B5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21:18:20Z</dcterms:created>
  <dc:creator>Flandersbio</dc:creator>
  <dc:description/>
  <dc:language>en-US</dc:language>
  <cp:lastModifiedBy>elheu</cp:lastModifiedBy>
  <dcterms:modified xsi:type="dcterms:W3CDTF">2006-09-06T12:48:17Z</dcterms:modified>
  <cp:revision>9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1843413</vt:r8>
  </property>
  <property fmtid="{D5CDD505-2E9C-101B-9397-08002B2CF9AE}" pid="3" name="_AuthorEmail">
    <vt:lpwstr>AR@iwt.be</vt:lpwstr>
  </property>
  <property fmtid="{D5CDD505-2E9C-101B-9397-08002B2CF9AE}" pid="4" name="_AuthorEmailDisplayName">
    <vt:lpwstr>Annie Renders</vt:lpwstr>
  </property>
  <property fmtid="{D5CDD505-2E9C-101B-9397-08002B2CF9AE}" pid="5" name="_EmailSubject">
    <vt:lpwstr>Flanders ISR GPs</vt:lpwstr>
  </property>
  <property fmtid="{D5CDD505-2E9C-101B-9397-08002B2CF9AE}" pid="6" name="_NewReviewCycle">
    <vt:lpwstr/>
  </property>
</Properties>
</file>