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08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5960" y="-360"/>
            <a:ext cx="29908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019160" y="747720"/>
            <a:ext cx="488808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44280" y="4638600"/>
            <a:ext cx="503532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200880"/>
            <a:ext cx="29908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5960" y="9200880"/>
            <a:ext cx="29908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561-C4FA-4F8F-AF3E-B73247E4AD4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55960" y="9200880"/>
            <a:ext cx="29908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EE05-1DEB-41D6-8D36-8387D7E1F9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9200880"/>
            <a:ext cx="29908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-360"/>
            <a:ext cx="29908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55960" y="-360"/>
            <a:ext cx="299088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68560" y="79704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622400"/>
            <a:ext cx="5029200" cy="411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019160" y="7477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44280" y="4638600"/>
            <a:ext cx="503532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CP: national contact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30B-0EAA-4F21-BEFC-3CFB8D6A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F34-3212-419B-B875-0F7BB7E4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674E-1499-46D6-A1AD-C78C7AE2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EAF-309A-418A-8954-364DBC42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FD82-4259-4636-8849-867D4092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247-FB6F-45EA-B8D2-6A853F66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FCE-15E4-4DD5-92B3-C03368B6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784-57ED-4F42-8A54-51E35C2C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326-A0B7-4ADD-A395-61F893BB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5E6-BD1C-40B2-BC6C-AE00C105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7BB-2947-4466-8C1F-E717B49D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C3AD-D38A-4FF2-ADD8-ED176373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4DAF-0BAF-4E34-BFB9-BC52A71BB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295280"/>
            <a:ext cx="8381880" cy="763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81054" b="26857"/>
          <a:stretch/>
        </p:blipFill>
        <p:spPr>
          <a:xfrm>
            <a:off x="762120" y="380880"/>
            <a:ext cx="7426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09480" y="1647720"/>
          <a:ext cx="80089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47720"/>
                    <a:ext cx="8008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219320" y="5562720"/>
            <a:ext cx="695160" cy="479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91120" y="5697360"/>
            <a:ext cx="44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by the Flemish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8200" y="4292640"/>
            <a:ext cx="85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Centre of Competence for the Flemisch Food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tion/substitution of f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ment of physico-chemic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ment of microbiologic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tion/substitution of sug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tion/substitution of salt (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Overview of 6 research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85E-6022-40D5-ACB0-33B9EFA26C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BE" sz="3600" spc="-1" strike="noStrike">
                <a:solidFill>
                  <a:srgbClr val="000000"/>
                </a:solidFill>
                <a:latin typeface="Times New Roman"/>
              </a:rPr>
              <a:t>Flanders </a:t>
            </a:r>
            <a:br>
              <a:rPr sz="3600"/>
            </a:br>
            <a:r>
              <a:rPr b="1" lang="nl-BE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B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nl-BE" sz="3200" spc="-1" strike="noStrike">
                <a:solidFill>
                  <a:srgbClr val="000000"/>
                </a:solidFill>
                <a:latin typeface="Times New Roman"/>
              </a:rPr>
              <a:t>Strenghts of the centres of experti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Cereal(systems) – KULeuven, HO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Probiotics, fermentation – VUB, HOGent, KaHO St.-Li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Food microbiology – UGent, KULeuven, KHKem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Fat(systems), chocolate - U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Dairy (dairy fat, cheese making, …)– UGent, ILVO, HO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B9A-5C64-4709-9769-65B16B6691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BE" sz="3600" spc="-1" strike="noStrike">
                <a:solidFill>
                  <a:srgbClr val="000000"/>
                </a:solidFill>
                <a:latin typeface="Times New Roman"/>
              </a:rPr>
              <a:t>Flanders </a:t>
            </a:r>
            <a:br>
              <a:rPr sz="3600"/>
            </a:br>
            <a:r>
              <a:rPr b="1" lang="nl-BE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B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nl-BE" sz="3200" spc="-1" strike="noStrike">
                <a:solidFill>
                  <a:srgbClr val="000000"/>
                </a:solidFill>
                <a:latin typeface="Times New Roman"/>
              </a:rPr>
              <a:t>Strenghts of the centres of expertis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Meat technology - KaHO St.-Li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Processing technology (high pressure) – KULeuven, V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Brewing –KULeuven, KaHO St.-Li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Molecular technology –VIB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Isolation and characterisation of secondary plant metabolites – UA, UG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In vitro/ in vivo (animals) evaluation of active compounds – UA, UGent, KULeuven, V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0BE-BAB5-4490-8C35-205B0CEB46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br>
              <a:rPr sz="3200"/>
            </a:b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nl-BE" sz="3200" spc="-1" strike="noStrike">
                <a:solidFill>
                  <a:srgbClr val="000000"/>
                </a:solidFill>
                <a:latin typeface="Times New Roman"/>
              </a:rPr>
              <a:t>Knowledge dif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Science and technology Watch newsletter: </a:t>
            </a:r>
            <a:r>
              <a:rPr b="0" lang="nl-BE" sz="2000" spc="-1" strike="noStrike">
                <a:solidFill>
                  <a:srgbClr val="000000"/>
                </a:solidFill>
                <a:latin typeface="Times New Roman"/>
              </a:rPr>
              <a:t>transfer of scientific/technological publications/patents/new products/new processes to the SME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Trendwatch/trendanalysis (consumer trends) and impact on product 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Specific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Workshops/seminars/training coa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National/international net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Database with the expertise of all Flemish knowledge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C1B-54B6-42EF-A82D-6F8D6DE1C0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br>
              <a:rPr sz="3200"/>
            </a:b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nl-BE" sz="3200" spc="-1" strike="noStrike">
                <a:solidFill>
                  <a:srgbClr val="000000"/>
                </a:solidFill>
                <a:latin typeface="Times New Roman"/>
              </a:rPr>
              <a:t>Knowledge val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Scientific/technological advi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Translation of the scientific results into an understandabl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Pa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896-BD71-4F53-B99E-82B86E46D4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174680" y="1904760"/>
            <a:ext cx="7359840" cy="43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904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90400">
              <a:spcBef>
                <a:spcPts val="8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Companies with production and/or R&amp;D unit in Fland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90400">
              <a:spcBef>
                <a:spcPts val="8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Both: SMEs and large enterprises can jo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590400" indent="-590400">
              <a:spcBef>
                <a:spcPts val="8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400" spc="-1" strike="noStrike">
                <a:solidFill>
                  <a:srgbClr val="000000"/>
                </a:solidFill>
                <a:latin typeface="Times New Roman"/>
              </a:rPr>
              <a:t>Extension to other stakeholders within the food cha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Targe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A36-908D-42E7-AEDB-F68F62C9E6C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afti- Tiense sui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cal su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ndemoor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tus Bak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mp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ur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 Be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erial Meat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Founding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8560" y="2017800"/>
            <a:ext cx="32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te and L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gist Brugge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ie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n Remoor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u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nny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ondelmo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str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56C-BEF1-4498-8903-43711CFEA9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br>
              <a:rPr sz="3200"/>
            </a:b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nl-BE" sz="32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95 member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80 % SM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55 % &lt; 50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Project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average 20 industrial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8 knowledge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B52-76C8-41F4-98FD-A3B888CC31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BE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BE" sz="3600" spc="-1" strike="noStrike">
                <a:solidFill>
                  <a:srgbClr val="000000"/>
                </a:solidFill>
                <a:latin typeface="Times New Roman"/>
              </a:rPr>
              <a:t>Flanders </a:t>
            </a:r>
            <a:br>
              <a:rPr sz="3600"/>
            </a:br>
            <a:r>
              <a:rPr b="1" lang="nl-BE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B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nl-BE" sz="3200" spc="-1" strike="noStrike">
                <a:solidFill>
                  <a:srgbClr val="000000"/>
                </a:solidFill>
                <a:latin typeface="Times New Roman"/>
              </a:rPr>
              <a:t>FOOD SME’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Meat(produ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(Frozen) vege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Dai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Confectionery, chocolate, biscu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Ready me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Beverages (beer, o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Milling, starch, pa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F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nl-B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436-1A4F-4B00-93CC-6F3384106B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nstlaan  43, B-1040 Bruss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x 02/78843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6633"/>
                </a:solidFill>
                <a:uFillTx/>
                <a:latin typeface="Times New Roman"/>
              </a:rPr>
              <a:t>www.flandersfood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2895480"/>
          <a:ext cx="8001000" cy="2062440"/>
        </p:xfrm>
        <a:graphic>
          <a:graphicData uri="http://schemas.openxmlformats.org/drawingml/2006/table">
            <a:tbl>
              <a:tblPr/>
              <a:tblGrid>
                <a:gridCol w="2514600"/>
                <a:gridCol w="2666880"/>
                <a:gridCol w="2819520"/>
              </a:tblGrid>
              <a:tr h="20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win Lam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Director</a:t>
                      </a:r>
                      <a:br>
                        <a:rPr sz="2400"/>
                      </a:br>
                      <a:r>
                        <a:rPr b="0" lang="nl-BE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L@fevia.be</a:t>
                      </a:r>
                      <a:br>
                        <a:rPr sz="2400"/>
                      </a:b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788 43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an Coghe</a:t>
                      </a:r>
                      <a:br>
                        <a:rPr sz="2400"/>
                      </a:b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tific associ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CE@fevia.be</a:t>
                      </a:r>
                      <a:br>
                        <a:rPr sz="2400"/>
                      </a:b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788 43 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tie Van den Bulck</a:t>
                      </a:r>
                      <a:br>
                        <a:rPr sz="2400"/>
                      </a:b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ientific associ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KVDB@fevia.be</a:t>
                      </a:r>
                      <a:br>
                        <a:rPr sz="2400"/>
                      </a:b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/788 43 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88F3-DCB8-459D-98AD-666F2F42E2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904760"/>
            <a:ext cx="853452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NNOVATION  =  NECES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to economical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itical cond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petitivity (maintain / strengh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ep SME’s in Flanders (97%:  0-100 employe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1522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Why innovation in the Food Industr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Preliminary stud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F39-3500-4769-B2F2-4227E5CFEB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30000"/>
              </a:lnSpc>
              <a:spcBef>
                <a:spcPts val="700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IWT-funded project, running at Flanders’ FOOD (start 07/08/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30000"/>
              </a:lnSpc>
              <a:spcBef>
                <a:spcPts val="700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Project consortium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0000"/>
              </a:lnSpc>
              <a:spcBef>
                <a:spcPts val="601"/>
              </a:spcBef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Flanders’ FOO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0000"/>
              </a:lnSpc>
              <a:spcBef>
                <a:spcPts val="601"/>
              </a:spcBef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VLAO </a:t>
            </a:r>
            <a:r>
              <a:rPr b="0" lang="nl-BE" sz="1800" spc="-1" strike="noStrike">
                <a:solidFill>
                  <a:srgbClr val="666633"/>
                </a:solidFill>
                <a:latin typeface="Times New Roman"/>
              </a:rPr>
              <a:t>(Flemisch Agency for Enterprice)</a:t>
            </a: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0000"/>
              </a:lnSpc>
              <a:spcBef>
                <a:spcPts val="451"/>
              </a:spcBef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ILVO </a:t>
            </a:r>
            <a:r>
              <a:rPr b="0" lang="nl-BE" sz="1800" spc="-1" strike="noStrike">
                <a:solidFill>
                  <a:srgbClr val="666633"/>
                </a:solidFill>
                <a:latin typeface="Times New Roman"/>
              </a:rPr>
              <a:t>(Institute for Agricultural and Fisheries Research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130000"/>
              </a:lnSpc>
              <a:spcBef>
                <a:spcPts val="601"/>
              </a:spcBef>
              <a:buClr>
                <a:srgbClr val="66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UGent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30000"/>
              </a:lnSpc>
              <a:spcBef>
                <a:spcPts val="700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Sectors covered: Food Industry and agricultural sector (similar projects for other secto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6666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European Innovation Stimulation</a:t>
            </a:r>
            <a:br>
              <a:rPr sz="3200"/>
            </a:b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E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F3A-4361-4EA0-BE83-F6C85D2F13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For Flemish </a:t>
            </a:r>
            <a:r>
              <a:rPr b="1" lang="nl-BE" sz="2800" spc="-1" strike="noStrike">
                <a:solidFill>
                  <a:srgbClr val="666633"/>
                </a:solidFill>
                <a:latin typeface="Times New Roman"/>
              </a:rPr>
              <a:t>SME’s</a:t>
            </a: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 from the </a:t>
            </a:r>
            <a:r>
              <a:rPr b="1" lang="nl-BE" sz="2800" spc="-1" strike="noStrike">
                <a:solidFill>
                  <a:srgbClr val="666633"/>
                </a:solidFill>
                <a:latin typeface="Times New Roman"/>
              </a:rPr>
              <a:t>Food Industry and Agricultural</a:t>
            </a: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 sector this EIS-project w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To stimulate </a:t>
            </a:r>
            <a:r>
              <a:rPr b="1" lang="nl-BE" sz="2800" spc="-1" strike="noStrike">
                <a:solidFill>
                  <a:srgbClr val="666633"/>
                </a:solidFill>
                <a:latin typeface="Times New Roman"/>
              </a:rPr>
              <a:t>European 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To facilitate </a:t>
            </a:r>
            <a:r>
              <a:rPr b="1" lang="nl-BE" sz="2800" spc="-1" strike="noStrike">
                <a:solidFill>
                  <a:srgbClr val="666633"/>
                </a:solidFill>
                <a:latin typeface="Times New Roman"/>
              </a:rPr>
              <a:t>participation</a:t>
            </a: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nl-BE" sz="2800" spc="-1" strike="noStrike">
                <a:solidFill>
                  <a:srgbClr val="666633"/>
                </a:solidFill>
                <a:latin typeface="Times New Roman"/>
              </a:rPr>
              <a:t>in European Research</a:t>
            </a:r>
            <a:r>
              <a:rPr b="0" lang="nl-BE" sz="2800" spc="-1" strike="noStrike">
                <a:solidFill>
                  <a:srgbClr val="666633"/>
                </a:solidFill>
                <a:latin typeface="Times New Roman"/>
              </a:rPr>
              <a:t>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6666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EIS </a:t>
            </a:r>
            <a:br>
              <a:rPr sz="3200"/>
            </a:b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512-D6B9-4139-BDD9-26AE5C10EA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Guidance of Flemish SME’s towards a participation in European Researh program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30000"/>
              </a:lnSpc>
              <a:spcBef>
                <a:spcPts val="601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Spreading information on FP7, EUREKA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30000"/>
              </a:lnSpc>
              <a:spcBef>
                <a:spcPts val="601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Sensibilisation: improve/stimulate Eurpean cooperation between industry and knowledge cen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30000"/>
              </a:lnSpc>
              <a:spcBef>
                <a:spcPts val="601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Looking for and informing on project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30000"/>
              </a:lnSpc>
              <a:spcBef>
                <a:spcPts val="601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Evaluation of ‘European potential’ of an S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30000"/>
              </a:lnSpc>
              <a:spcBef>
                <a:spcPts val="499"/>
              </a:spcBef>
              <a:buClr>
                <a:srgbClr val="66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Assistance of SME’s in preproject fases </a:t>
            </a:r>
            <a:r>
              <a:rPr b="0" lang="nl-BE" sz="2000" spc="-1" strike="noStrike">
                <a:solidFill>
                  <a:srgbClr val="666633"/>
                </a:solidFill>
                <a:latin typeface="Times New Roman"/>
              </a:rPr>
              <a:t>(explore and describe role in project consortium, contribution in project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666633"/>
                </a:solidFill>
                <a:latin typeface="Times New Roman"/>
              </a:rPr>
              <a:t>In close cooperation with NCP and other EIS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6666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6666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67652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EIS </a:t>
            </a:r>
            <a:br>
              <a:rPr sz="3200"/>
            </a:b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Realisation of the mission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971F-05C2-4009-A3D3-BD3944DA6A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interaction betwe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od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nowledge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disciplinary approach/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ing: national and inter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pecific sector oriented 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ool of excellence for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 the food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52280"/>
            <a:ext cx="669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How to realise innov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Preliminary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4419720"/>
            <a:ext cx="4952880" cy="21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821-6799-4971-85CC-F474EA86C7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4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itiated by Flemish government, IWT and Fevia Vlaan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approved by Flemish government on 25/11/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ding: 10 mio € for 4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nership with companies/SME’s, government and the academic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ed value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Origin and sur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5486400"/>
          <a:ext cx="6095880" cy="109692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3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066680" y="4800600"/>
          <a:ext cx="6095880" cy="111276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</a:tblGrid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n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nowledge cent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ernm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3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nl-B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m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7E3-6A20-44A4-A3F5-014C1B9D53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IMPROVE COMPETITIVITY 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SPECIFIC STIMUL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</a:rPr>
              <a:t>OF TECHNOLOGICAL INNOV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Mission for the food s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90720" y="5486400"/>
          <a:ext cx="6095880" cy="109692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</a:tblGrid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4" marL="1828800"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3" marL="1371600">
                        <a:lnSpc>
                          <a:spcPct val="13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990720" y="2286000"/>
            <a:ext cx="7238880" cy="2209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6EB-6EB2-4019-AC96-824EF814A2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 development: start up of research projects at knowledge cen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rked-pulled (needs of the indust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eneric versus applied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 dissimination: broad diffusion of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Science and Technology Watch, trend analy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alorisation of knowle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base knowledge cen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rastructure (equipment, pilot install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2240" indent="-44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Main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788-EE6B-4BDD-BCBF-D9A71EA6DF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entral them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products of the 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lanced and ta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rol of the caloric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timization of health promoting effects/wellness dis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38080" y="3048120"/>
          <a:ext cx="6933960" cy="1066680"/>
        </p:xfrm>
        <a:graphic>
          <a:graphicData uri="http://schemas.openxmlformats.org/drawingml/2006/table">
            <a:tbl>
              <a:tblPr/>
              <a:tblGrid>
                <a:gridCol w="693396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3C78-6817-4445-96F6-64AD7C7620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31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ic dimen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action between functional ingredients and food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actions by process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entional and new processing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tritional stability and shelf 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icro)-biological, (bio)-chemical and physical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sory characterist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vour, taste, texture and col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2286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CD3-AA72-4AD5-80B9-A98AF8FA0C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f95"/>
            </a:gs>
            <a:gs pos="50000">
              <a:srgbClr val="ffffff"/>
            </a:gs>
            <a:gs pos="100000">
              <a:srgbClr val="e6ff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Flanders’ FOOD</a:t>
            </a:r>
            <a:br>
              <a:rPr sz="3200"/>
            </a:b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nl-BE" sz="3200" spc="-1" strike="noStrike">
                <a:solidFill>
                  <a:srgbClr val="000000"/>
                </a:solidFill>
                <a:latin typeface="Times New Roman"/>
              </a:rPr>
              <a:t>Strategic</a:t>
            </a:r>
            <a:r>
              <a:rPr b="1" lang="nl-B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nl-BE" sz="3200" spc="-1" strike="noStrike">
                <a:solidFill>
                  <a:srgbClr val="000000"/>
                </a:solidFill>
                <a:latin typeface="Times New Roman"/>
              </a:rPr>
              <a:t>Research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Food and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Food and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Food and quality/saf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Food and consu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Food managent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9D8-BFE6-4CD8-9843-C8EF48D9B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13:01:16Z</dcterms:created>
  <dc:creator>Katelijne Strubbe</dc:creator>
  <dc:description/>
  <dc:language>en-US</dc:language>
  <cp:lastModifiedBy>Erwin Lamot</cp:lastModifiedBy>
  <dcterms:modified xsi:type="dcterms:W3CDTF">2006-08-22T11:59:55Z</dcterms:modified>
  <cp:revision>106</cp:revision>
  <dc:subject/>
  <dc:title>Stimulering van nieuwe technologische toepassingen inzake functionaliteiten van voedingsingrediënt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72851671</vt:r8>
  </property>
  <property fmtid="{D5CDD505-2E9C-101B-9397-08002B2CF9AE}" pid="3" name="_AuthorEmail">
    <vt:lpwstr>AR@iwt.be</vt:lpwstr>
  </property>
  <property fmtid="{D5CDD505-2E9C-101B-9397-08002B2CF9AE}" pid="4" name="_AuthorEmailDisplayName">
    <vt:lpwstr>Annie Renders</vt:lpwstr>
  </property>
  <property fmtid="{D5CDD505-2E9C-101B-9397-08002B2CF9AE}" pid="5" name="_EmailSubject">
    <vt:lpwstr>Flanders ISR GPs</vt:lpwstr>
  </property>
  <property fmtid="{D5CDD505-2E9C-101B-9397-08002B2CF9AE}" pid="6" name="_NewReviewCycle">
    <vt:lpwstr/>
  </property>
</Properties>
</file>