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3EF4D-1B9F-4935-9560-72CDC86EA3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23520" y="1828440"/>
            <a:ext cx="7162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523520" y="4057200"/>
            <a:ext cx="7162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5A80B-46FD-4562-8E42-F57DD5718A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23520" y="1828440"/>
            <a:ext cx="3495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94080" y="1828440"/>
            <a:ext cx="3495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523520" y="4057200"/>
            <a:ext cx="3495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194080" y="4057200"/>
            <a:ext cx="3495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908C6-053C-449C-9A26-CA54C4D605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23520" y="1828440"/>
            <a:ext cx="230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945240" y="1828440"/>
            <a:ext cx="230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367320" y="1828440"/>
            <a:ext cx="230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523520" y="4057200"/>
            <a:ext cx="230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945240" y="4057200"/>
            <a:ext cx="230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367320" y="4057200"/>
            <a:ext cx="230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DC917-4E2C-441D-9AC4-2959C7BA40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5235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35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520" y="1828440"/>
            <a:ext cx="3495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94080" y="1828440"/>
            <a:ext cx="3495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204560" y="228600"/>
            <a:ext cx="7481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3520" y="1828440"/>
            <a:ext cx="3495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94080" y="1828440"/>
            <a:ext cx="3495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523520" y="4057200"/>
            <a:ext cx="3495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5235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7FCD6-B210-4F6F-BCE6-CFB5A9332A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23520" y="1828440"/>
            <a:ext cx="3495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4080" y="1828440"/>
            <a:ext cx="3495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194080" y="4057200"/>
            <a:ext cx="3495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3520" y="1828440"/>
            <a:ext cx="3495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94080" y="1828440"/>
            <a:ext cx="3495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523520" y="4057200"/>
            <a:ext cx="7162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3520" y="1828440"/>
            <a:ext cx="7162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523520" y="4057200"/>
            <a:ext cx="7162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520" y="1828440"/>
            <a:ext cx="3495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94080" y="1828440"/>
            <a:ext cx="3495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523520" y="4057200"/>
            <a:ext cx="3495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194080" y="4057200"/>
            <a:ext cx="3495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520" y="1828440"/>
            <a:ext cx="230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945240" y="1828440"/>
            <a:ext cx="230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367320" y="1828440"/>
            <a:ext cx="230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523520" y="4057200"/>
            <a:ext cx="230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945240" y="4057200"/>
            <a:ext cx="230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367320" y="4057200"/>
            <a:ext cx="230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35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49602-E4BD-4F7B-B2B3-FF887305CE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828440"/>
            <a:ext cx="3495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4080" y="1828440"/>
            <a:ext cx="3495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67CF6-834A-4730-8915-C0796A9977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71834-FD4F-4508-8497-FD2906F3D9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204560" y="228600"/>
            <a:ext cx="7481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B1CB3-5E04-48E5-B7B5-E41B53A312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828440"/>
            <a:ext cx="3495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4080" y="1828440"/>
            <a:ext cx="3495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3520" y="4057200"/>
            <a:ext cx="3495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BAC24-2083-46B0-956B-EF725A53AC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3520" y="1828440"/>
            <a:ext cx="3495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4080" y="1828440"/>
            <a:ext cx="3495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94080" y="4057200"/>
            <a:ext cx="3495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2E752-7FBC-4897-AB17-5D29B0530B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828440"/>
            <a:ext cx="3495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94080" y="1828440"/>
            <a:ext cx="3495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523520" y="4057200"/>
            <a:ext cx="7162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783AA-4485-4C52-86A1-7BF7295448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" Target="slide2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76520" y="4419720"/>
            <a:ext cx="1752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" name="tekstscherm_achtergrond_egaal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8153280" y="632448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fld id="{F7F76229-04DD-48EE-AF75-EC6C7CA40FEC}" type="slidenum">
              <a:rPr b="0" lang="nl-NL" sz="16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5235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1" marL="185760" indent="-185760">
              <a:spcBef>
                <a:spcPts val="499"/>
              </a:spcBef>
              <a:buClr>
                <a:srgbClr val="333333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2" marL="185760" indent="-185760">
              <a:spcBef>
                <a:spcPts val="499"/>
              </a:spcBef>
              <a:buClr>
                <a:srgbClr val="333333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3" marL="185760" indent="-185760">
              <a:spcBef>
                <a:spcPts val="499"/>
              </a:spcBef>
              <a:buClr>
                <a:srgbClr val="333333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4" marL="185760" indent="-185760">
              <a:spcBef>
                <a:spcPts val="499"/>
              </a:spcBef>
              <a:buClr>
                <a:srgbClr val="333333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5" marL="185760" indent="-185760">
              <a:spcBef>
                <a:spcPts val="499"/>
              </a:spcBef>
              <a:buClr>
                <a:srgbClr val="333333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6" marL="185760" indent="-185760">
              <a:spcBef>
                <a:spcPts val="499"/>
              </a:spcBef>
              <a:buClr>
                <a:srgbClr val="333333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457200" y="6095880"/>
            <a:ext cx="762120" cy="501840"/>
            <a:chOff x="457200" y="6095880"/>
            <a:chExt cx="762120" cy="501840"/>
          </a:xfrm>
        </p:grpSpPr>
        <p:sp>
          <p:nvSpPr>
            <p:cNvPr id="6" name=""/>
            <p:cNvSpPr/>
            <p:nvPr/>
          </p:nvSpPr>
          <p:spPr>
            <a:xfrm>
              <a:off x="457200" y="6095880"/>
              <a:ext cx="762120" cy="501840"/>
            </a:xfrm>
            <a:prstGeom prst="rect">
              <a:avLst/>
            </a:prstGeom>
            <a:solidFill>
              <a:srgbClr val="e11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41040" y="6165000"/>
              <a:ext cx="24336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28520" y="6253920"/>
              <a:ext cx="7848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52240" y="6253920"/>
              <a:ext cx="7740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52240" y="6165000"/>
              <a:ext cx="7740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50520" y="6253920"/>
              <a:ext cx="161640" cy="282600"/>
            </a:xfrm>
            <a:custGeom>
              <a:avLst/>
              <a:gdLst/>
              <a:ahLst/>
              <a:rect l="l" t="t" r="r" b="b"/>
              <a:pathLst>
                <a:path w="116" h="204">
                  <a:moveTo>
                    <a:pt x="54" y="0"/>
                  </a:moveTo>
                  <a:lnTo>
                    <a:pt x="116" y="134"/>
                  </a:lnTo>
                  <a:lnTo>
                    <a:pt x="116" y="134"/>
                  </a:lnTo>
                  <a:lnTo>
                    <a:pt x="88" y="204"/>
                  </a:lnTo>
                  <a:lnTo>
                    <a:pt x="88" y="204"/>
                  </a:lnTo>
                  <a:lnTo>
                    <a:pt x="0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93080" y="6242400"/>
              <a:ext cx="215640" cy="293760"/>
            </a:xfrm>
            <a:custGeom>
              <a:avLst/>
              <a:gdLst/>
              <a:ahLst/>
              <a:rect l="l" t="t" r="r" b="b"/>
              <a:pathLst>
                <a:path w="154" h="212">
                  <a:moveTo>
                    <a:pt x="96" y="8"/>
                  </a:moveTo>
                  <a:lnTo>
                    <a:pt x="66" y="78"/>
                  </a:lnTo>
                  <a:lnTo>
                    <a:pt x="66" y="78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66" y="212"/>
                  </a:lnTo>
                  <a:lnTo>
                    <a:pt x="66" y="212"/>
                  </a:lnTo>
                  <a:lnTo>
                    <a:pt x="154" y="8"/>
                  </a:lnTo>
                  <a:lnTo>
                    <a:pt x="9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1295280" y="1295280"/>
            <a:ext cx="223920" cy="223920"/>
          </a:xfrm>
          <a:prstGeom prst="rect">
            <a:avLst/>
          </a:prstGeom>
          <a:solidFill>
            <a:srgbClr val="eb18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517760" y="1295280"/>
            <a:ext cx="223560" cy="223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" name="">
            <a:hlinkClick r:id="rId3" action="ppaction://hlinksldjump"/>
          </p:cNvPr>
          <p:cNvSpPr/>
          <p:nvPr/>
        </p:nvSpPr>
        <p:spPr>
          <a:xfrm>
            <a:off x="0" y="1600200"/>
            <a:ext cx="129528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000" spc="-1" strike="noStrike">
                <a:solidFill>
                  <a:srgbClr val="4d4d4d"/>
                </a:solidFill>
                <a:latin typeface="Verdana"/>
              </a:rPr>
              <a:t>home &gt;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">
            <a:hlinkClick r:id="rId4" action="ppaction://hlinksldjump"/>
          </p:cNvPr>
          <p:cNvSpPr/>
          <p:nvPr/>
        </p:nvSpPr>
        <p:spPr>
          <a:xfrm>
            <a:off x="0" y="1828800"/>
            <a:ext cx="129528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000" spc="-1" strike="noStrike">
                <a:solidFill>
                  <a:srgbClr val="4d4d4d"/>
                </a:solidFill>
                <a:latin typeface="Verdana"/>
              </a:rPr>
              <a:t>sitemap &gt;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1757520" y="127620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ffffff"/>
                </a:solidFill>
                <a:latin typeface="Verdana"/>
              </a:rPr>
              <a:t>Flanders ISR Good Practices  1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egale_achtergron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557280" y="431640"/>
            <a:ext cx="3900600" cy="1253880"/>
            <a:chOff x="557280" y="431640"/>
            <a:chExt cx="3900600" cy="1253880"/>
          </a:xfrm>
        </p:grpSpPr>
        <p:sp>
          <p:nvSpPr>
            <p:cNvPr id="56" name=""/>
            <p:cNvSpPr/>
            <p:nvPr/>
          </p:nvSpPr>
          <p:spPr>
            <a:xfrm>
              <a:off x="557280" y="431640"/>
              <a:ext cx="873720" cy="585720"/>
            </a:xfrm>
            <a:prstGeom prst="rect">
              <a:avLst/>
            </a:prstGeom>
            <a:solidFill>
              <a:srgbClr val="e11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13120" y="512280"/>
              <a:ext cx="279360" cy="7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12480" y="615600"/>
              <a:ext cx="89640" cy="32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6360" y="615600"/>
              <a:ext cx="89640" cy="32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66360" y="512280"/>
              <a:ext cx="89640" cy="7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78680" y="615600"/>
              <a:ext cx="186480" cy="330120"/>
            </a:xfrm>
            <a:custGeom>
              <a:avLst/>
              <a:gdLst/>
              <a:ahLst/>
              <a:rect l="l" t="t" r="r" b="b"/>
              <a:pathLst>
                <a:path w="116" h="204">
                  <a:moveTo>
                    <a:pt x="54" y="0"/>
                  </a:moveTo>
                  <a:lnTo>
                    <a:pt x="116" y="134"/>
                  </a:lnTo>
                  <a:lnTo>
                    <a:pt x="116" y="134"/>
                  </a:lnTo>
                  <a:lnTo>
                    <a:pt x="88" y="204"/>
                  </a:lnTo>
                  <a:lnTo>
                    <a:pt x="88" y="204"/>
                  </a:lnTo>
                  <a:lnTo>
                    <a:pt x="0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42480" y="603000"/>
              <a:ext cx="247320" cy="343080"/>
            </a:xfrm>
            <a:custGeom>
              <a:avLst/>
              <a:gdLst/>
              <a:ahLst/>
              <a:rect l="l" t="t" r="r" b="b"/>
              <a:pathLst>
                <a:path w="154" h="212">
                  <a:moveTo>
                    <a:pt x="96" y="8"/>
                  </a:moveTo>
                  <a:lnTo>
                    <a:pt x="66" y="78"/>
                  </a:lnTo>
                  <a:lnTo>
                    <a:pt x="66" y="78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66" y="212"/>
                  </a:lnTo>
                  <a:lnTo>
                    <a:pt x="66" y="212"/>
                  </a:lnTo>
                  <a:lnTo>
                    <a:pt x="154" y="8"/>
                  </a:lnTo>
                  <a:lnTo>
                    <a:pt x="9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44560" y="1053000"/>
              <a:ext cx="2713320" cy="2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Instituut voor de Aanmoediging van Innovatie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door Wetenschap en Technologie in Vlaanderen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72120" y="1198440"/>
              <a:ext cx="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3160" y="2236320"/>
            <a:ext cx="74055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268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2" marL="952560" algn="ctr">
              <a:spcBef>
                <a:spcPts val="400"/>
              </a:spcBef>
              <a:buClr>
                <a:srgbClr val="333333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3" marL="1620720" algn="ctr">
              <a:spcBef>
                <a:spcPts val="349"/>
              </a:spcBef>
              <a:buClr>
                <a:srgbClr val="333333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333333"/>
              </a:solidFill>
              <a:latin typeface="Verdana"/>
            </a:endParaRPr>
          </a:p>
          <a:p>
            <a:pPr lvl="4" marL="2090880" algn="ctr">
              <a:spcBef>
                <a:spcPts val="300"/>
              </a:spcBef>
              <a:buClr>
                <a:srgbClr val="333333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Verdana"/>
              </a:rPr>
              <a:t>Fifth Outline Level</a:t>
            </a:r>
            <a:endParaRPr b="0" lang="en-US" sz="1200" spc="-1" strike="noStrike">
              <a:solidFill>
                <a:srgbClr val="333333"/>
              </a:solidFill>
              <a:latin typeface="Verdana"/>
            </a:endParaRPr>
          </a:p>
          <a:p>
            <a:pPr lvl="5" marL="2090880">
              <a:spcBef>
                <a:spcPts val="300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Verdana"/>
              </a:rPr>
              <a:t>Sixth Outline Level</a:t>
            </a:r>
            <a:endParaRPr b="0" lang="en-US" sz="1200" spc="-1" strike="noStrike">
              <a:solidFill>
                <a:srgbClr val="333333"/>
              </a:solidFill>
              <a:latin typeface="Verdana"/>
            </a:endParaRPr>
          </a:p>
          <a:p>
            <a:pPr lvl="6" marL="2090880">
              <a:spcBef>
                <a:spcPts val="300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Verdana"/>
              </a:rPr>
              <a:t>Seventh Outline Level</a:t>
            </a:r>
            <a:endParaRPr b="0" lang="en-US" sz="1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schema_achtergrond_egaa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119240" y="1647720"/>
            <a:ext cx="1817640" cy="1162080"/>
          </a:xfrm>
          <a:prstGeom prst="rect">
            <a:avLst/>
          </a:prstGeom>
          <a:solidFill>
            <a:srgbClr val="e118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74840" y="1808280"/>
            <a:ext cx="58284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2014560"/>
            <a:ext cx="184320" cy="63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46040" y="2014560"/>
            <a:ext cx="187560" cy="63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46040" y="1808280"/>
            <a:ext cx="18756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79680" y="2014560"/>
            <a:ext cx="388800" cy="655560"/>
          </a:xfrm>
          <a:custGeom>
            <a:avLst/>
            <a:gdLst/>
            <a:ahLst/>
            <a:rect l="l" t="t" r="r" b="b"/>
            <a:pathLst>
              <a:path w="223" h="392">
                <a:moveTo>
                  <a:pt x="104" y="0"/>
                </a:moveTo>
                <a:lnTo>
                  <a:pt x="223" y="257"/>
                </a:lnTo>
                <a:lnTo>
                  <a:pt x="223" y="257"/>
                </a:lnTo>
                <a:lnTo>
                  <a:pt x="169" y="392"/>
                </a:lnTo>
                <a:lnTo>
                  <a:pt x="169" y="392"/>
                </a:lnTo>
                <a:lnTo>
                  <a:pt x="0" y="0"/>
                </a:lnTo>
                <a:lnTo>
                  <a:pt x="10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20960" y="1987560"/>
            <a:ext cx="514440" cy="682560"/>
          </a:xfrm>
          <a:custGeom>
            <a:avLst/>
            <a:gdLst/>
            <a:ahLst/>
            <a:rect l="l" t="t" r="r" b="b"/>
            <a:pathLst>
              <a:path w="296" h="408">
                <a:moveTo>
                  <a:pt x="184" y="16"/>
                </a:moveTo>
                <a:lnTo>
                  <a:pt x="127" y="150"/>
                </a:lnTo>
                <a:lnTo>
                  <a:pt x="127" y="150"/>
                </a:lnTo>
                <a:lnTo>
                  <a:pt x="54" y="0"/>
                </a:lnTo>
                <a:lnTo>
                  <a:pt x="54" y="0"/>
                </a:lnTo>
                <a:lnTo>
                  <a:pt x="0" y="150"/>
                </a:lnTo>
                <a:lnTo>
                  <a:pt x="0" y="150"/>
                </a:lnTo>
                <a:lnTo>
                  <a:pt x="127" y="408"/>
                </a:lnTo>
                <a:lnTo>
                  <a:pt x="127" y="408"/>
                </a:lnTo>
                <a:lnTo>
                  <a:pt x="296" y="16"/>
                </a:lnTo>
                <a:lnTo>
                  <a:pt x="184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30640" y="2879640"/>
            <a:ext cx="553248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Instituut voor de Aanmoediging van Innovatie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oor Wetenschap en Technologie in Vlaanderen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The Institute for the promotion of Innovation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by Science and Technology in Flander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30640" y="3170160"/>
            <a:ext cx="50752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1E1D2-3BF0-4A36-BB62-A39E5FB5D1F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Flanders ISR Good Practices </a:t>
            </a:r>
            <a:br>
              <a:rPr sz="2200"/>
            </a:br>
            <a:r>
              <a:rPr b="0" lang="nl-BE" sz="2200" spc="-1" strike="noStrike">
                <a:solidFill>
                  <a:srgbClr val="000000"/>
                </a:solidFill>
                <a:latin typeface="Verdana"/>
              </a:rPr>
              <a:t>Technological services projects- VIS-TD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5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333333"/>
                </a:solidFill>
                <a:latin typeface="Verdana"/>
              </a:rPr>
              <a:t>Follow up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spcBef>
                <a:spcPts val="400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reporting of results of activities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spcBef>
                <a:spcPts val="400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3 times/year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spcBef>
                <a:spcPts val="400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standard set of results 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2" marL="1236600" indent="-284040">
              <a:spcBef>
                <a:spcPts val="349"/>
              </a:spcBef>
              <a:buClr>
                <a:srgbClr val="33333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Number of technological advices </a:t>
            </a:r>
            <a:endParaRPr b="0" lang="en-US" sz="1400" spc="-1" strike="noStrike">
              <a:solidFill>
                <a:srgbClr val="333333"/>
              </a:solidFill>
              <a:latin typeface="Verdana"/>
            </a:endParaRPr>
          </a:p>
          <a:p>
            <a:pPr lvl="2" marL="1236600" indent="-284040">
              <a:spcBef>
                <a:spcPts val="349"/>
              </a:spcBef>
              <a:buClr>
                <a:srgbClr val="33333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33"/>
                </a:solidFill>
                <a:latin typeface="Verdana"/>
              </a:rPr>
              <a:t>Number of innovation projects submitted for IWT support</a:t>
            </a:r>
            <a:endParaRPr b="0" lang="en-US" sz="1400" spc="-1" strike="noStrike">
              <a:solidFill>
                <a:srgbClr val="333333"/>
              </a:solidFill>
              <a:latin typeface="Verdana"/>
            </a:endParaRPr>
          </a:p>
          <a:p>
            <a:pPr lvl="2" marL="1236600" indent="-284040">
              <a:spcBef>
                <a:spcPts val="349"/>
              </a:spcBef>
              <a:buClr>
                <a:srgbClr val="33333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33"/>
                </a:solidFill>
                <a:latin typeface="Verdana"/>
              </a:rPr>
              <a:t>Number of publications/presentations</a:t>
            </a:r>
            <a:endParaRPr b="0" lang="en-US" sz="1400" spc="-1" strike="noStrike">
              <a:solidFill>
                <a:srgbClr val="333333"/>
              </a:solidFill>
              <a:latin typeface="Verdana"/>
            </a:endParaRPr>
          </a:p>
          <a:p>
            <a:pPr lvl="2" marL="1236600" indent="-284040">
              <a:spcBef>
                <a:spcPts val="349"/>
              </a:spcBef>
              <a:buClr>
                <a:srgbClr val="33333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33"/>
                </a:solidFill>
                <a:latin typeface="Verdana"/>
              </a:rPr>
              <a:t>Number of workshops organised</a:t>
            </a:r>
            <a:endParaRPr b="0" lang="en-US" sz="1400" spc="-1" strike="noStrike">
              <a:solidFill>
                <a:srgbClr val="333333"/>
              </a:solidFill>
              <a:latin typeface="Verdana"/>
            </a:endParaRPr>
          </a:p>
          <a:p>
            <a:pPr lvl="2" marL="1236600" indent="-284040">
              <a:spcBef>
                <a:spcPts val="349"/>
              </a:spcBef>
              <a:buClr>
                <a:srgbClr val="33333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33"/>
                </a:solidFill>
                <a:latin typeface="Verdana"/>
              </a:rPr>
              <a:t>Number of technological cooperation agreements between companies in the target group</a:t>
            </a:r>
            <a:endParaRPr b="0" lang="en-US" sz="1400" spc="-1" strike="noStrike">
              <a:solidFill>
                <a:srgbClr val="333333"/>
              </a:solidFill>
              <a:latin typeface="Verdana"/>
            </a:endParaRPr>
          </a:p>
          <a:p>
            <a:pPr lvl="2" marL="1236600" indent="-284040">
              <a:spcBef>
                <a:spcPts val="349"/>
              </a:spcBef>
              <a:buClr>
                <a:srgbClr val="33333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33"/>
                </a:solidFill>
                <a:latin typeface="Verdana"/>
              </a:rPr>
              <a:t>Number of front-office services provided</a:t>
            </a:r>
            <a:endParaRPr b="0" lang="en-US" sz="1400" spc="-1" strike="noStrike">
              <a:solidFill>
                <a:srgbClr val="333333"/>
              </a:solidFill>
              <a:latin typeface="Verdana"/>
            </a:endParaRPr>
          </a:p>
          <a:p>
            <a:pPr lvl="2" marL="1236600" indent="-284040">
              <a:spcBef>
                <a:spcPts val="349"/>
              </a:spcBef>
              <a:buClr>
                <a:srgbClr val="33333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33"/>
                </a:solidFill>
                <a:latin typeface="Verdana"/>
              </a:rPr>
              <a:t>Number of networking events</a:t>
            </a:r>
            <a:endParaRPr b="0" lang="en-US" sz="14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spcBef>
                <a:spcPts val="400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IWT member of steering group or comparable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spcBef>
                <a:spcPts val="400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Future : reporting effects of project at company level 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2" marL="12366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6D3A8-E2CD-4709-A130-902297AED0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Flanders ISR Good Practices </a:t>
            </a:r>
            <a:br>
              <a:rPr sz="2200"/>
            </a:br>
            <a:r>
              <a:rPr b="0" lang="nl-BE" sz="2200" spc="-1" strike="noStrike">
                <a:solidFill>
                  <a:srgbClr val="000000"/>
                </a:solidFill>
                <a:latin typeface="Verdana"/>
              </a:rPr>
              <a:t>Technological services projects- VIS-TD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35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333333"/>
                </a:solidFill>
                <a:latin typeface="Verdana"/>
              </a:rPr>
              <a:t>Industry-Science relation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185760" indent="-185760">
              <a:spcBef>
                <a:spcPts val="499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Bottum-up projects to fulfill a need of the target group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185760" indent="-185760">
              <a:spcBef>
                <a:spcPts val="499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Individual advice to companies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185760" indent="-185760">
              <a:spcBef>
                <a:spcPts val="499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Learning effect at companies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185760" indent="-185760">
              <a:spcBef>
                <a:spcPts val="499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Companies in steering group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185760" indent="-185760">
              <a:spcBef>
                <a:spcPts val="499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Applicant (group of companies) financial contribution 20%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125AB-FAD3-45C3-A460-0F444C6185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Flanders ISR Good Practices </a:t>
            </a:r>
            <a:br>
              <a:rPr sz="2200"/>
            </a:br>
            <a:r>
              <a:rPr b="0" lang="nl-BE" sz="2200" spc="-1" strike="noStrike">
                <a:solidFill>
                  <a:srgbClr val="000000"/>
                </a:solidFill>
                <a:latin typeface="Verdana"/>
              </a:rPr>
              <a:t>Technological services projects- VIS-TD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4264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499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333333"/>
                </a:solidFill>
                <a:latin typeface="Verdana"/>
              </a:rPr>
              <a:t>65 projects running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185760" indent="-185760">
              <a:spcBef>
                <a:spcPts val="499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333333"/>
                </a:solidFill>
                <a:latin typeface="Verdana"/>
              </a:rPr>
              <a:t>Various themes (welding, textile engineering,IT for SME's, Bio-IT, brewery, acoustics in building, frozen vegetables, construction for agro-industry, surface treatment , …)  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185760" indent="-185760">
              <a:spcBef>
                <a:spcPts val="499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333333"/>
                </a:solidFill>
                <a:latin typeface="Verdana"/>
              </a:rPr>
              <a:t>78 persons offering technological advice to industry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F20C2-D1B1-4A74-A30C-71748FDB15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Flanders ISR Good Practices </a:t>
            </a:r>
            <a:br>
              <a:rPr sz="2200"/>
            </a:br>
            <a:r>
              <a:rPr b="0" lang="nl-BE" sz="2200" spc="-1" strike="noStrike">
                <a:solidFill>
                  <a:srgbClr val="000000"/>
                </a:solidFill>
                <a:latin typeface="Verdana"/>
              </a:rPr>
              <a:t>Postdoctoral Fellowship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5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333333"/>
                </a:solidFill>
                <a:latin typeface="Verdana"/>
              </a:rPr>
              <a:t>Who : </a:t>
            </a:r>
            <a:r>
              <a:rPr b="0" lang="en-GB" sz="1800" spc="-1" strike="noStrike">
                <a:solidFill>
                  <a:srgbClr val="333333"/>
                </a:solidFill>
                <a:latin typeface="Verdana"/>
              </a:rPr>
              <a:t>advanced scientists (PhD-level)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Verdana"/>
              </a:rPr>
              <a:t>What : focus on the valorisation of scientific research results in the industry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Verdana"/>
              </a:rPr>
              <a:t>IWT distinguishes between 3 types: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725400" indent="-342720">
              <a:spcBef>
                <a:spcPts val="400"/>
              </a:spcBef>
              <a:buClr>
                <a:srgbClr val="33333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preparing a spin-off;</a:t>
            </a:r>
            <a:br>
              <a:rPr sz="1600"/>
            </a:b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1" marL="725400" indent="-342720">
              <a:spcBef>
                <a:spcPts val="400"/>
              </a:spcBef>
              <a:buClr>
                <a:srgbClr val="33333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transfer of basic research from a research centre to an existing company (including existing spin-offs) for later, effective valorisation/implementation within the company;</a:t>
            </a:r>
            <a:br>
              <a:rPr sz="1600"/>
            </a:b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1" marL="725400" indent="-342720">
              <a:spcBef>
                <a:spcPts val="400"/>
              </a:spcBef>
              <a:buClr>
                <a:srgbClr val="33333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valorisation or preparation of the valorisation of research results, mainly within a research centre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marL="380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C8542-B83C-40F6-9F87-7F694D81CA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Flanders ISR Good Practices </a:t>
            </a:r>
            <a:br>
              <a:rPr sz="2200"/>
            </a:br>
            <a:r>
              <a:rPr b="0" lang="nl-BE" sz="2200" spc="-1" strike="noStrike">
                <a:solidFill>
                  <a:srgbClr val="000000"/>
                </a:solidFill>
                <a:latin typeface="Verdana"/>
              </a:rPr>
              <a:t>Postdoctoral Fellowship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35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The main objective is the </a:t>
            </a:r>
            <a:r>
              <a:rPr b="1" lang="en-GB" sz="2000" spc="-1" strike="noStrike">
                <a:solidFill>
                  <a:srgbClr val="333333"/>
                </a:solidFill>
                <a:latin typeface="Verdana"/>
              </a:rPr>
              <a:t>economic valorisation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1857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of research results rather than exclusively the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1857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further in-depth exploration of basic research.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1857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1857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They are intended to help the researcher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1857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move away from the initial university or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1857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research centre.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D1A0E-564A-454A-A008-43F5D0F28A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Flanders ISR Good Practices </a:t>
            </a:r>
            <a:br>
              <a:rPr sz="2200"/>
            </a:br>
            <a:r>
              <a:rPr b="0" lang="nl-BE" sz="2200" spc="-1" strike="noStrike">
                <a:solidFill>
                  <a:srgbClr val="000000"/>
                </a:solidFill>
                <a:latin typeface="Verdana"/>
              </a:rPr>
              <a:t>Postdoctoral Fellowship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235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83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333333"/>
                </a:solidFill>
                <a:latin typeface="Verdana"/>
              </a:rPr>
              <a:t>Application by researcher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marL="183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333333"/>
                </a:solidFill>
                <a:latin typeface="Verdana"/>
              </a:rPr>
              <a:t>Project duration : max. 2 year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marL="183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marL="183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333333"/>
                </a:solidFill>
                <a:latin typeface="Verdana"/>
              </a:rPr>
              <a:t>Open call : number of applicants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marL="183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marL="183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marL="183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marL="183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marL="183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333333"/>
                </a:solidFill>
                <a:latin typeface="Verdana"/>
              </a:rPr>
              <a:t>Financial support 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661320" indent="-28260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333333"/>
                </a:solidFill>
                <a:latin typeface="Verdana"/>
              </a:rPr>
              <a:t>fixed salary of researcher (± € 2200/month taxfree)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1" marL="661320" indent="-28260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333333"/>
                </a:solidFill>
                <a:latin typeface="Verdana"/>
              </a:rPr>
              <a:t>some project costs (max ± € 8000/year)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1" marL="661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marL="183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333333"/>
                </a:solidFill>
                <a:latin typeface="Verdana"/>
              </a:rPr>
              <a:t>Project support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661320" indent="-28260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333333"/>
                </a:solidFill>
                <a:latin typeface="Verdana"/>
              </a:rPr>
              <a:t>Scientific supervision 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1" marL="661320" indent="-28260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333333"/>
                </a:solidFill>
                <a:latin typeface="Verdana"/>
              </a:rPr>
              <a:t>Industrial supervision 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marL="183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marL="183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666880" y="3200400"/>
          <a:ext cx="3505320" cy="669600"/>
        </p:xfrm>
        <a:graphic>
          <a:graphicData uri="http://schemas.openxmlformats.org/drawingml/2006/table">
            <a:tbl>
              <a:tblPr/>
              <a:tblGrid>
                <a:gridCol w="701640"/>
                <a:gridCol w="700200"/>
                <a:gridCol w="701640"/>
                <a:gridCol w="700200"/>
                <a:gridCol w="7016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200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200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2003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200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200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16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26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3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53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7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60EBC-1F42-45C4-9300-9ED930584A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Flanders ISR Good Practices </a:t>
            </a:r>
            <a:br>
              <a:rPr sz="2200"/>
            </a:br>
            <a:r>
              <a:rPr b="0" lang="nl-BE" sz="2200" spc="-1" strike="noStrike">
                <a:solidFill>
                  <a:srgbClr val="000000"/>
                </a:solidFill>
                <a:latin typeface="Verdana"/>
              </a:rPr>
              <a:t>Postdoctoral Fellowship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5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333333"/>
                </a:solidFill>
                <a:latin typeface="Verdana"/>
              </a:rPr>
              <a:t>Selection of projects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spcBef>
                <a:spcPts val="451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333333"/>
                </a:solidFill>
                <a:latin typeface="Verdana"/>
              </a:rPr>
              <a:t>Open call 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spcBef>
                <a:spcPts val="451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333333"/>
                </a:solidFill>
                <a:latin typeface="Verdana"/>
              </a:rPr>
              <a:t>Contact between IWT-scientific advisor and applicant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spcBef>
                <a:spcPts val="451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333333"/>
                </a:solidFill>
                <a:latin typeface="Verdana"/>
              </a:rPr>
              <a:t>3 external experts for each project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spcBef>
                <a:spcPts val="451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333333"/>
                </a:solidFill>
                <a:latin typeface="Verdana"/>
              </a:rPr>
              <a:t>Oral examination of project applicant by experts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spcBef>
                <a:spcPts val="451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333333"/>
                </a:solidFill>
                <a:latin typeface="Verdana"/>
              </a:rPr>
              <a:t>Evaluation of two criteria (see further)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spcBef>
                <a:spcPts val="451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333333"/>
                </a:solidFill>
                <a:latin typeface="Verdana"/>
              </a:rPr>
              <a:t>Consensus of expert opinions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spcBef>
                <a:spcPts val="451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333333"/>
                </a:solidFill>
                <a:latin typeface="Verdana"/>
              </a:rPr>
              <a:t>Decision by IWT board of directors by February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4FF6E-9013-4E60-8852-D14C265A18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Flanders ISR Good Practices </a:t>
            </a:r>
            <a:br>
              <a:rPr sz="2200"/>
            </a:br>
            <a:r>
              <a:rPr b="0" lang="nl-BE" sz="2200" spc="-1" strike="noStrike">
                <a:solidFill>
                  <a:srgbClr val="000000"/>
                </a:solidFill>
                <a:latin typeface="Verdana"/>
              </a:rPr>
              <a:t>Postdoctoral Fellowship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35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333333"/>
                </a:solidFill>
                <a:latin typeface="Verdana"/>
              </a:rPr>
              <a:t>Evaluation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33333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333333"/>
                </a:solidFill>
                <a:latin typeface="Verdana"/>
              </a:rPr>
              <a:t>Scientific and technological quality of project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1" marL="725400" indent="-342720">
              <a:spcBef>
                <a:spcPts val="451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Verdana"/>
              </a:rPr>
              <a:t>Scientific carreer and knowledge of applicant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725400" indent="-342720">
              <a:spcBef>
                <a:spcPts val="451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Verdana"/>
              </a:rPr>
              <a:t>Scientific quality of project (novelty, challenge)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725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Valorisation of scientific results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1" marL="725400" indent="-342720">
              <a:spcBef>
                <a:spcPts val="451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Verdana"/>
              </a:rPr>
              <a:t>Knowledge of applicant regarding potential markets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725400" indent="-342720">
              <a:spcBef>
                <a:spcPts val="451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Verdana"/>
              </a:rPr>
              <a:t>Economic potential value of research results for Flanders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725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1" marL="725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1290F-B6DD-4B89-9D8F-AF34902BA6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Flanders ISR Good Practices </a:t>
            </a:r>
            <a:br>
              <a:rPr sz="2200"/>
            </a:br>
            <a:r>
              <a:rPr b="0" lang="nl-BE" sz="2200" spc="-1" strike="noStrike">
                <a:solidFill>
                  <a:srgbClr val="000000"/>
                </a:solidFill>
                <a:latin typeface="Verdana"/>
              </a:rPr>
              <a:t>Postdoctoral Fellowship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35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333333"/>
                </a:solidFill>
                <a:latin typeface="Verdana"/>
              </a:rPr>
              <a:t>Industry-Science relation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185760" indent="-185760">
              <a:spcBef>
                <a:spcPts val="499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333333"/>
                </a:solidFill>
                <a:latin typeface="Verdana"/>
              </a:rPr>
              <a:t>Minimal : supervision of project by industrial promotor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185760" indent="-185760">
              <a:spcBef>
                <a:spcPts val="499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333333"/>
                </a:solidFill>
                <a:latin typeface="Verdana"/>
              </a:rPr>
              <a:t>Also : applicant is working in company for valorisation of research results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BC1A0-0A04-495C-94B1-8E6B73FFFE5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Flanders ISR Good Practices </a:t>
            </a:r>
            <a:br>
              <a:rPr sz="2200"/>
            </a:br>
            <a:r>
              <a:rPr b="0" lang="nl-BE" sz="2200" spc="-1" strike="noStrike">
                <a:solidFill>
                  <a:srgbClr val="000000"/>
                </a:solidFill>
                <a:latin typeface="Verdana"/>
              </a:rPr>
              <a:t>Interface 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235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333333"/>
                </a:solidFill>
                <a:latin typeface="Verdana"/>
              </a:rPr>
              <a:t>Who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spcBef>
                <a:spcPts val="451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333333"/>
                </a:solidFill>
                <a:latin typeface="Verdana"/>
              </a:rPr>
              <a:t>University or research institute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333333"/>
                </a:solidFill>
                <a:latin typeface="Verdana"/>
              </a:rPr>
              <a:t>What 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spcBef>
                <a:spcPts val="451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Verdana"/>
              </a:rPr>
              <a:t>Interface services are a bridge between knowledge and economy. 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spcBef>
                <a:spcPts val="451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Verdana"/>
              </a:rPr>
              <a:t>Through a range of activities, they ensure that research by a university or research centre makes its way to the commercial market. 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spcBef>
                <a:spcPts val="451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Verdana"/>
              </a:rPr>
              <a:t>In practice, the interface services assist in tracking and guiding research results that can be commercialized, to achieve exploitation.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BE1D6-CE19-4015-A5E1-E7629E2EC4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560" y="2209320"/>
            <a:ext cx="74055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200" spc="-1" strike="noStrike">
                <a:solidFill>
                  <a:srgbClr val="000000"/>
                </a:solidFill>
                <a:latin typeface="Verdana"/>
              </a:rPr>
              <a:t>ERIK Network  - 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Study Visit in Flanders </a:t>
            </a:r>
            <a:br>
              <a:rPr sz="2200"/>
            </a:br>
            <a:br>
              <a:rPr sz="22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importance of Industry-Science Relation for the Knowledge based Economy: lessons learnt from RP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447560" y="3886200"/>
            <a:ext cx="740556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landers ISR Good Practices 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5105520"/>
            <a:ext cx="3124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399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Annie Renders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4343400"/>
            <a:ext cx="73911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3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5 september 2006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Flanders ISR Good Practices </a:t>
            </a:r>
            <a:br>
              <a:rPr sz="2200"/>
            </a:br>
            <a:r>
              <a:rPr b="0" lang="nl-BE" sz="2200" spc="-1" strike="noStrike">
                <a:solidFill>
                  <a:srgbClr val="000000"/>
                </a:solidFill>
                <a:latin typeface="Verdana"/>
              </a:rPr>
              <a:t>Interface 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35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83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Verdana"/>
              </a:rPr>
              <a:t>The Interface Decree of 13 September 2002</a:t>
            </a:r>
            <a:br>
              <a:rPr sz="1800"/>
            </a:br>
            <a:r>
              <a:rPr b="0" lang="en-GB" sz="1800" spc="-1" strike="noStrike">
                <a:solidFill>
                  <a:srgbClr val="333333"/>
                </a:solidFill>
                <a:latin typeface="Verdana"/>
              </a:rPr>
              <a:t>distinguishes three types of interface activities:</a:t>
            </a:r>
            <a:br>
              <a:rPr sz="1800"/>
            </a:b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661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• </a:t>
            </a: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promoting the </a:t>
            </a:r>
            <a:r>
              <a:rPr b="1" lang="en-GB" sz="1600" spc="-1" strike="noStrike">
                <a:solidFill>
                  <a:srgbClr val="333333"/>
                </a:solidFill>
                <a:latin typeface="Verdana"/>
              </a:rPr>
              <a:t>cooperation</a:t>
            </a: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 between universities</a:t>
            </a:r>
            <a:br>
              <a:rPr sz="1600"/>
            </a:b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and companies;</a:t>
            </a:r>
            <a:br>
              <a:rPr sz="1600"/>
            </a:b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1" marL="661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• </a:t>
            </a: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ensuring the economic valorisation of</a:t>
            </a:r>
            <a:br>
              <a:rPr sz="1600"/>
            </a:b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research through sensitization and training</a:t>
            </a:r>
            <a:br>
              <a:rPr sz="1600"/>
            </a:b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of the own researchers in the various</a:t>
            </a:r>
            <a:br>
              <a:rPr sz="1600"/>
            </a:b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aspects of economic valorisation by tracing</a:t>
            </a:r>
            <a:br>
              <a:rPr sz="1600"/>
            </a:br>
            <a:r>
              <a:rPr b="1" lang="en-GB" sz="1600" spc="-1" strike="noStrike">
                <a:solidFill>
                  <a:srgbClr val="333333"/>
                </a:solidFill>
                <a:latin typeface="Verdana"/>
              </a:rPr>
              <a:t>patentable research</a:t>
            </a: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 results and the patenting</a:t>
            </a:r>
            <a:br>
              <a:rPr sz="1600"/>
            </a:b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and establishment of license contracts;</a:t>
            </a:r>
            <a:br>
              <a:rPr sz="1600"/>
            </a:b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1" marL="661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• </a:t>
            </a: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setting up </a:t>
            </a:r>
            <a:r>
              <a:rPr b="1" lang="en-GB" sz="1600" spc="-1" strike="noStrike">
                <a:solidFill>
                  <a:srgbClr val="333333"/>
                </a:solidFill>
                <a:latin typeface="Verdana"/>
              </a:rPr>
              <a:t>spin-offs</a:t>
            </a: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 through guiding the</a:t>
            </a:r>
            <a:br>
              <a:rPr sz="1600"/>
            </a:b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set-up of the business plan, the financing</a:t>
            </a:r>
            <a:br>
              <a:rPr sz="1600"/>
            </a:b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during the start-up phase, and through</a:t>
            </a:r>
            <a:br>
              <a:rPr sz="1600"/>
            </a:b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management training.</a:t>
            </a:r>
            <a:br>
              <a:rPr sz="1600"/>
            </a:b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marL="183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339F6-D12E-42D0-AB9E-637D8DC7FA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Flanders ISR Good Practices </a:t>
            </a:r>
            <a:br>
              <a:rPr sz="2200"/>
            </a:br>
            <a:r>
              <a:rPr b="0" lang="nl-BE" sz="2200" spc="-1" strike="noStrike">
                <a:solidFill>
                  <a:srgbClr val="000000"/>
                </a:solidFill>
                <a:latin typeface="Verdana"/>
              </a:rPr>
              <a:t>Interface 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235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333333"/>
                </a:solidFill>
                <a:latin typeface="Verdana"/>
              </a:rPr>
              <a:t>Industry Science relation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185760" indent="-185760">
              <a:spcBef>
                <a:spcPts val="499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Cooperation university-industry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185760" indent="-185760">
              <a:spcBef>
                <a:spcPts val="499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License contracts university-industry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185760" indent="-185760">
              <a:spcBef>
                <a:spcPts val="499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Creation of spinn-offs 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72FA0-429B-4A12-9138-715CE7FBDF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Flanders ISR Good Practices </a:t>
            </a:r>
            <a:br>
              <a:rPr sz="2200"/>
            </a:br>
            <a:r>
              <a:rPr b="0" lang="nl-BE" sz="2200" spc="-1" strike="noStrike">
                <a:solidFill>
                  <a:srgbClr val="000000"/>
                </a:solidFill>
                <a:latin typeface="Verdana"/>
              </a:rPr>
              <a:t>Interface 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235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333333"/>
                </a:solidFill>
                <a:latin typeface="Verdana"/>
              </a:rPr>
              <a:t>1 interface service / university or research centre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spcBef>
                <a:spcPts val="451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333333"/>
                </a:solidFill>
                <a:latin typeface="Verdana"/>
              </a:rPr>
              <a:t>6 interfaces at Flemish universities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spcBef>
                <a:spcPts val="451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333333"/>
                </a:solidFill>
                <a:latin typeface="Verdana"/>
              </a:rPr>
              <a:t>4 interfaces at research centres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spcBef>
                <a:spcPts val="451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333333"/>
                </a:solidFill>
                <a:latin typeface="Verdana"/>
              </a:rPr>
              <a:t>39.5 VTE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910FC-D53D-4907-998C-2D46AE9CB50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schema_achtergrond_egaa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231200" y="4606920"/>
            <a:ext cx="21240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ischoffsheimlaan 25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-1000 Brussel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el.: +32 (0)2 209 09 0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Fax.: +32 (0)2 223 11 81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E-mail: info@iwt.be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ww.iwt.be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119240" y="1647720"/>
            <a:ext cx="7186320" cy="1781280"/>
            <a:chOff x="1119240" y="1647720"/>
            <a:chExt cx="7186320" cy="1781280"/>
          </a:xfrm>
        </p:grpSpPr>
        <p:sp>
          <p:nvSpPr>
            <p:cNvPr id="161" name=""/>
            <p:cNvSpPr/>
            <p:nvPr/>
          </p:nvSpPr>
          <p:spPr>
            <a:xfrm>
              <a:off x="1119240" y="1647720"/>
              <a:ext cx="1816920" cy="1162080"/>
            </a:xfrm>
            <a:prstGeom prst="rect">
              <a:avLst/>
            </a:prstGeom>
            <a:solidFill>
              <a:srgbClr val="e11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75560" y="1808280"/>
              <a:ext cx="58140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83640" y="2014560"/>
              <a:ext cx="185040" cy="63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45320" y="2014560"/>
              <a:ext cx="188280" cy="63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345320" y="1808280"/>
              <a:ext cx="18828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80040" y="2014560"/>
              <a:ext cx="388080" cy="655560"/>
            </a:xfrm>
            <a:custGeom>
              <a:avLst/>
              <a:gdLst/>
              <a:ahLst/>
              <a:rect l="l" t="t" r="r" b="b"/>
              <a:pathLst>
                <a:path w="223" h="392">
                  <a:moveTo>
                    <a:pt x="104" y="0"/>
                  </a:moveTo>
                  <a:lnTo>
                    <a:pt x="223" y="257"/>
                  </a:lnTo>
                  <a:lnTo>
                    <a:pt x="223" y="257"/>
                  </a:lnTo>
                  <a:lnTo>
                    <a:pt x="169" y="392"/>
                  </a:lnTo>
                  <a:lnTo>
                    <a:pt x="169" y="392"/>
                  </a:lnTo>
                  <a:lnTo>
                    <a:pt x="0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20240" y="1987560"/>
              <a:ext cx="515520" cy="682560"/>
            </a:xfrm>
            <a:custGeom>
              <a:avLst/>
              <a:gdLst/>
              <a:ahLst/>
              <a:rect l="l" t="t" r="r" b="b"/>
              <a:pathLst>
                <a:path w="296" h="408">
                  <a:moveTo>
                    <a:pt x="184" y="16"/>
                  </a:moveTo>
                  <a:lnTo>
                    <a:pt x="127" y="150"/>
                  </a:lnTo>
                  <a:lnTo>
                    <a:pt x="127" y="15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127" y="408"/>
                  </a:lnTo>
                  <a:lnTo>
                    <a:pt x="127" y="408"/>
                  </a:lnTo>
                  <a:lnTo>
                    <a:pt x="296" y="16"/>
                  </a:lnTo>
                  <a:lnTo>
                    <a:pt x="184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30280" y="2879640"/>
              <a:ext cx="49132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Instituut voor de Aanmoediging van Innovatie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oor Wetenschap en Technologie in Vlaanderen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30280" y="3170160"/>
              <a:ext cx="50752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277BA-661F-4CF4-A2C9-2764913088B3}" type="slidenum">
              <a:t>23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Flanders ISR Good Practices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520" y="1828800"/>
            <a:ext cx="7239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Technological services projects- VIS-TD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185760" indent="-185760"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Postdoctoral Fellowships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185760" indent="-185760"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Interface services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D7B42-FF72-4B23-9E92-92EB47B5C1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Flanders ISR Good Practices </a:t>
            </a:r>
            <a:br>
              <a:rPr sz="2200"/>
            </a:br>
            <a:r>
              <a:rPr b="0" lang="nl-BE" sz="2200" spc="-1" strike="noStrike">
                <a:solidFill>
                  <a:srgbClr val="000000"/>
                </a:solidFill>
                <a:latin typeface="Verdana"/>
              </a:rPr>
              <a:t>Technological services projects- VIS-TD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5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333333"/>
                </a:solidFill>
                <a:latin typeface="Verdana"/>
              </a:rPr>
              <a:t>Who 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spcBef>
                <a:spcPts val="451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Verdana"/>
              </a:rPr>
              <a:t>A cooperative venture of at least 10 companies (also existing ventures – existing organisations)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spcBef>
                <a:spcPts val="451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Verdana"/>
              </a:rPr>
              <a:t>In coöperation with a technology centre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333333"/>
                </a:solidFill>
                <a:latin typeface="Verdana"/>
              </a:rPr>
              <a:t>What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spcBef>
                <a:spcPts val="451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Verdana"/>
              </a:rPr>
              <a:t>provide concise technological advice to individual companies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spcBef>
                <a:spcPts val="451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Verdana"/>
              </a:rPr>
              <a:t>promote technological innovation through promotional activities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69E36-048A-42BC-9B71-E04688453E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Flanders ISR Good Practices </a:t>
            </a:r>
            <a:br>
              <a:rPr sz="2200"/>
            </a:br>
            <a:r>
              <a:rPr b="0" lang="nl-BE" sz="2200" spc="-1" strike="noStrike">
                <a:solidFill>
                  <a:srgbClr val="000000"/>
                </a:solidFill>
                <a:latin typeface="Verdana"/>
              </a:rPr>
              <a:t>Technological services projects- VIS-TD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5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The main objective of a TD project is to make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the </a:t>
            </a:r>
            <a:r>
              <a:rPr b="1" lang="en-GB" sz="2000" spc="-1" strike="noStrike">
                <a:solidFill>
                  <a:srgbClr val="333333"/>
                </a:solidFill>
                <a:latin typeface="Verdana"/>
              </a:rPr>
              <a:t>innovation process </a:t>
            </a: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of companies, and in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particular SMEs, faster and more thorough by: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Verdana"/>
              </a:rPr>
              <a:t>• </a:t>
            </a:r>
            <a:r>
              <a:rPr b="0" lang="en-GB" sz="1800" spc="-1" strike="noStrike">
                <a:solidFill>
                  <a:srgbClr val="333333"/>
                </a:solidFill>
                <a:latin typeface="Verdana"/>
              </a:rPr>
              <a:t>offering high-quality expert technological advice;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Verdana"/>
              </a:rPr>
              <a:t>• </a:t>
            </a:r>
            <a:r>
              <a:rPr b="0" lang="en-GB" sz="1800" spc="-1" strike="noStrike">
                <a:solidFill>
                  <a:srgbClr val="333333"/>
                </a:solidFill>
                <a:latin typeface="Verdana"/>
              </a:rPr>
              <a:t>providing in-depth technological advice (budgets under € 7,500);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Verdana"/>
              </a:rPr>
              <a:t>• </a:t>
            </a:r>
            <a:r>
              <a:rPr b="0" lang="en-GB" sz="1800" spc="-1" strike="noStrike">
                <a:solidFill>
                  <a:srgbClr val="333333"/>
                </a:solidFill>
                <a:latin typeface="Verdana"/>
              </a:rPr>
              <a:t>transferring the results of publicly financed research to the companies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CBEF1-C0D0-4B18-A52C-712F64B079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Flanders ISR Good Practices </a:t>
            </a:r>
            <a:br>
              <a:rPr sz="2200"/>
            </a:br>
            <a:r>
              <a:rPr b="0" lang="nl-BE" sz="2200" spc="-1" strike="noStrike">
                <a:solidFill>
                  <a:srgbClr val="000000"/>
                </a:solidFill>
                <a:latin typeface="Verdana"/>
              </a:rPr>
              <a:t>Technological services projects- VIS-TD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3520" y="182844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333333"/>
                </a:solidFill>
                <a:latin typeface="Verdana"/>
              </a:rPr>
              <a:t>4 year projects (2x2)  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spcBef>
                <a:spcPts val="400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Continuation of services to companies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spcBef>
                <a:spcPts val="400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Renewal of the covered topics 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spcBef>
                <a:spcPts val="400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70 project in portfolio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marL="185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333333"/>
                </a:solidFill>
                <a:latin typeface="Verdana"/>
              </a:rPr>
              <a:t>Yearly selection of new projects by call (see further)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spcBef>
                <a:spcPts val="400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Programme started in 2001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spcBef>
                <a:spcPts val="400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Continuation of projects possible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spcBef>
                <a:spcPts val="400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Typical call : 35 proposals – 20 projects selected for funding 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marL="185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marL="185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Verdana"/>
              </a:rPr>
              <a:t>Financial support : 80% of eligible expenses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spcBef>
                <a:spcPts val="400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Staff expenses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spcBef>
                <a:spcPts val="400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Other expenses including overhead up to €37.500 or €50.000  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AE950-4AA9-435F-8DB6-076A013029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Flanders ISR Good Practices </a:t>
            </a:r>
            <a:br>
              <a:rPr sz="2200"/>
            </a:br>
            <a:r>
              <a:rPr b="0" lang="nl-BE" sz="2200" spc="-1" strike="noStrike">
                <a:solidFill>
                  <a:srgbClr val="000000"/>
                </a:solidFill>
                <a:latin typeface="Verdana"/>
              </a:rPr>
              <a:t>Technological services projects- VIS-TD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35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333333"/>
                </a:solidFill>
                <a:latin typeface="Verdana"/>
              </a:rPr>
              <a:t>Selection of projects - yearly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Verdana"/>
              </a:rPr>
              <a:t>Call opens mid July – closed by mid October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Verdana"/>
              </a:rPr>
              <a:t>Contact between IWT-scientific advisor and applicant 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Verdana"/>
              </a:rPr>
              <a:t>Grouping of projects by theme (8-12 projects)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Verdana"/>
              </a:rPr>
              <a:t>1-day evaluation/group of projects 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Verdana"/>
              </a:rPr>
              <a:t>4-5 external experts for each group of projects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Verdana"/>
              </a:rPr>
              <a:t>Evaluation of two criteria (see further)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Verdana"/>
              </a:rPr>
              <a:t>Consensus of expert opinions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Verdana"/>
              </a:rPr>
              <a:t>Decision by IWT board of directors by February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0B8A5-36B5-42A5-BEC0-07FE24BB07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Flanders ISR Good Practices </a:t>
            </a:r>
            <a:br>
              <a:rPr sz="2200"/>
            </a:br>
            <a:r>
              <a:rPr b="0" lang="nl-BE" sz="2200" spc="-1" strike="noStrike">
                <a:solidFill>
                  <a:srgbClr val="000000"/>
                </a:solidFill>
                <a:latin typeface="Verdana"/>
              </a:rPr>
              <a:t>Technological services projects- VIS-TD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35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333333"/>
                </a:solidFill>
                <a:latin typeface="Verdana"/>
              </a:rPr>
              <a:t>Evaluation – quality of project proposa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The quality of the information provided 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The relevance/pertincance of the workplan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The competence and expertise of the applicant/technology centre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Involvement of companies during the project 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Monitoring of results and effects of the project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2FB2A-64DB-468B-9E3D-3C725C020D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Flanders ISR Good Practices </a:t>
            </a:r>
            <a:br>
              <a:rPr sz="2200"/>
            </a:br>
            <a:r>
              <a:rPr b="0" lang="nl-BE" sz="2200" spc="-1" strike="noStrike">
                <a:solidFill>
                  <a:srgbClr val="000000"/>
                </a:solidFill>
                <a:latin typeface="Verdana"/>
              </a:rPr>
              <a:t>Technological services projects- VIS-TD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333333"/>
                </a:solidFill>
                <a:latin typeface="Verdana"/>
              </a:rPr>
              <a:t>Evaluation – </a:t>
            </a: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innovation potential of the project proposa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Reach : number of companies to benefit from the project 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The quality of the intended services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The economic importance of possible innovations initiated in the target group of companies 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Complementarity with other initiatives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The results of a previous project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Contribution to sustainable development 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marL="18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5123D-B4A6-4B1C-964D-A808AE466B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5T10:22:17Z</dcterms:created>
  <dc:creator>AR</dc:creator>
  <dc:description/>
  <dc:language>en-US</dc:language>
  <cp:lastModifiedBy>AR</cp:lastModifiedBy>
  <cp:lastPrinted>2003-06-18T08:59:02Z</cp:lastPrinted>
  <dcterms:modified xsi:type="dcterms:W3CDTF">2006-09-04T12:28:0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8650974</vt:r8>
  </property>
  <property fmtid="{D5CDD505-2E9C-101B-9397-08002B2CF9AE}" pid="3" name="_AuthorEmail">
    <vt:lpwstr>AR@iwt.be</vt:lpwstr>
  </property>
  <property fmtid="{D5CDD505-2E9C-101B-9397-08002B2CF9AE}" pid="4" name="_AuthorEmailDisplayName">
    <vt:lpwstr>Annie Renders</vt:lpwstr>
  </property>
  <property fmtid="{D5CDD505-2E9C-101B-9397-08002B2CF9AE}" pid="5" name="_EmailSubject">
    <vt:lpwstr>Flanders ISR GPs</vt:lpwstr>
  </property>
  <property fmtid="{D5CDD505-2E9C-101B-9397-08002B2CF9AE}" pid="6" name="_NewReviewCycle">
    <vt:lpwstr/>
  </property>
</Properties>
</file>