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1A1C-D083-4721-9269-5CB340E80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235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9357-B8D6-45DA-9A49-ECC58DC61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940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5FD6-6041-4044-943D-FB9582215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4524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673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235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4524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673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D26A-1155-457F-B4B8-A9BF42ECB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04560" y="228600"/>
            <a:ext cx="7481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6C95-0C3E-42D9-AFEA-4E605D017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940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235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940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4524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673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235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4524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673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C323-6D49-4360-AD90-3F23692C8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1E55-582D-4810-9D20-2773E5A97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FFC0-FD23-4613-B458-BD17B7DCF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4560" y="228600"/>
            <a:ext cx="7481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85B5-3BD6-473F-B49F-E4D925966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74B7-999B-42BA-986D-54E824DAC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40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B10A-140B-4EDE-8B84-1E0AC45EE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940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5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1467-8E94-44E5-9829-5DA2AD724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0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76520" y="4419720"/>
            <a:ext cx="1752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" name="tekstscherm_achtergrond_egaa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153280" y="632448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fld id="{2736DD10-5BA0-4690-98BC-46F85755E58C}" type="slidenum">
              <a:rPr b="0" lang="nl-NL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85760" indent="-185760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57200" y="6095880"/>
            <a:ext cx="762120" cy="501840"/>
            <a:chOff x="457200" y="6095880"/>
            <a:chExt cx="762120" cy="501840"/>
          </a:xfrm>
        </p:grpSpPr>
        <p:sp>
          <p:nvSpPr>
            <p:cNvPr id="6" name=""/>
            <p:cNvSpPr/>
            <p:nvPr/>
          </p:nvSpPr>
          <p:spPr>
            <a:xfrm>
              <a:off x="457200" y="6095880"/>
              <a:ext cx="762120" cy="501840"/>
            </a:xfrm>
            <a:prstGeom prst="rect">
              <a:avLst/>
            </a:prstGeom>
            <a:solidFill>
              <a:srgbClr val="e11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1040" y="6165000"/>
              <a:ext cx="2433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28520" y="6253920"/>
              <a:ext cx="7848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2240" y="6253920"/>
              <a:ext cx="774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52240" y="6165000"/>
              <a:ext cx="774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0520" y="6253920"/>
              <a:ext cx="161640" cy="282600"/>
            </a:xfrm>
            <a:custGeom>
              <a:avLst/>
              <a:gdLst/>
              <a:ahLst/>
              <a:rect l="l" t="t" r="r" b="b"/>
              <a:pathLst>
                <a:path w="116" h="204">
                  <a:moveTo>
                    <a:pt x="54" y="0"/>
                  </a:moveTo>
                  <a:lnTo>
                    <a:pt x="116" y="134"/>
                  </a:lnTo>
                  <a:lnTo>
                    <a:pt x="116" y="134"/>
                  </a:lnTo>
                  <a:lnTo>
                    <a:pt x="88" y="204"/>
                  </a:lnTo>
                  <a:lnTo>
                    <a:pt x="88" y="204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93080" y="6242400"/>
              <a:ext cx="215640" cy="293760"/>
            </a:xfrm>
            <a:custGeom>
              <a:avLst/>
              <a:gdLst/>
              <a:ahLst/>
              <a:rect l="l" t="t" r="r" b="b"/>
              <a:pathLst>
                <a:path w="154" h="212">
                  <a:moveTo>
                    <a:pt x="96" y="8"/>
                  </a:moveTo>
                  <a:lnTo>
                    <a:pt x="66" y="78"/>
                  </a:lnTo>
                  <a:lnTo>
                    <a:pt x="66" y="7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6" y="212"/>
                  </a:lnTo>
                  <a:lnTo>
                    <a:pt x="66" y="212"/>
                  </a:lnTo>
                  <a:lnTo>
                    <a:pt x="154" y="8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295280" y="1295280"/>
            <a:ext cx="223920" cy="223920"/>
          </a:xfrm>
          <a:prstGeom prst="rect">
            <a:avLst/>
          </a:prstGeom>
          <a:solidFill>
            <a:srgbClr val="eb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517760" y="1295280"/>
            <a:ext cx="22356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">
            <a:hlinkClick r:id="rId3" action="ppaction://hlinksldjump"/>
          </p:cNvPr>
          <p:cNvSpPr/>
          <p:nvPr/>
        </p:nvSpPr>
        <p:spPr>
          <a:xfrm>
            <a:off x="0" y="1600200"/>
            <a:ext cx="12952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4d4d4d"/>
                </a:solidFill>
                <a:latin typeface="Verdana"/>
              </a:rPr>
              <a:t>home &gt;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">
            <a:hlinkClick r:id="rId4" action="ppaction://hlinksldjump"/>
          </p:cNvPr>
          <p:cNvSpPr/>
          <p:nvPr/>
        </p:nvSpPr>
        <p:spPr>
          <a:xfrm>
            <a:off x="0" y="1828800"/>
            <a:ext cx="12952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4d4d4d"/>
                </a:solidFill>
                <a:latin typeface="Verdana"/>
              </a:rPr>
              <a:t>sitemap &gt;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757520" y="127620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Verdana"/>
              </a:rPr>
              <a:t>Presentation of Flanders and IWT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gale_achtergro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557280" y="431640"/>
            <a:ext cx="3900600" cy="1253880"/>
            <a:chOff x="557280" y="431640"/>
            <a:chExt cx="3900600" cy="1253880"/>
          </a:xfrm>
        </p:grpSpPr>
        <p:sp>
          <p:nvSpPr>
            <p:cNvPr id="56" name=""/>
            <p:cNvSpPr/>
            <p:nvPr/>
          </p:nvSpPr>
          <p:spPr>
            <a:xfrm>
              <a:off x="557280" y="431640"/>
              <a:ext cx="873720" cy="585720"/>
            </a:xfrm>
            <a:prstGeom prst="rect">
              <a:avLst/>
            </a:prstGeom>
            <a:solidFill>
              <a:srgbClr val="e11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13120" y="512280"/>
              <a:ext cx="279360" cy="7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12480" y="615600"/>
              <a:ext cx="89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6360" y="615600"/>
              <a:ext cx="89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6360" y="512280"/>
              <a:ext cx="89640" cy="7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8680" y="615600"/>
              <a:ext cx="186480" cy="330120"/>
            </a:xfrm>
            <a:custGeom>
              <a:avLst/>
              <a:gdLst/>
              <a:ahLst/>
              <a:rect l="l" t="t" r="r" b="b"/>
              <a:pathLst>
                <a:path w="116" h="204">
                  <a:moveTo>
                    <a:pt x="54" y="0"/>
                  </a:moveTo>
                  <a:lnTo>
                    <a:pt x="116" y="134"/>
                  </a:lnTo>
                  <a:lnTo>
                    <a:pt x="116" y="134"/>
                  </a:lnTo>
                  <a:lnTo>
                    <a:pt x="88" y="204"/>
                  </a:lnTo>
                  <a:lnTo>
                    <a:pt x="88" y="204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2480" y="603000"/>
              <a:ext cx="247320" cy="343080"/>
            </a:xfrm>
            <a:custGeom>
              <a:avLst/>
              <a:gdLst/>
              <a:ahLst/>
              <a:rect l="l" t="t" r="r" b="b"/>
              <a:pathLst>
                <a:path w="154" h="212">
                  <a:moveTo>
                    <a:pt x="96" y="8"/>
                  </a:moveTo>
                  <a:lnTo>
                    <a:pt x="66" y="78"/>
                  </a:lnTo>
                  <a:lnTo>
                    <a:pt x="66" y="7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6" y="212"/>
                  </a:lnTo>
                  <a:lnTo>
                    <a:pt x="66" y="212"/>
                  </a:lnTo>
                  <a:lnTo>
                    <a:pt x="154" y="8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44560" y="1053000"/>
              <a:ext cx="27133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nstituut voor de Aanmoediging van Innovatie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oor Wetenschap en Technologie in Vlaanderen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2120" y="1198440"/>
              <a:ext cx="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3160" y="2236320"/>
            <a:ext cx="74055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26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2" marL="952560" algn="ctr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3" marL="1620720" algn="ctr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4" marL="2090880" algn="ctr"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5" marL="2090880"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6" marL="2090880"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chema_achtergrond_ega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9240" y="1647720"/>
            <a:ext cx="1817640" cy="1162080"/>
          </a:xfrm>
          <a:prstGeom prst="rect">
            <a:avLst/>
          </a:prstGeom>
          <a:solidFill>
            <a:srgbClr val="e1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74840" y="1808280"/>
            <a:ext cx="5828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2014560"/>
            <a:ext cx="18432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46040" y="2014560"/>
            <a:ext cx="18756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46040" y="1808280"/>
            <a:ext cx="18756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79680" y="2014560"/>
            <a:ext cx="388800" cy="655560"/>
          </a:xfrm>
          <a:custGeom>
            <a:avLst/>
            <a:gdLst/>
            <a:ahLst/>
            <a:rect l="l" t="t" r="r" b="b"/>
            <a:pathLst>
              <a:path w="223" h="392">
                <a:moveTo>
                  <a:pt x="104" y="0"/>
                </a:moveTo>
                <a:lnTo>
                  <a:pt x="223" y="257"/>
                </a:lnTo>
                <a:lnTo>
                  <a:pt x="223" y="257"/>
                </a:lnTo>
                <a:lnTo>
                  <a:pt x="169" y="392"/>
                </a:lnTo>
                <a:lnTo>
                  <a:pt x="169" y="392"/>
                </a:lnTo>
                <a:lnTo>
                  <a:pt x="0" y="0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20960" y="1987560"/>
            <a:ext cx="514440" cy="682560"/>
          </a:xfrm>
          <a:custGeom>
            <a:avLst/>
            <a:gdLst/>
            <a:ahLst/>
            <a:rect l="l" t="t" r="r" b="b"/>
            <a:pathLst>
              <a:path w="296" h="408">
                <a:moveTo>
                  <a:pt x="184" y="16"/>
                </a:moveTo>
                <a:lnTo>
                  <a:pt x="127" y="150"/>
                </a:lnTo>
                <a:lnTo>
                  <a:pt x="127" y="150"/>
                </a:lnTo>
                <a:lnTo>
                  <a:pt x="54" y="0"/>
                </a:lnTo>
                <a:lnTo>
                  <a:pt x="54" y="0"/>
                </a:lnTo>
                <a:lnTo>
                  <a:pt x="0" y="150"/>
                </a:lnTo>
                <a:lnTo>
                  <a:pt x="0" y="150"/>
                </a:lnTo>
                <a:lnTo>
                  <a:pt x="127" y="408"/>
                </a:lnTo>
                <a:lnTo>
                  <a:pt x="127" y="408"/>
                </a:lnTo>
                <a:lnTo>
                  <a:pt x="296" y="16"/>
                </a:lnTo>
                <a:lnTo>
                  <a:pt x="18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30640" y="2879640"/>
            <a:ext cx="55324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stituut voor de Aanmoediging van Innovati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oor Wetenschap en Technologie in Vlaander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he Institute for the promotion of Innovatio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by Science and Technology in Flander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30640" y="3170160"/>
            <a:ext cx="507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C32B-51C5-40BB-BADB-57BC4CA0EE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chema_achtergrond_ega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31200" y="4606920"/>
            <a:ext cx="2124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ischoffsheimlaan 25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-1000 Brusse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el.: +32 (0)2 209 09 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Fax.: +32 (0)2 223 11 81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E-mail: info@iwt.b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ww.iwt.b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9240" y="1647720"/>
            <a:ext cx="7186320" cy="1781280"/>
            <a:chOff x="1119240" y="1647720"/>
            <a:chExt cx="7186320" cy="1781280"/>
          </a:xfrm>
        </p:grpSpPr>
        <p:sp>
          <p:nvSpPr>
            <p:cNvPr id="134" name=""/>
            <p:cNvSpPr/>
            <p:nvPr/>
          </p:nvSpPr>
          <p:spPr>
            <a:xfrm>
              <a:off x="1119240" y="1647720"/>
              <a:ext cx="1816920" cy="1162080"/>
            </a:xfrm>
            <a:prstGeom prst="rect">
              <a:avLst/>
            </a:prstGeom>
            <a:solidFill>
              <a:srgbClr val="e11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75560" y="1808280"/>
              <a:ext cx="5814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3640" y="2014560"/>
              <a:ext cx="185040" cy="63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45320" y="2014560"/>
              <a:ext cx="188280" cy="63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45320" y="1808280"/>
              <a:ext cx="18828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0040" y="2014560"/>
              <a:ext cx="388080" cy="655560"/>
            </a:xfrm>
            <a:custGeom>
              <a:avLst/>
              <a:gdLst/>
              <a:ahLst/>
              <a:rect l="l" t="t" r="r" b="b"/>
              <a:pathLst>
                <a:path w="223" h="392">
                  <a:moveTo>
                    <a:pt x="104" y="0"/>
                  </a:moveTo>
                  <a:lnTo>
                    <a:pt x="223" y="257"/>
                  </a:lnTo>
                  <a:lnTo>
                    <a:pt x="223" y="257"/>
                  </a:lnTo>
                  <a:lnTo>
                    <a:pt x="169" y="392"/>
                  </a:lnTo>
                  <a:lnTo>
                    <a:pt x="169" y="392"/>
                  </a:lnTo>
                  <a:lnTo>
                    <a:pt x="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20240" y="1987560"/>
              <a:ext cx="515520" cy="682560"/>
            </a:xfrm>
            <a:custGeom>
              <a:avLst/>
              <a:gdLst/>
              <a:ahLst/>
              <a:rect l="l" t="t" r="r" b="b"/>
              <a:pathLst>
                <a:path w="296" h="408">
                  <a:moveTo>
                    <a:pt x="184" y="16"/>
                  </a:moveTo>
                  <a:lnTo>
                    <a:pt x="127" y="150"/>
                  </a:lnTo>
                  <a:lnTo>
                    <a:pt x="127" y="15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27" y="408"/>
                  </a:lnTo>
                  <a:lnTo>
                    <a:pt x="127" y="408"/>
                  </a:lnTo>
                  <a:lnTo>
                    <a:pt x="296" y="16"/>
                  </a:lnTo>
                  <a:lnTo>
                    <a:pt x="1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30280" y="2879640"/>
              <a:ext cx="4913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nstituut voor de Aanmoediging van Innovati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oor Wetenschap en Technologie in Vlaanderen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30280" y="3170160"/>
              <a:ext cx="5075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E22C-DED7-4A79-8E79-04393E962B8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209320"/>
            <a:ext cx="74055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ERIK Network  -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tudy Visit in Flanders </a:t>
            </a:r>
            <a:br>
              <a:rPr sz="2200"/>
            </a:br>
            <a:br>
              <a:rPr sz="22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mportance of Industry-Science Relation for the Knowledge based Economy: lessons learnt from RP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7405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tion of Flanders and IW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105520"/>
            <a:ext cx="3124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nnie Render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343400"/>
            <a:ext cx="7391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5 september 200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resentation of Flanders and IW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Flanders : presentation of the reg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WT : presentation of institute operation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17EB-DC9E-47C5-83F7-F44EBDA9E9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Flanders : presentation of the reg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592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3DA8-D9DC-4C51-96F7-0F95449866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Flanders : presentation of the reg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3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6.0 million inhabitants (60% of the Belgian population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13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13.522 km² 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13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densely populated area with 434 inhabitants per km²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13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7 universities of which 2 world-clas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13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Very open economy (80 % export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13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Strong sectors: automobile, petrochemicals and plastic processing, life scienc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13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Excellent ICT-infrastructure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130000"/>
              </a:lnSpc>
              <a:spcBef>
                <a:spcPts val="45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Educated, productive, loyal, multilingual and flexible workforce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327E-EC1E-4467-AF52-1F95581B2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Flanders : presentation of the region</a:t>
            </a:r>
            <a:br>
              <a:rPr sz="2200"/>
            </a:b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      innovation related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2.55% of its GDP is spent in R&amp;D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-282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0.6% public sector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-282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1.9% private sector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-183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7 universities of which 2 world-clas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-18360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2 funding institut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-28260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Fund for Scientific Research (2004 data: total budget 118 mio €) support of fundamental research 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2" marL="1224000" indent="-28116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Verdana"/>
              </a:rPr>
              <a:t>Support for individual researchers (53 mio €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2" marL="1224000" indent="-28116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Verdana"/>
              </a:rPr>
              <a:t>Supporting research teams (63 mio €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2" marL="1224000" indent="-28116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Verdana"/>
              </a:rPr>
              <a:t>Promoting national and international scientific mobility (2 mio €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2" marL="1224000" indent="-28116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Verdana"/>
              </a:rPr>
              <a:t>Participating in European Research organizations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2" marL="1224000" indent="-28116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Verdana"/>
              </a:rPr>
              <a:t>Awarding scientific prizes to distinguished researchers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2" marL="1224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1" marL="661320" indent="-28260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IWT 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2" marL="1224000" indent="-28116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Verdana"/>
              </a:rPr>
              <a:t>Funding of industrial scientific technological R&amp;D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lvl="2" marL="1224000" indent="-28116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Verdana"/>
              </a:rPr>
              <a:t>Services with regard to technological transfer and innovation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645B-0DDA-4F1C-813E-D254A47C8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WT: General surv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200000"/>
              </a:lnSpc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History:  Established 1991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200000"/>
              </a:lnSpc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Mission: promotion of innovat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200000"/>
              </a:lnSpc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Formal:  Government agenc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200000"/>
              </a:lnSpc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Personnel:  50 scientific adviso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F575-BDAA-4C9C-B570-D5E391811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Verdana"/>
              </a:rPr>
              <a:t>IWT – key figu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Annual IWT budget for innovation (2005) : 217 million euro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54 million for R&amp;D-project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26 million for Innovation projects SME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37 million for Strategic Basic Research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6 million for HEI (higher education institutes)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17 million for Flemish Innovation Cooperation Network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20 million for doctoral student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3 million for postdoctoral fellowship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10 million for agricultural research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43 million for special projects (competence centers, …)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Client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150 innovative enterprises / year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Verdana"/>
              </a:rPr>
              <a:t>500 SME projects / year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spcBef>
                <a:spcPts val="4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Network of intermediairies : 200 advisors in the field 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5187-F66D-4E73-B523-6D2B22771A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4560" y="228600"/>
            <a:ext cx="74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WT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1125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Subsidies = €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Enterpris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Research Institut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Grants to PhD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Intermediairi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90000"/>
              </a:lnSpc>
              <a:spcBef>
                <a:spcPts val="1125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Coordination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Technology platform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Intermediairies – beyond programme coordination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5760" indent="-185760">
              <a:lnSpc>
                <a:spcPct val="90000"/>
              </a:lnSpc>
              <a:spcBef>
                <a:spcPts val="1125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Servic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Flemish Contactpoint European research FP7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IRC-Flanders (technology transfer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668160" indent="-28548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Verdana"/>
              </a:rPr>
              <a:t>Information Office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1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23D7-B254-4C45-8E22-0786F88ABF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8:35:45Z</dcterms:created>
  <dc:creator>AR</dc:creator>
  <dc:description/>
  <dc:language>en-US</dc:language>
  <cp:lastModifiedBy>AR</cp:lastModifiedBy>
  <cp:lastPrinted>2006-09-04T09:40:34Z</cp:lastPrinted>
  <dcterms:modified xsi:type="dcterms:W3CDTF">2006-09-04T09:45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916907</vt:r8>
  </property>
  <property fmtid="{D5CDD505-2E9C-101B-9397-08002B2CF9AE}" pid="3" name="_AuthorEmail">
    <vt:lpwstr>AR@iwt.be</vt:lpwstr>
  </property>
  <property fmtid="{D5CDD505-2E9C-101B-9397-08002B2CF9AE}" pid="4" name="_AuthorEmailDisplayName">
    <vt:lpwstr>Annie Renders</vt:lpwstr>
  </property>
  <property fmtid="{D5CDD505-2E9C-101B-9397-08002B2CF9AE}" pid="5" name="_EmailSubject">
    <vt:lpwstr>Flanders ISR GPs</vt:lpwstr>
  </property>
  <property fmtid="{D5CDD505-2E9C-101B-9397-08002B2CF9AE}" pid="6" name="_NewReviewCycle">
    <vt:lpwstr/>
  </property>
</Properties>
</file>