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81E-E749-4B08-BAA9-F8DA4A4D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2AA-AE71-49DD-B739-A7E90A03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04A-E384-4B87-9B70-08A10880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1F7-FE84-446A-ACF5-5D886936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A62-54E4-4622-80D4-3F664D2C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8CF-F6F1-450D-B091-78D482D9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138-A248-484D-B1BA-77EC5E71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DE2-2796-4723-88A9-05663741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19280" y="-360"/>
            <a:ext cx="7524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942-D58B-4504-80CB-ED610B7E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D2D-10D3-42DB-9B91-835E0976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987-A186-4C82-88D6-8FB7E339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0AA-A326-4934-9197-28055B3B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679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eu_logo" descr=""/>
          <p:cNvPicPr/>
          <p:nvPr/>
        </p:nvPicPr>
        <p:blipFill>
          <a:blip r:embed="rId3"/>
          <a:stretch/>
        </p:blipFill>
        <p:spPr>
          <a:xfrm>
            <a:off x="85680" y="6168960"/>
            <a:ext cx="957240" cy="5731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44120" y="1413000"/>
            <a:ext cx="74278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ISR Study Visit in Fla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Presentation of </a:t>
            </a: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Industry Science Relations T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Tahoma"/>
              </a:rPr>
              <a:t>Giorgia Valli, ASTER/Emilia-Romagna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Brussels, 5th Sept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3716280"/>
            <a:ext cx="583272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00360" y="404280"/>
            <a:ext cx="597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ISR TWG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052640"/>
            <a:ext cx="8713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Activities carried out on ISR during ERIK first pha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4 ISR TWG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Wiener Neustadt, 3 December 200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Helsinki, 6-7 May 20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ö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teborg, 29 Sept/1 October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4 Study Visits on I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Helsinki, 7 May 20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ö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teborg, 29 Sept/1 October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Pontedera and Pisa, November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aen, March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1 Transregional Workshop on I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17 March 2005 - Caen (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1 Working Paper on ISR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272736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1120" y="4308480"/>
            <a:ext cx="235080" cy="507960"/>
          </a:xfrm>
          <a:prstGeom prst="rect">
            <a:avLst/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9720" y="4724280"/>
            <a:ext cx="235080" cy="507960"/>
          </a:xfrm>
          <a:prstGeom prst="rect">
            <a:avLst/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9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ERIK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628640"/>
            <a:ext cx="2670120" cy="117000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47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641600"/>
            <a:ext cx="2670120" cy="117000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47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592280"/>
            <a:ext cx="1676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Methodology elabo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and partner follow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192888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Methodology tu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87880" y="1641600"/>
            <a:ext cx="2670120" cy="117000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47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7056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744560"/>
            <a:ext cx="190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First round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data collection towards TWG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1641600"/>
            <a:ext cx="2670120" cy="117000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47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193824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Elaboration of first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373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ERIK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059360"/>
            <a:ext cx="2670120" cy="117000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05080" y="4059360"/>
            <a:ext cx="2670120" cy="117000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2920" y="4059360"/>
            <a:ext cx="2670480" cy="1170000"/>
          </a:xfrm>
          <a:custGeom>
            <a:avLst/>
            <a:gdLst>
              <a:gd name="textAreaLeft" fmla="*/ 0 w 2670480"/>
              <a:gd name="textAreaRight" fmla="*/ 2670840 w 267048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67600" y="4059360"/>
            <a:ext cx="2670120" cy="117000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407664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Indicators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24200" y="407664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Launch of 1st Call for 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11840" y="4005360"/>
            <a:ext cx="1676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GPs Collection and selection  for Publication &amp; Study T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6560" y="422100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ahoma"/>
                <a:ea typeface="Times New Roman"/>
              </a:rPr>
              <a:t>GPs refinement for Publication and TW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404640"/>
            <a:ext cx="59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From ERIK to ERIK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340000" y="188640"/>
            <a:ext cx="680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ERIK+: activities carried out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results achieved up to no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052640"/>
            <a:ext cx="8713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Selection of ISR indicators to be adopted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it-IT" sz="1200" spc="-1" strike="noStrike">
                <a:solidFill>
                  <a:srgbClr val="333399"/>
                </a:solidFill>
                <a:latin typeface="Tahoma"/>
              </a:rPr>
              <a:t>during Kick-off (Febr 06) and the Brainstorming Session (March 06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Finalisation of indicators (15 ISR indicators selected from the initial 3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Launch of 1st Call addressed to 143 European PRAI regions – Apri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17 Good Practices collected (8 participating reg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11 Good Practices related to RP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Evaluation session (Wien, May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12 regions participating in the evaluation exerc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11 Good Practices analysed for final publication (2 selected: 1) “OPTOMED” (Tuscany) and “SIDEUM” (Småland med öarn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1 region selected for the Study Visit: Fl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340000" y="188640"/>
            <a:ext cx="680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ERIK+: activities carried out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results achieved up to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052640"/>
            <a:ext cx="8713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Selection precondition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To belong to a RPIA (only for GPs to be included in the Publ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Results already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GP transferability decl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6 further aspects analys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Real laboratory for 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Improvement of Innovation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Positive impact on regional economic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Positive impact on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Improvement of quality level o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Effectiveness in relation to expected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76360" y="0"/>
            <a:ext cx="752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ISR GPs collected for ERIK+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1st Call for Good Practices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7120" y="596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87480" y="5753160"/>
            <a:ext cx="340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6920" y="5688000"/>
            <a:ext cx="25923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7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Tahoma"/>
              </a:rPr>
              <a:t>(11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66ff"/>
                </a:solidFill>
                <a:latin typeface="Tahoma"/>
              </a:rPr>
              <a:t>RPIA Pract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5722920"/>
            <a:ext cx="37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5 Programmes (non-RP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4 RPIA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8 Projects (1 non-RP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75000" y="56102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856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38280" y="1052640"/>
          <a:ext cx="8254800" cy="44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052640"/>
                    <a:ext cx="82548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2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A global overview of collected GP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284720" y="4076640"/>
            <a:ext cx="1224000" cy="2160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355640" y="4653000"/>
            <a:ext cx="1582920" cy="71280"/>
          </a:xfrm>
          <a:prstGeom prst="line">
            <a:avLst/>
          </a:prstGeom>
          <a:ln w="1908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4941720"/>
            <a:ext cx="1295280" cy="50328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5300640"/>
            <a:ext cx="863640" cy="1008000"/>
          </a:xfrm>
          <a:prstGeom prst="line">
            <a:avLst/>
          </a:prstGeom>
          <a:ln w="1908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79280" y="4149360"/>
            <a:ext cx="10796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19280" y="5516640"/>
            <a:ext cx="504720" cy="790560"/>
          </a:xfrm>
          <a:prstGeom prst="line">
            <a:avLst/>
          </a:prstGeom>
          <a:ln w="1908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5960" y="1363680"/>
            <a:ext cx="8450280" cy="412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03280" y="0"/>
            <a:ext cx="752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Scores obtained by collected ISR 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340000" y="188640"/>
            <a:ext cx="680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Activities to be carried out in next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052640"/>
            <a:ext cx="8713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Refinement of all ISR GPs inserted in ERIK db and further elaboration of the 2 GPs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Preparation of ERIK+ Publication including a section on ISR TWG and provi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An introduction to the ISR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Detailed information of the 2 GPs se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Information about other GPs collected (both RPIA and non RP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onclusions and policy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Organisation of a ISR Workshop within ERIK+ Final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Presentation of ISR Good Practices to a wide audience (speeches &amp; post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ERIK+ A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Promotion of ISR Good Practices on: ERIK+ Website, Newsletters, ERIK+ events, other network events, other international occa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7:10:02Z</dcterms:created>
  <dc:creator>elisabetta</dc:creator>
  <dc:description/>
  <dc:language>en-US</dc:language>
  <cp:lastModifiedBy>Giorgia Valli</cp:lastModifiedBy>
  <dcterms:modified xsi:type="dcterms:W3CDTF">2006-09-04T16:31:11Z</dcterms:modified>
  <cp:revision>219</cp:revision>
  <dc:subject/>
  <dc:title>Diapositiva 1</dc:title>
</cp:coreProperties>
</file>