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FEE-53E1-430E-A68F-8BFF776C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0ED-A1F9-41D0-AED1-E02730D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965-4238-488D-B28C-A4B7E107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595-515D-4F87-AAEA-C6FE234B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3A4-7E59-4B72-9EB8-B6BF70E1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7194-CFA1-4CC6-9701-18C116F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8540-B232-425B-B135-5C191928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075C-8384-47DF-BA73-62B5458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E6AB-D563-4B9A-ADFC-62DBE391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1A3-47FD-41C2-911F-651B75C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07F0-1F9B-4B47-A315-8D063538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3D6-004A-4C07-A8B4-429E8F32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294-F6CA-42DB-B77D-EC059FB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401-8E86-439E-8A6F-2D171621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469-609E-4111-B380-9B421B8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28FB-F36D-46CE-AE11-1F1B1B39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5B1-A02B-45B6-B787-F46F39BB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0EF-DA08-413B-B490-A867947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237-B9E2-476B-970D-C5D0F06D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795-4592-4EF4-907D-73EAEEA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E83-91ED-4CCB-B104-3221376B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808-7300-4753-9633-479AC00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1A3-24AC-4100-9982-F4488DA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343-8BB7-4734-BFFE-9AEDE42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01F-CCE1-4FDA-9DF5-D79FB5960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932-82A2-48ED-A658-1FEC268B9B0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FLANDERS R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k network - Study visit in Fl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ussels, 5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September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587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990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Programme implem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udies: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sights into preconditions for the sus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nagement of industrial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lot projects: 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alisations of aspects of sustainabilit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dustrial estate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Example: Ardoyen Bèta - University of Gh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monitoring and dissemin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Evalu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aluation of th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aluation according to the Europ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olicy related evaluation of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nswer to policy questions related to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nd management of industrial estates wit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PIA projects as a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 effects of RPIA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creased awarenes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for sustainable management and development of industrial est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re actors involv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Professionalizatio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of public and semi-publi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nagement and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comes part of internal policy- and decisio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 effects of RPIA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orientation of the financial instrume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he Flemish government on the (re) development of industrial est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imulating sustainable development of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dustrial sites and sustainable re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brownfields and old industri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st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ocus on quality, multimodal transport,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tensive use of the available space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 effects of RPIA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imentation of RPIA in Flemish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ive 2  Operational Program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the 2007-2013 programmi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ority ‘strengthening the regional-econ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vironment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imulating quality and sustainabil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dustrial estates with important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rkmanagement and multimodal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Programme secretari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gency for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ision Europ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rkiesstraa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-1000 Bru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00 32 2 553 37 25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rlies.peeters@ewi.vlaanderen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00 32 2 553 38 71 heidi.minner@ewi.vlaanderen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Flanders R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ustainable management and planning of industrial e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gramme period: 2003 -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ligible area: Fl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trategic t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nowledge-based regional economies and technological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-EuropeRegio: the information society and reg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Regional identity and sustainable development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Programm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search and analysis into the preconditions for sustainable management of industrial e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tting up first example projects in Flanders for the development of sustainable industrial e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boratory of ideas for Flemish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Financing plan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DF: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000.000 € (50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landers: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100.000 € (3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moter:     900.000 € (1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6.000.000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Financing plan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86880" y="28195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1.000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23520" y="499104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4.670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2520" y="2514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180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8160" y="27432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150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Programm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nagement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focus on the collaboration between managers and the users of industrial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Sustainable business processes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focus on the physical flows in the companies and on the industrial est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Sustainable planning of industrial estates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focus on the area in which business processes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jectselection priority criteria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0528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6064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novative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064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aining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064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ibution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064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i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064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ed value with respect to other initiatives in the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27622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jectselection priority criteria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0528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lvl="2" marL="568440" indent="0">
              <a:spcBef>
                <a:spcPts val="700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novative charac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oject leads to the set up of a 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oject leads to sustainable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9320" indent="-1094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change of energy, raw materials and wa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9320" indent="-1094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al use of utilities and business func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9320" indent="-1094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ed transport of goods and passeng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9320" indent="-1094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72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oject leads to more intensive use of availab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72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oject generates public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72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oject leads to a better image of the industrial 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7200" indent="0" algn="just">
              <a:spcBef>
                <a:spcPts val="700"/>
              </a:spcBef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ibution to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ed value with respect to other initiatives in th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spcBef>
                <a:spcPts val="799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 algn="ctr">
              <a:spcBef>
                <a:spcPts val="799"/>
              </a:spcBef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37:01Z</dcterms:created>
  <dc:creator>Minnerhe</dc:creator>
  <dc:description/>
  <dc:language>en-US</dc:language>
  <cp:lastModifiedBy>peeterme</cp:lastModifiedBy>
  <cp:lastPrinted>2006-09-01T12:30:54Z</cp:lastPrinted>
  <dcterms:modified xsi:type="dcterms:W3CDTF">2006-09-01T13:01:15Z</dcterms:modified>
  <cp:revision>34</cp:revision>
  <dc:subject/>
  <dc:title>INNOVATIEVE AC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8035997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