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2465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3818-A1BE-4718-A493-B8F24BD7A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96CE-6E71-4FD6-91B6-3DD570087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3BC2-88E0-4E9F-B47D-841C0005A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562F-BF83-4C6E-8392-673C3B0FA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44778-6703-4A65-A1AD-FD6E94BB5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67C90-2578-4BFF-9CC5-EBDA36825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EFFDE-5740-48DD-A3A6-782C56F62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D3BF6-86C4-4C1E-8DC8-74F890872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0139E-CCA6-4D08-AFF3-134025836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6F142-F0D6-4D76-B975-A6EF52BDC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526EB-DB70-43D3-93A6-9DD6D5E0F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19C2-803B-4769-9955-ED1BD3E23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AC2EB-4E4B-41B5-B73A-856E3F71F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88678-36C5-4C9B-BA5D-045693A7B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3CBBB-E670-4B5C-8A44-A957E9492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5D963-C3DE-4929-A947-7048AB455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372C1-0A1F-4735-8B9A-E718A6B91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5D08-C47B-40F1-AFC4-A71118838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4716-290B-47DA-A1AC-93C36202D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9D98-B082-4A61-BF5C-957D6AA1E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6459-7B6B-48EC-84DD-2D78DE527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0EBC-3B3C-49E3-9966-400B56F78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1A05-D054-4C70-9DF3-ED6FC3E4F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0885-A870-4905-AB15-1B5CC7B21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ECC40-B9D9-4B4B-B835-F197323415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C0F59-A2CE-4C8B-922C-8F9C918109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mailto:greet.vaneetvelde@ugent.be" TargetMode="External"/><Relationship Id="rId2" Type="http://schemas.openxmlformats.org/officeDocument/2006/relationships/hyperlink" Target="mailto:Luk.kennis@ugent.be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800" spc="-1" strike="noStrike">
                <a:solidFill>
                  <a:srgbClr val="ccecff"/>
                </a:solidFill>
                <a:latin typeface="Arial"/>
              </a:rPr>
              <a:t>Flanders RPIA</a:t>
            </a:r>
            <a:br>
              <a:rPr sz="4800"/>
            </a:br>
            <a:r>
              <a:rPr b="0" lang="nl-BE" sz="4800" spc="-1" strike="noStrike">
                <a:solidFill>
                  <a:srgbClr val="ccecff"/>
                </a:solidFill>
                <a:latin typeface="Arial"/>
              </a:rPr>
              <a:t>The Ardoyen beta Project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403280" y="2636640"/>
            <a:ext cx="6400800" cy="24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implementation of a sustainable cooperation framework between companies located at an exist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ience Pa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Ghent University                                        Ardoyen beta projec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8CB57-C101-417D-A781-317D01C6FBA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5 September 2006       IWT Brussels  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atneec solution for the discharging of waste waters: almost no investments and costs reduced from 2.5€/m³ to 0.5€/m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und discharging agre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operation platform for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obility on the pa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afe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arden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ignal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hent University                                        Ardoyen beta projec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7C74-40A5-4950-A9AC-D493C5617A9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September 2006       IWT Brussels  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ecff"/>
                </a:solidFill>
                <a:latin typeface="Arial"/>
              </a:rPr>
              <a:t>Critical conditions for the succesful implementation of a cooperation framework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 common problem that urgently requires ac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dicated initiato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mpetence, credibility, charisma (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niversit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ney (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PI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egal basi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tru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sponsibil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nest and accepted system for the ventilation of co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mocracy 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hent University                                        Ardoyen beta projec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674B-8AC0-4C8B-8417-C79D1862F83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September 2006       IWT Brussels  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Inf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search group Environmental and Spatial Planning Ghent Universit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of.Greet Van Eetveld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greet.vaneetvelde@ugent.b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el 00 32 9 2643141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uk Kenn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rkmanager Ardoyen Science Pa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airman VZW Ardoy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GB" sz="24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uk.kennis@ugent.b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el 00 32 9 26495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hent University                                        Ardoyen beta projec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122C-C0D3-4A1E-BE68-96CF0AA3676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September 2006       IWT Brussels  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ccecff"/>
                </a:solidFill>
                <a:latin typeface="Arial"/>
              </a:rPr>
              <a:t>Ardoyen Science Par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Arial"/>
              </a:rPr>
              <a:t>Location: </a:t>
            </a: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Ghent-Zwijnaarde at the intersection of the highways Brussels-Ostend and Antwerp-Kortrij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Arial"/>
              </a:rPr>
              <a:t>Owner: </a:t>
            </a: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Ghent Univers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Arial"/>
              </a:rPr>
              <a:t>Part of “Technology Park” Zwijnaard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Campus Ardoyen: s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veral</a:t>
            </a: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 institutes of the Faculty of Engineering and the Faculty of Sciences (30 h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Ardoyen Science Park ( 22 h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hent University                                        Ardoyen beta projec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68EF-997B-4B4D-9BFA-2FD565618B7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September 2006       IWT Brussels  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ccecff"/>
                </a:solidFill>
                <a:latin typeface="Arial"/>
              </a:rPr>
              <a:t>Ardoyen Science Park</a:t>
            </a:r>
            <a:br>
              <a:rPr sz="4000"/>
            </a:br>
            <a:r>
              <a:rPr b="0" lang="nl-BE" sz="4000" spc="-1" strike="noStrike">
                <a:solidFill>
                  <a:srgbClr val="ccecff"/>
                </a:solidFill>
                <a:latin typeface="Arial"/>
              </a:rPr>
              <a:t>www.ardoyen.b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First tenant: Centexbel (Research Institute Textiles) in 198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Presently: 40 research oriente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nies</a:t>
            </a: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mploying</a:t>
            </a: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 1500 peop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Flanders Biotech Cluster” a concentration of Life Sciences oriented companies such as: Innogenetics, Devgen, Bayer CropScience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2 Bio- incubators and the IIC Incubation cen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hent University                                        Ardoyen beta projec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3805-3361-464B-B3CD-0C2D12FC530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September 2006       IWT Brussels  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18440" cy="19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Park management and cooperation between companies until 2004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hent University: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anagement committ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ask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riteria for admission of new investo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ong term lease contracts as a land own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ome internal regulatio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operation between compani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imited to informal contac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hent University                                        Ardoyen beta projec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A220-B5BA-4F89-9840-866EEB16064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September 2006       IWT Brussels  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Ardoyen Beta project:</a:t>
            </a:r>
            <a:br>
              <a:rPr sz="4000"/>
            </a:b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The i</a:t>
            </a:r>
            <a:r>
              <a:rPr b="0" lang="en-GB" sz="3600" spc="-1" strike="noStrike">
                <a:solidFill>
                  <a:srgbClr val="ccecff"/>
                </a:solidFill>
                <a:latin typeface="Arial"/>
              </a:rPr>
              <a:t>mplementation of a sustainable cooperation framework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uration: 2004-20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udget: 333.600 eu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inancing: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%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RDF: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50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landers: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35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hent University: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5.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mpanies: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5.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rtners: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4.2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hent University                                        Ardoyen beta projec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32C5-091C-46EA-8BEF-F4837895966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September 2006       IWT Brussels  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ecff"/>
                </a:solidFill>
                <a:latin typeface="Arial"/>
              </a:rPr>
              <a:t>Waste water( ww) discharging problems as the main incentive for cooperation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80.000 m³ industrial ww discharged in a local river incompatible with new ww legislation.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niversity could not accept any further responsibil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lut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dividual disposal: 10 €/m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mmon water purification station: costs:investment +2.5 €/m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nother solut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hent University                                        Ardoyen beta projec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4FFF-75A6-425C-9F80-D1F9CEDDC3C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September 2006       IWT Brussels  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ecff"/>
                </a:solidFill>
                <a:latin typeface="Arial"/>
              </a:rPr>
              <a:t>Excellent Proposal for WW discharge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agisterial” solution  elaborated by the research group “Environmental and Spatial Planning “ of Ghent Universit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uthorisation for WW discharge on an existing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ewerage system under following condit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pproval of common environmental authoris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duction of industrial WW discharge: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80.000m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ed for legal structure: VZW Ardoy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24000" y="5229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hent University                                        Ardoyen beta projec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799D-E71C-480B-B8D9-3522A6F1081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September 2006       IWT Brussels  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8036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ecff"/>
                </a:solidFill>
                <a:latin typeface="Arial"/>
              </a:rPr>
              <a:t>VZW Ardoyen</a:t>
            </a:r>
            <a:br>
              <a:rPr sz="3200"/>
            </a:br>
            <a:r>
              <a:rPr b="0" lang="en-GB" sz="3200" spc="-1" strike="noStrike">
                <a:solidFill>
                  <a:srgbClr val="ccecff"/>
                </a:solidFill>
                <a:latin typeface="Arial"/>
              </a:rPr>
              <a:t>Founded: 7 th July  2005</a:t>
            </a:r>
            <a:br>
              <a:rPr sz="3600"/>
            </a:br>
            <a:r>
              <a:rPr b="0" lang="en-GB" sz="3200" spc="-1" strike="noStrike">
                <a:solidFill>
                  <a:srgbClr val="ccecff"/>
                </a:solidFill>
                <a:latin typeface="Arial"/>
              </a:rPr>
              <a:t>www.ardoyenvzw.be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on profit making association cfr the Belgian legislation (VZW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ylaws and membership published in the official Belgian Journal. (Staatsbla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egal basis and management structures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eneral Assembly of memb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aily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hent University                                        Ardoyen beta projec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5A4B-B55C-476E-94E0-DD1831026C6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September 2006       IWT Brussels  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VZW Ardoyen: practica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ll companies joined within 6 months after the founding of the VZ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embership fee and vote repart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T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tribution (€)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o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10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150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  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10-49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300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  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50-99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450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  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100-249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600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  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≥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250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750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   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Contributions 2006: 9256 € ( VAT includ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hent University                                        Ardoyen beta projec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FBE3-0E44-4DAF-A9D0-6B1FAD6CE38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September 2006       IWT Brussels  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8T12:51:54Z</dcterms:created>
  <dc:creator>DICT</dc:creator>
  <dc:description/>
  <dc:language>en-US</dc:language>
  <cp:lastModifiedBy>DICT</cp:lastModifiedBy>
  <dcterms:modified xsi:type="dcterms:W3CDTF">2006-08-31T07:25:02Z</dcterms:modified>
  <cp:revision>21</cp:revision>
  <dc:subject/>
  <dc:title>Flanders RPIA The Ardoyen beta Projec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7648257</vt:r8>
  </property>
  <property fmtid="{D5CDD505-2E9C-101B-9397-08002B2CF9AE}" pid="3" name="_AuthorEmail">
    <vt:lpwstr>AR@iwt.be</vt:lpwstr>
  </property>
  <property fmtid="{D5CDD505-2E9C-101B-9397-08002B2CF9AE}" pid="4" name="_AuthorEmailDisplayName">
    <vt:lpwstr>Annie Renders</vt:lpwstr>
  </property>
  <property fmtid="{D5CDD505-2E9C-101B-9397-08002B2CF9AE}" pid="5" name="_EmailSubject">
    <vt:lpwstr>Flanders ISR GPs</vt:lpwstr>
  </property>
  <property fmtid="{D5CDD505-2E9C-101B-9397-08002B2CF9AE}" pid="6" name="_NewReviewCycle">
    <vt:lpwstr/>
  </property>
</Properties>
</file>