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1474-4D38-459A-87DE-F06025BF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FBE-5400-417E-8543-523DF82F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EE1-AF51-408B-B830-C7CFECC1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AC6C-A1DF-4E3E-9113-E4A83F19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23E-FC1C-4C03-8476-3A9C5ABC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722-17E9-4025-9586-DD49FF24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666-86C0-445F-9AC9-B647822E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902-E846-4CF9-B657-34CD90EF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F46-1DF3-42BC-8F93-2DFF3AC9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339-0F4E-427D-9429-F6D249C0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D82A-2980-4FA5-B113-E0A3CAD1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52C6-AC0B-4AC2-9617-1E1F00F9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E914-EB58-4D07-B304-E72F35C18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ayout_BIA_mit_Transparentstreife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BIA" descr=""/>
          <p:cNvPicPr/>
          <p:nvPr/>
        </p:nvPicPr>
        <p:blipFill>
          <a:blip r:embed="rId3"/>
          <a:stretch/>
        </p:blipFill>
        <p:spPr>
          <a:xfrm>
            <a:off x="6019920" y="6095880"/>
            <a:ext cx="284616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4343400"/>
            <a:ext cx="7315200" cy="1676520"/>
          </a:xfrm>
          <a:prstGeom prst="rect">
            <a:avLst/>
          </a:prstGeom>
          <a:gradFill rotWithShape="0">
            <a:gsLst>
              <a:gs pos="0">
                <a:srgbClr val="006db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47920"/>
            <a:ext cx="7925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362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db0"/>
                </a:solidFill>
                <a:latin typeface="Corpo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2103480"/>
            <a:ext cx="769608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6db0"/>
                </a:solidFill>
                <a:latin typeface="CorpoS"/>
              </a:rPr>
              <a:t>„</a:t>
            </a:r>
            <a:r>
              <a:rPr b="1" lang="en-US" sz="3200" spc="-1" strike="noStrike">
                <a:solidFill>
                  <a:srgbClr val="006db0"/>
                </a:solidFill>
                <a:latin typeface="CorpoS"/>
              </a:rPr>
              <a:t>How to promote the 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db0"/>
                </a:solidFill>
                <a:latin typeface="CorpoS"/>
              </a:rPr>
              <a:t>of ICT in clusters“</a:t>
            </a:r>
            <a:r>
              <a:rPr b="0" lang="en-US" sz="3200" spc="-1" strike="noStrike">
                <a:solidFill>
                  <a:srgbClr val="006db0"/>
                </a:solidFill>
                <a:latin typeface="Corpo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db0"/>
                </a:solidFill>
                <a:latin typeface="CorpoS"/>
              </a:rPr>
              <a:t>am 1. July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49528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3a0"/>
                </a:solidFill>
                <a:latin typeface="CorpoS"/>
              </a:rPr>
              <a:t>Promotion of mobile solutions </a:t>
            </a:r>
            <a:br>
              <a:rPr sz="3200"/>
            </a:br>
            <a:r>
              <a:rPr b="1" lang="en-US" sz="3200" spc="-1" strike="noStrike">
                <a:solidFill>
                  <a:srgbClr val="0063a0"/>
                </a:solidFill>
                <a:latin typeface="CorpoS"/>
              </a:rPr>
              <a:t>in the logistic 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4114800" y="3962520"/>
            <a:ext cx="1905120" cy="792000"/>
          </a:xfrm>
          <a:prstGeom prst="triangle">
            <a:avLst>
              <a:gd name="adj" fmla="val 50000"/>
            </a:avLst>
          </a:prstGeom>
          <a:solidFill>
            <a:srgbClr val="006d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52560" y="10540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men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528920"/>
            <a:ext cx="35049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mit%20Glomb" descr=""/>
          <p:cNvPicPr/>
          <p:nvPr/>
        </p:nvPicPr>
        <p:blipFill>
          <a:blip r:embed="rId1"/>
          <a:stretch/>
        </p:blipFill>
        <p:spPr>
          <a:xfrm>
            <a:off x="1992240" y="1836720"/>
            <a:ext cx="2262240" cy="169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P1010005" descr=""/>
          <p:cNvPicPr/>
          <p:nvPr/>
        </p:nvPicPr>
        <p:blipFill>
          <a:blip r:embed="rId2"/>
          <a:stretch/>
        </p:blipFill>
        <p:spPr>
          <a:xfrm>
            <a:off x="1978200" y="3876840"/>
            <a:ext cx="2288880" cy="171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Produkt%20alleine" descr=""/>
          <p:cNvPicPr/>
          <p:nvPr/>
        </p:nvPicPr>
        <p:blipFill>
          <a:blip r:embed="rId3"/>
          <a:stretch/>
        </p:blipFill>
        <p:spPr>
          <a:xfrm>
            <a:off x="4581360" y="1828800"/>
            <a:ext cx="2284560" cy="171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2" name="P1010002" descr=""/>
          <p:cNvPicPr/>
          <p:nvPr/>
        </p:nvPicPr>
        <p:blipFill>
          <a:blip r:embed="rId4"/>
          <a:stretch/>
        </p:blipFill>
        <p:spPr>
          <a:xfrm>
            <a:off x="4573440" y="3882960"/>
            <a:ext cx="2281320" cy="170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1373400" y="1068480"/>
            <a:ext cx="58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example “Mobile Task and Receipt Syste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11320" y="1828800"/>
            <a:ext cx="7361280" cy="3657600"/>
          </a:xfrm>
          <a:prstGeom prst="rect">
            <a:avLst/>
          </a:prstGeom>
          <a:solidFill>
            <a:srgbClr val="006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89120" y="2160720"/>
            <a:ext cx="64476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11320" y="1928880"/>
            <a:ext cx="355680" cy="39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25720" y="2286000"/>
            <a:ext cx="6051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g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al: strengthening the position of the harbor of Bremen / firms working in the field of transport and log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25720" y="3124080"/>
            <a:ext cx="5773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S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al: cross linking of beverage producer with wholesa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36840" y="3718080"/>
            <a:ext cx="99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rpoS"/>
              </a:rPr>
              <a:t>Bremen in t.i.m.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-logo-dtag,property=thumbnail" descr=""/>
          <p:cNvPicPr/>
          <p:nvPr/>
        </p:nvPicPr>
        <p:blipFill>
          <a:blip r:embed="rId1"/>
          <a:stretch/>
        </p:blipFill>
        <p:spPr>
          <a:xfrm>
            <a:off x="3825720" y="2325600"/>
            <a:ext cx="758880" cy="244440"/>
          </a:xfrm>
          <a:prstGeom prst="rect">
            <a:avLst/>
          </a:prstGeom>
          <a:ln w="0">
            <a:noFill/>
          </a:ln>
        </p:spPr>
      </p:pic>
      <p:pic>
        <p:nvPicPr>
          <p:cNvPr id="151" name="bnr-microsoft" descr=""/>
          <p:cNvPicPr/>
          <p:nvPr/>
        </p:nvPicPr>
        <p:blipFill>
          <a:blip r:embed="rId2"/>
          <a:stretch/>
        </p:blipFill>
        <p:spPr>
          <a:xfrm>
            <a:off x="2940120" y="3124080"/>
            <a:ext cx="1046160" cy="250920"/>
          </a:xfrm>
          <a:prstGeom prst="rect">
            <a:avLst/>
          </a:prstGeom>
          <a:ln w="0">
            <a:noFill/>
          </a:ln>
        </p:spPr>
      </p:pic>
      <p:pic>
        <p:nvPicPr>
          <p:cNvPr id="152" name="014farbig" descr=""/>
          <p:cNvPicPr/>
          <p:nvPr/>
        </p:nvPicPr>
        <p:blipFill>
          <a:blip r:embed="rId3"/>
          <a:stretch/>
        </p:blipFill>
        <p:spPr>
          <a:xfrm>
            <a:off x="3825720" y="3992400"/>
            <a:ext cx="989280" cy="246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84360" y="1928880"/>
            <a:ext cx="67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-operation agre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0040" y="2352600"/>
            <a:ext cx="355680" cy="179640"/>
          </a:xfrm>
          <a:prstGeom prst="rightArrow">
            <a:avLst>
              <a:gd name="adj1" fmla="val 50000"/>
              <a:gd name="adj2" fmla="val 4949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0040" y="3208320"/>
            <a:ext cx="355680" cy="179280"/>
          </a:xfrm>
          <a:prstGeom prst="rightArrow">
            <a:avLst>
              <a:gd name="adj1" fmla="val 50000"/>
              <a:gd name="adj2" fmla="val 4959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0040" y="4295880"/>
            <a:ext cx="355680" cy="179280"/>
          </a:xfrm>
          <a:prstGeom prst="rightArrow">
            <a:avLst>
              <a:gd name="adj1" fmla="val 50000"/>
              <a:gd name="adj2" fmla="val 4959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25720" y="4267080"/>
            <a:ext cx="64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 2002:12 financial supported projects in the area of e-log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39760" y="4572000"/>
            <a:ext cx="649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ample: Mobile task receipt system (dbh  AG / B2motion GmbH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lot project with GCD Glomb Container Dienst GmbH, Bremerha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0040" y="4633920"/>
            <a:ext cx="355680" cy="179280"/>
          </a:xfrm>
          <a:prstGeom prst="rightArrow">
            <a:avLst>
              <a:gd name="adj1" fmla="val 50000"/>
              <a:gd name="adj2" fmla="val 4959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11320" y="3870360"/>
            <a:ext cx="355680" cy="39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1068480"/>
            <a:ext cx="29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lier oriented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68480" y="10684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 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2014560"/>
            <a:ext cx="57913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3a0"/>
                </a:solidFill>
                <a:latin typeface="Arial"/>
              </a:rPr>
              <a:t>BIA. Bremer Innovations-Agen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3a0"/>
                </a:solidFill>
                <a:latin typeface="Arial"/>
              </a:rPr>
              <a:t>Conny Ha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3a0"/>
                </a:solidFill>
                <a:latin typeface="Arial"/>
              </a:rPr>
              <a:t>Langenstrasse 2-4, 28195 Bremen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3a0"/>
                </a:solidFill>
                <a:latin typeface="Arial"/>
              </a:rPr>
              <a:t>Tel.: +49 421 9600 3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3a0"/>
                </a:solidFill>
                <a:latin typeface="Arial"/>
              </a:rPr>
              <a:t>e-mail: hamann@bia-bremen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87400" y="318960"/>
            <a:ext cx="701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he German Federal State of Br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8672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ts &amp; fig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7400" y="318960"/>
            <a:ext cx="701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German Federal State of Br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7920" y="3809880"/>
            <a:ext cx="5187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indent="289080">
              <a:lnSpc>
                <a:spcPct val="150000"/>
              </a:lnSpc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of Brem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60.4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50000"/>
              </a:lnSpc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a (km²)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1441440"/>
            <a:ext cx="9144000" cy="1911240"/>
            <a:chOff x="0" y="1441440"/>
            <a:chExt cx="9144000" cy="1911240"/>
          </a:xfrm>
        </p:grpSpPr>
        <p:pic>
          <p:nvPicPr>
            <p:cNvPr id="58" name="" descr=""/>
            <p:cNvPicPr/>
            <p:nvPr/>
          </p:nvPicPr>
          <p:blipFill>
            <a:blip r:embed="rId1">
              <a:lum bright="12000"/>
            </a:blip>
            <a:srcRect l="0" t="20257" r="0" b="23916"/>
            <a:stretch/>
          </p:blipFill>
          <p:spPr>
            <a:xfrm>
              <a:off x="0" y="1441440"/>
              <a:ext cx="9144000" cy="19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rcRect l="4283" t="20325" r="89468" b="23713"/>
            <a:stretch/>
          </p:blipFill>
          <p:spPr>
            <a:xfrm>
              <a:off x="407880" y="1441440"/>
              <a:ext cx="409680" cy="191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114880" y="0"/>
            <a:ext cx="4029120" cy="4965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74080" y="355680"/>
            <a:ext cx="49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ainer Terminal Bremerh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9240" y="1511280"/>
            <a:ext cx="38613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000,000 TEU p.a. turn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2 km  berth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depth up to 1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d + rail transf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ll European dest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70000"/>
              </a:lnSpc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facilities of huge ext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70000"/>
              </a:lnSpc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 service provider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87400" y="10666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ts &amp; fig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7320" y="355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men. Mobile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0666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ding IT &amp; multimedia location in northern 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1600200"/>
            <a:ext cx="693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0 companies, 6,500 workforce in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companies in mobile and wireless comp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Technologiepark%20Luftbild%20klein" descr=""/>
          <p:cNvPicPr/>
          <p:nvPr/>
        </p:nvPicPr>
        <p:blipFill>
          <a:blip r:embed="rId1"/>
          <a:stretch/>
        </p:blipFill>
        <p:spPr>
          <a:xfrm>
            <a:off x="990720" y="2476440"/>
            <a:ext cx="5486400" cy="3622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689160" y="544824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3a0"/>
                </a:solidFill>
                <a:latin typeface="Arial"/>
              </a:rPr>
              <a:t>University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3a0"/>
                </a:solidFill>
                <a:latin typeface="Arial"/>
              </a:rPr>
              <a:t>Bre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87360" y="35463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3a0"/>
                </a:solidFill>
                <a:latin typeface="Arial"/>
              </a:rPr>
              <a:t>T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87720" y="4502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3a0"/>
                </a:solidFill>
                <a:latin typeface="Arial"/>
              </a:rPr>
              <a:t>IK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88080" y="24764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3a0"/>
                </a:solidFill>
                <a:latin typeface="Arial"/>
              </a:rPr>
              <a:t>BI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3314880"/>
            <a:ext cx="533160" cy="380880"/>
          </a:xfrm>
          <a:prstGeom prst="ellipse">
            <a:avLst/>
          </a:prstGeom>
          <a:noFill/>
          <a:ln w="28440">
            <a:solidFill>
              <a:srgbClr val="00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3390840"/>
            <a:ext cx="533520" cy="355680"/>
          </a:xfrm>
          <a:prstGeom prst="ellipse">
            <a:avLst/>
          </a:prstGeom>
          <a:noFill/>
          <a:ln w="28440">
            <a:solidFill>
              <a:srgbClr val="00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4152960"/>
            <a:ext cx="533520" cy="317520"/>
          </a:xfrm>
          <a:prstGeom prst="ellipse">
            <a:avLst/>
          </a:prstGeom>
          <a:noFill/>
          <a:ln w="28440">
            <a:solidFill>
              <a:srgbClr val="00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135240" y="2705040"/>
            <a:ext cx="3570480" cy="804960"/>
          </a:xfrm>
          <a:prstGeom prst="line">
            <a:avLst/>
          </a:prstGeom>
          <a:ln w="28440">
            <a:solidFill>
              <a:srgbClr val="00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57800" y="3638520"/>
            <a:ext cx="547920" cy="133560"/>
          </a:xfrm>
          <a:prstGeom prst="line">
            <a:avLst/>
          </a:prstGeom>
          <a:ln w="28440">
            <a:solidFill>
              <a:srgbClr val="00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05600" y="4381560"/>
            <a:ext cx="600120" cy="228600"/>
          </a:xfrm>
          <a:prstGeom prst="line">
            <a:avLst/>
          </a:prstGeom>
          <a:ln w="28440">
            <a:solidFill>
              <a:srgbClr val="00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56160" y="4259160"/>
            <a:ext cx="2149560" cy="1341720"/>
          </a:xfrm>
          <a:prstGeom prst="line">
            <a:avLst/>
          </a:prstGeom>
          <a:ln w="28440">
            <a:solidFill>
              <a:srgbClr val="00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86640" y="277812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3a0"/>
                </a:solidFill>
                <a:latin typeface="Arial"/>
              </a:rPr>
              <a:t>Bremen Institute of Industrial Technology and Applied Work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86640" y="385128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3a0"/>
                </a:solidFill>
                <a:latin typeface="Arial"/>
              </a:rPr>
              <a:t>Center for Computing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86640" y="480708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3a0"/>
                </a:solidFill>
                <a:latin typeface="Arial"/>
              </a:rPr>
              <a:t>Center for Information and Communication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17760" y="3522600"/>
            <a:ext cx="1443240" cy="884160"/>
          </a:xfrm>
          <a:prstGeom prst="ellipse">
            <a:avLst/>
          </a:prstGeom>
          <a:noFill/>
          <a:ln w="28440">
            <a:solidFill>
              <a:srgbClr val="00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3581280"/>
            <a:ext cx="6210360" cy="2446560"/>
          </a:xfrm>
          <a:prstGeom prst="rect">
            <a:avLst/>
          </a:prstGeom>
          <a:solidFill>
            <a:srgbClr val="006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19240" y="3884760"/>
            <a:ext cx="4648320" cy="18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1592200">
            <a:off x="2247480" y="2014560"/>
            <a:ext cx="838440" cy="1563840"/>
          </a:xfrm>
          <a:prstGeom prst="downArrow">
            <a:avLst>
              <a:gd name="adj1" fmla="val 50000"/>
              <a:gd name="adj2" fmla="val 46629"/>
            </a:avLst>
          </a:prstGeom>
          <a:solidFill>
            <a:srgbClr val="006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00480" y="4114800"/>
            <a:ext cx="4267080" cy="520200"/>
          </a:xfrm>
          <a:prstGeom prst="rect">
            <a:avLst/>
          </a:prstGeom>
          <a:solidFill>
            <a:srgbClr val="006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 User oriented support / project center for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e/m-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00480" y="4923000"/>
            <a:ext cx="4267080" cy="520200"/>
          </a:xfrm>
          <a:prstGeom prst="rect">
            <a:avLst/>
          </a:prstGeom>
          <a:solidFill>
            <a:srgbClr val="006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2. Supplier oriented support / regional financing</a:t>
            </a:r>
            <a:br>
              <a:rPr sz="1400"/>
            </a:b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    pro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28200">
            <a:off x="1981800" y="4379040"/>
            <a:ext cx="3031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28200">
            <a:off x="1981800" y="5188680"/>
            <a:ext cx="3031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28800">
            <a:off x="3375000" y="1747080"/>
            <a:ext cx="30348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28200">
            <a:off x="5129280" y="1747440"/>
            <a:ext cx="303120" cy="230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94240" y="171144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flow of go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18080" y="1558800"/>
            <a:ext cx="1371600" cy="6098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Log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12960" y="171144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KW" descr=""/>
          <p:cNvPicPr/>
          <p:nvPr/>
        </p:nvPicPr>
        <p:blipFill>
          <a:blip r:embed="rId1"/>
          <a:stretch/>
        </p:blipFill>
        <p:spPr>
          <a:xfrm>
            <a:off x="6719760" y="1684440"/>
            <a:ext cx="1357560" cy="90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Information" descr=""/>
          <p:cNvPicPr/>
          <p:nvPr/>
        </p:nvPicPr>
        <p:blipFill>
          <a:blip r:embed="rId2"/>
          <a:stretch/>
        </p:blipFill>
        <p:spPr>
          <a:xfrm>
            <a:off x="1965240" y="2136600"/>
            <a:ext cx="1409760" cy="8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463760" y="2335320"/>
            <a:ext cx="1079280" cy="4604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e-log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A activities in the area of e-log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3440" y="10684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oriented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057400"/>
            <a:ext cx="5562360" cy="3429000"/>
          </a:xfrm>
          <a:prstGeom prst="rect">
            <a:avLst/>
          </a:prstGeom>
          <a:solidFill>
            <a:srgbClr val="0063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72680" y="2352600"/>
            <a:ext cx="37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operation with important acto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reg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46040" y="3440160"/>
            <a:ext cx="43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operation with industrial association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multiplicators for joint a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5800" y="4440240"/>
            <a:ext cx="554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poS"/>
              </a:rPr>
              <a:t>Integration of national funded projects in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rpoS"/>
              </a:rPr>
              <a:t>the area of e-log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33680" y="4467240"/>
            <a:ext cx="387360" cy="447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33680" y="3402000"/>
            <a:ext cx="387360" cy="447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33680" y="2362320"/>
            <a:ext cx="387360" cy="447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952880" y="2867040"/>
          <a:ext cx="86364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867040"/>
                    <a:ext cx="8636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Handelskammer" descr=""/>
          <p:cNvPicPr/>
          <p:nvPr/>
        </p:nvPicPr>
        <p:blipFill>
          <a:blip r:embed="rId3"/>
          <a:stretch/>
        </p:blipFill>
        <p:spPr>
          <a:xfrm>
            <a:off x="3886200" y="2895480"/>
            <a:ext cx="879480" cy="289080"/>
          </a:xfrm>
          <a:prstGeom prst="rect">
            <a:avLst/>
          </a:prstGeom>
          <a:ln w="0">
            <a:noFill/>
          </a:ln>
        </p:spPr>
      </p:pic>
      <p:pic>
        <p:nvPicPr>
          <p:cNvPr id="110" name="gvzkl" descr="GVZ Bremen"/>
          <p:cNvPicPr/>
          <p:nvPr/>
        </p:nvPicPr>
        <p:blipFill>
          <a:blip r:embed="rId4"/>
          <a:stretch/>
        </p:blipFill>
        <p:spPr>
          <a:xfrm>
            <a:off x="5989680" y="2943360"/>
            <a:ext cx="736560" cy="241200"/>
          </a:xfrm>
          <a:prstGeom prst="rect">
            <a:avLst/>
          </a:prstGeom>
          <a:ln w="0">
            <a:noFill/>
          </a:ln>
        </p:spPr>
      </p:pic>
      <p:pic>
        <p:nvPicPr>
          <p:cNvPr id="111" name="Verein%20Bremer%20Spediteure" descr=""/>
          <p:cNvPicPr/>
          <p:nvPr/>
        </p:nvPicPr>
        <p:blipFill>
          <a:blip r:embed="rId5"/>
          <a:stretch/>
        </p:blipFill>
        <p:spPr>
          <a:xfrm>
            <a:off x="4267080" y="4194000"/>
            <a:ext cx="2648160" cy="12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5923080" y="4876920"/>
            <a:ext cx="803160" cy="3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2001960"/>
            <a:ext cx="6933960" cy="378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32720" y="10684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3640" y="2162160"/>
            <a:ext cx="6444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48040" y="2162160"/>
            <a:ext cx="2400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77440" y="2209680"/>
            <a:ext cx="559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db0"/>
                </a:solidFill>
                <a:latin typeface="CorpoS"/>
              </a:rPr>
              <a:t>Information and consultation for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db0"/>
                </a:solidFill>
                <a:latin typeface="CorpoS"/>
              </a:rPr>
              <a:t>- events and individual consul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39000" y="3048120"/>
            <a:ext cx="607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db0"/>
                </a:solidFill>
                <a:latin typeface="CorpoS"/>
              </a:rPr>
              <a:t>Workshops with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db0"/>
                </a:solidFill>
                <a:latin typeface="CorpoS"/>
              </a:rPr>
              <a:t>-  Supplier-Workshops  / analysis of business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db0"/>
                </a:solidFill>
                <a:latin typeface="CorpoS"/>
              </a:rPr>
              <a:t>-“business meets e-business“ / good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71320" y="4114800"/>
            <a:ext cx="7124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db0"/>
                </a:solidFill>
                <a:latin typeface="CorpoS"/>
              </a:rPr>
              <a:t>Pilot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db0"/>
                </a:solidFill>
                <a:latin typeface="CorpoS"/>
              </a:rPr>
              <a:t>- result of workshops / consultation by BIA / external consul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2282760"/>
            <a:ext cx="355680" cy="397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121200"/>
            <a:ext cx="355680" cy="39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87880"/>
            <a:ext cx="355680" cy="39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5029200"/>
            <a:ext cx="6964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db0"/>
                </a:solidFill>
                <a:latin typeface="CorpoS"/>
              </a:rPr>
              <a:t>(trans)regional commercialization</a:t>
            </a:r>
            <a:r>
              <a:rPr b="0" lang="en-US" sz="1800" spc="-1" strike="noStrike">
                <a:solidFill>
                  <a:srgbClr val="006db0"/>
                </a:solidFill>
                <a:latin typeface="Corpo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db0"/>
                </a:solidFill>
                <a:latin typeface="CorpoS"/>
              </a:rPr>
              <a:t>- of the competence center “e-logistics”</a:t>
            </a:r>
            <a:r>
              <a:rPr b="0" lang="en-US" sz="2000" spc="-1" strike="noStrike">
                <a:solidFill>
                  <a:srgbClr val="006db0"/>
                </a:solidFill>
                <a:latin typeface="CorpoS"/>
              </a:rPr>
              <a:t> in Br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4876920"/>
            <a:ext cx="355680" cy="39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2057400"/>
            <a:ext cx="7010280" cy="3794040"/>
          </a:xfrm>
          <a:prstGeom prst="rect">
            <a:avLst/>
          </a:prstGeom>
          <a:gradFill rotWithShape="0">
            <a:gsLst>
              <a:gs pos="0">
                <a:srgbClr val="006db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76440" y="2362320"/>
            <a:ext cx="4724640" cy="2589120"/>
          </a:xfrm>
          <a:prstGeom prst="ellipse">
            <a:avLst/>
          </a:prstGeom>
          <a:solidFill>
            <a:srgbClr val="006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1600200"/>
            <a:ext cx="5526000" cy="612360"/>
          </a:xfrm>
          <a:prstGeom prst="cube">
            <a:avLst>
              <a:gd name="adj" fmla="val 25000"/>
            </a:avLst>
          </a:prstGeom>
          <a:solidFill>
            <a:srgbClr val="006d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poS"/>
              </a:rPr>
              <a:t>Focus - Choice / targe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068480"/>
            <a:ext cx="73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implementing the tool „project center for e/m-business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2590920"/>
            <a:ext cx="3124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poS"/>
              </a:rPr>
              <a:t>Logistic service provid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90840" y="3048120"/>
            <a:ext cx="2895840" cy="121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35124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a0"/>
                </a:solidFill>
                <a:latin typeface="CorpoS"/>
              </a:rPr>
              <a:t>Container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85960" y="2332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poS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680" y="2374920"/>
            <a:ext cx="260280" cy="414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52560" y="5318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db0"/>
                </a:solidFill>
                <a:latin typeface="CorpoS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92280" y="5361120"/>
            <a:ext cx="260280" cy="414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181480"/>
            <a:ext cx="7010280" cy="0"/>
          </a:xfrm>
          <a:prstGeom prst="line">
            <a:avLst/>
          </a:prstGeom>
          <a:ln w="9360">
            <a:solidFill>
              <a:srgbClr val="006d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5257800"/>
            <a:ext cx="2895480" cy="457200"/>
          </a:xfrm>
          <a:prstGeom prst="ellipse">
            <a:avLst/>
          </a:prstGeom>
          <a:solidFill>
            <a:srgbClr val="006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5318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poS"/>
              </a:rPr>
              <a:t>Regional IT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6:43:42Z</dcterms:created>
  <dc:creator>Tanja Dey</dc:creator>
  <dc:description/>
  <dc:language>en-US</dc:language>
  <cp:lastModifiedBy>Cornelia Hamann</cp:lastModifiedBy>
  <cp:lastPrinted>2003-02-01T11:13:14Z</cp:lastPrinted>
  <dcterms:modified xsi:type="dcterms:W3CDTF">2003-06-24T15:34:08Z</dcterms:modified>
  <cp:revision>69</cp:revision>
  <dc:subject/>
  <dc:title>PowerPoint-Präsentation</dc:title>
</cp:coreProperties>
</file>