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6072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6319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269720" y="576072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66319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0816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4660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26972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480816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834660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319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269720" y="576072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319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0816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34660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26972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80816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34660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319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269720" y="576072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319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0816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34660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26972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80816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34660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6072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6072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319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9720" y="576072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6319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816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4660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972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80816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34660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19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269720" y="576072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6319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0816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4660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26972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480816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834660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6319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269720" y="576072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6319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0816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4660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26972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80816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34660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6319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269720" y="576072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6319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0816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4660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26972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80816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834660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6319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269720" y="5760720"/>
            <a:ext cx="1046484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1920" y="276876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2697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631920" y="5760720"/>
            <a:ext cx="5106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0816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46600" y="276876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126972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480816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8346600" y="5760720"/>
            <a:ext cx="3369600" cy="2732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1143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3000"/>
          </a:bodyPr>
          <a:p>
            <a:pPr marL="3120480" indent="0" algn="ctr">
              <a:spcBef>
                <a:spcPts val="300"/>
              </a:spcBef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3120480" indent="-289440" algn="ctr">
              <a:spcBef>
                <a:spcPts val="300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3120480" indent="-289440" algn="ctr">
              <a:spcBef>
                <a:spcPts val="300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3120480" indent="-289440" algn="ctr">
              <a:spcBef>
                <a:spcPts val="300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3120480" indent="-289440" algn="ctr">
              <a:spcBef>
                <a:spcPts val="300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3120480" indent="-289440" algn="ctr">
              <a:spcBef>
                <a:spcPts val="300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3120480" indent="-289440" algn="ctr">
              <a:spcBef>
                <a:spcPts val="300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50418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 fontScale="77000"/>
          </a:bodyPr>
          <a:p>
            <a:pPr marL="586800" indent="-381240">
              <a:spcBef>
                <a:spcPts val="4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28800" indent="-380880">
              <a:spcBef>
                <a:spcPts val="4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271160" indent="-381240">
              <a:spcBef>
                <a:spcPts val="4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613520" indent="-381240">
              <a:spcBef>
                <a:spcPts val="4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955880" indent="-381240">
              <a:spcBef>
                <a:spcPts val="4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955880" indent="-381240">
              <a:spcBef>
                <a:spcPts val="4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955880" indent="-381240">
              <a:spcBef>
                <a:spcPts val="4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759440" y="2768760"/>
            <a:ext cx="398772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 fontScale="67000"/>
          </a:bodyPr>
          <a:p>
            <a:pPr marL="510480" indent="-331560">
              <a:spcBef>
                <a:spcPts val="4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808200" indent="-331560">
              <a:spcBef>
                <a:spcPts val="4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105920" indent="-331560">
              <a:spcBef>
                <a:spcPts val="4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404000" indent="-331560">
              <a:spcBef>
                <a:spcPts val="4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701720" indent="-331560">
              <a:spcBef>
                <a:spcPts val="4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701720" indent="-331560">
              <a:spcBef>
                <a:spcPts val="4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701720" indent="-331560">
              <a:spcBef>
                <a:spcPts val="4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 fontScale="89000"/>
          </a:bodyPr>
          <a:p>
            <a:pPr marL="748440" indent="-511200">
              <a:spcBef>
                <a:spcPts val="25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1144440" indent="-511200">
              <a:spcBef>
                <a:spcPts val="25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2" marL="1540080" indent="-511560">
              <a:spcBef>
                <a:spcPts val="25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3" marL="1935360" indent="-511200">
              <a:spcBef>
                <a:spcPts val="25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4" marL="2331000" indent="-511200">
              <a:spcBef>
                <a:spcPts val="25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5" marL="2331000" indent="-511200">
              <a:spcBef>
                <a:spcPts val="25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6" marL="2331000" indent="-511200">
              <a:spcBef>
                <a:spcPts val="25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 fontScale="87000"/>
          </a:bodyPr>
          <a:p>
            <a:pPr marL="731880" indent="-499680">
              <a:spcBef>
                <a:spcPts val="5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1118520" indent="-499680">
              <a:spcBef>
                <a:spcPts val="5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2" marL="1505520" indent="-500040">
              <a:spcBef>
                <a:spcPts val="5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3" marL="1891800" indent="-499680">
              <a:spcBef>
                <a:spcPts val="5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4" marL="2278800" indent="-499680">
              <a:spcBef>
                <a:spcPts val="5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5" marL="2278800" indent="-499680">
              <a:spcBef>
                <a:spcPts val="5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6" marL="2278800" indent="-499680">
              <a:spcBef>
                <a:spcPts val="5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1680" y="1409760"/>
            <a:ext cx="59306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571680" y="4800600"/>
            <a:ext cx="5930640" cy="3301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t">
            <a:normAutofit fontScale="87000"/>
          </a:bodyPr>
          <a:p>
            <a:pPr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300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300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300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300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300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300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5041800" cy="57276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rmAutofit fontScale="77000"/>
          </a:bodyPr>
          <a:p>
            <a:pPr marL="586800" indent="-381240">
              <a:spcBef>
                <a:spcPts val="4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928800" indent="-380880">
              <a:spcBef>
                <a:spcPts val="4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271160" indent="-381240">
              <a:spcBef>
                <a:spcPts val="4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613520" indent="-381240">
              <a:spcBef>
                <a:spcPts val="4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955880" indent="-381240">
              <a:spcBef>
                <a:spcPts val="4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955880" indent="-381240">
              <a:spcBef>
                <a:spcPts val="4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955880" indent="-381240">
              <a:spcBef>
                <a:spcPts val="40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4064040" y="3365640"/>
            <a:ext cx="487692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271600" y="3429000"/>
            <a:ext cx="842004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m of the positive psychological and physiological features a cigarette provides.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4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4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minus all harmful and perturbing by-products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76320" y="7924680"/>
            <a:ext cx="2340000" cy="17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950840" y="4597560"/>
            <a:ext cx="1870560" cy="17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v. Doz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. Bernhard Fische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chemis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rangement of grant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sulting (bio-tech.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ulatory affair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ess planning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"/>
          <p:cNvSpPr/>
          <p:nvPr/>
        </p:nvSpPr>
        <p:spPr>
          <a:xfrm>
            <a:off x="4229280" y="4597560"/>
            <a:ext cx="2108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g. art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ven Haa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dustrial designe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ject managemen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duct developmen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ign product/brand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3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O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"/>
          <p:cNvSpPr/>
          <p:nvPr/>
        </p:nvSpPr>
        <p:spPr>
          <a:xfrm>
            <a:off x="6756480" y="4597560"/>
            <a:ext cx="199368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. Sylvia Hartl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neumologis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sulting (med.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st serie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9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bbying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"/>
          <p:cNvSpPr/>
          <p:nvPr/>
        </p:nvSpPr>
        <p:spPr>
          <a:xfrm>
            <a:off x="9004320" y="4597560"/>
            <a:ext cx="208296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g. oec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lfgang Steinhar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dgeting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212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76320" y="7924680"/>
            <a:ext cx="2340000" cy="17352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1879560" y="2209680"/>
            <a:ext cx="8915400" cy="20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5587920" y="5041800"/>
            <a:ext cx="19177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2a5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"/>
          <p:cNvSpPr/>
          <p:nvPr/>
        </p:nvSpPr>
        <p:spPr>
          <a:xfrm>
            <a:off x="2666880" y="5041800"/>
            <a:ext cx="1994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2b52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"/>
          <p:cNvSpPr/>
          <p:nvPr/>
        </p:nvSpPr>
        <p:spPr>
          <a:xfrm>
            <a:off x="2873160" y="5054760"/>
            <a:ext cx="162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2ff"/>
                </a:solidFill>
                <a:latin typeface="Arial"/>
                <a:ea typeface="Arial"/>
              </a:rPr>
              <a:t>Entwicklu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"/>
          <p:cNvSpPr/>
          <p:nvPr/>
        </p:nvSpPr>
        <p:spPr>
          <a:xfrm>
            <a:off x="5897520" y="5054760"/>
            <a:ext cx="1338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2ff"/>
                </a:solidFill>
                <a:latin typeface="Arial"/>
                <a:ea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"/>
          <p:cNvSpPr/>
          <p:nvPr/>
        </p:nvSpPr>
        <p:spPr>
          <a:xfrm>
            <a:off x="8407440" y="5041800"/>
            <a:ext cx="2108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2a52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"/>
          <p:cNvSpPr/>
          <p:nvPr/>
        </p:nvSpPr>
        <p:spPr>
          <a:xfrm>
            <a:off x="8821440" y="5054760"/>
            <a:ext cx="1067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53ff"/>
                </a:solidFill>
                <a:latin typeface="Arial"/>
                <a:ea typeface="Arial"/>
              </a:rPr>
              <a:t>Vertrie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"/>
          <p:cNvSpPr/>
          <p:nvPr/>
        </p:nvSpPr>
        <p:spPr>
          <a:xfrm>
            <a:off x="5587920" y="5041800"/>
            <a:ext cx="19177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9a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"/>
          <p:cNvSpPr/>
          <p:nvPr/>
        </p:nvSpPr>
        <p:spPr>
          <a:xfrm>
            <a:off x="2070000" y="3073320"/>
            <a:ext cx="88902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2b52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"/>
          <p:cNvSpPr/>
          <p:nvPr/>
        </p:nvSpPr>
        <p:spPr>
          <a:xfrm>
            <a:off x="2044800" y="3073320"/>
            <a:ext cx="88898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9a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"/>
          <p:cNvSpPr/>
          <p:nvPr/>
        </p:nvSpPr>
        <p:spPr>
          <a:xfrm>
            <a:off x="2068560" y="3086280"/>
            <a:ext cx="88646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55b5"/>
                </a:solidFill>
                <a:latin typeface="Arial"/>
                <a:ea typeface="Arial"/>
              </a:rPr>
              <a:t>Blue Elph research &amp; marketing corp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"/>
          <p:cNvSpPr/>
          <p:nvPr/>
        </p:nvSpPr>
        <p:spPr>
          <a:xfrm>
            <a:off x="2666880" y="5041800"/>
            <a:ext cx="1994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9a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"/>
          <p:cNvSpPr/>
          <p:nvPr/>
        </p:nvSpPr>
        <p:spPr>
          <a:xfrm>
            <a:off x="3300480" y="5054760"/>
            <a:ext cx="74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55b5"/>
                </a:solidFill>
                <a:latin typeface="Arial"/>
                <a:ea typeface="Arial"/>
              </a:rPr>
              <a:t>R&amp;D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"/>
          <p:cNvSpPr/>
          <p:nvPr/>
        </p:nvSpPr>
        <p:spPr>
          <a:xfrm>
            <a:off x="5846400" y="5054760"/>
            <a:ext cx="144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55b5"/>
                </a:solidFill>
                <a:latin typeface="Arial"/>
                <a:ea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"/>
          <p:cNvSpPr/>
          <p:nvPr/>
        </p:nvSpPr>
        <p:spPr>
          <a:xfrm>
            <a:off x="8407440" y="5041800"/>
            <a:ext cx="2108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63639" dir="2700000" blurRad="0" rotWithShape="0">
              <a:srgbClr val="9af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"/>
          <p:cNvSpPr/>
          <p:nvPr/>
        </p:nvSpPr>
        <p:spPr>
          <a:xfrm>
            <a:off x="8612640" y="5054760"/>
            <a:ext cx="171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55b5"/>
                </a:solidFill>
                <a:latin typeface="Arial"/>
                <a:ea typeface="Arial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76320" y="7924680"/>
            <a:ext cx="2340000" cy="17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76320" y="7924680"/>
            <a:ext cx="2340000" cy="173520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1803240" y="2895480"/>
            <a:ext cx="10338120" cy="36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repreneurial objective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Technological product develop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76320" y="7924680"/>
            <a:ext cx="2340000" cy="1735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803240" y="2895480"/>
            <a:ext cx="10338120" cy="36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repreneurial objective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Technological product develop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Creation of a strong brand strate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76320" y="7924680"/>
            <a:ext cx="2340000" cy="17352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803240" y="2895480"/>
            <a:ext cx="10338120" cy="36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repreneurial objective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Technological product develop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Creation of a strong brand strate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79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Market launch and brand establishment in Austr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803240" y="2895480"/>
            <a:ext cx="10338120" cy="36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trepreneurial objective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Technological product develop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ts val="1800"/>
              </a:lnSpc>
              <a:tabLst>
                <a:tab algn="l" pos="0"/>
                <a:tab algn="l" pos="10379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Creation of a strong brand strate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79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Market launch and brand establishment in Austr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7916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79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Global rollou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76320" y="7924680"/>
            <a:ext cx="2340000" cy="17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4506840" y="3927600"/>
            <a:ext cx="50133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  <a:effectLst>
            <a:outerShdw dist="3168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"/>
          <p:cNvSpPr/>
          <p:nvPr/>
        </p:nvSpPr>
        <p:spPr>
          <a:xfrm>
            <a:off x="4525920" y="3882960"/>
            <a:ext cx="4977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ounder´s vision of Blue Elph®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"/>
          <p:cNvSpPr/>
          <p:nvPr/>
        </p:nvSpPr>
        <p:spPr>
          <a:xfrm>
            <a:off x="6864480" y="2470320"/>
            <a:ext cx="911160" cy="911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942240" y="3259080"/>
            <a:ext cx="1638360" cy="1036800"/>
          </a:xfrm>
          <a:prstGeom prst="pie">
            <a:avLst/>
          </a:prstGeom>
          <a:solidFill>
            <a:srgbClr val="c8fe00"/>
          </a:solidFill>
          <a:ln w="9360">
            <a:solidFill>
              <a:srgbClr val="c8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"/>
          <p:cNvSpPr/>
          <p:nvPr/>
        </p:nvSpPr>
        <p:spPr>
          <a:xfrm>
            <a:off x="8580600" y="3065400"/>
            <a:ext cx="2877840" cy="389160"/>
          </a:xfrm>
          <a:prstGeom prst="rect">
            <a:avLst/>
          </a:prstGeom>
          <a:solidFill>
            <a:srgbClr val="c8fe00"/>
          </a:solidFill>
          <a:ln w="9360">
            <a:solidFill>
              <a:srgbClr val="c8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8597880" y="3029040"/>
            <a:ext cx="2841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. Business plan "light"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"/>
          <p:cNvSpPr/>
          <p:nvPr/>
        </p:nvSpPr>
        <p:spPr>
          <a:xfrm>
            <a:off x="4506840" y="3927600"/>
            <a:ext cx="50133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  <a:effectLst>
            <a:outerShdw dist="3168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"/>
          <p:cNvSpPr/>
          <p:nvPr/>
        </p:nvSpPr>
        <p:spPr>
          <a:xfrm>
            <a:off x="4525920" y="3882960"/>
            <a:ext cx="4977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ounder´s vision of Blue Elph®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"/>
          <p:cNvSpPr/>
          <p:nvPr/>
        </p:nvSpPr>
        <p:spPr>
          <a:xfrm>
            <a:off x="6864480" y="2470320"/>
            <a:ext cx="911160" cy="911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6958080" y="4038480"/>
            <a:ext cx="1622520" cy="792360"/>
          </a:xfrm>
          <a:prstGeom prst="pie">
            <a:avLst/>
          </a:prstGeom>
          <a:solidFill>
            <a:srgbClr val="5efe00"/>
          </a:solidFill>
          <a:ln w="9360">
            <a:solidFill>
              <a:srgbClr val="5e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"/>
          <p:cNvSpPr/>
          <p:nvPr/>
        </p:nvSpPr>
        <p:spPr>
          <a:xfrm>
            <a:off x="8580600" y="4637160"/>
            <a:ext cx="2651040" cy="388800"/>
          </a:xfrm>
          <a:prstGeom prst="rect">
            <a:avLst/>
          </a:prstGeom>
          <a:solidFill>
            <a:srgbClr val="5efe00"/>
          </a:solidFill>
          <a:ln w="9360">
            <a:solidFill>
              <a:srgbClr val="5e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"/>
          <p:cNvSpPr/>
          <p:nvPr/>
        </p:nvSpPr>
        <p:spPr>
          <a:xfrm>
            <a:off x="8597880" y="4599000"/>
            <a:ext cx="2614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. Business proposal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"/>
          <p:cNvSpPr/>
          <p:nvPr/>
        </p:nvSpPr>
        <p:spPr>
          <a:xfrm>
            <a:off x="6942240" y="3259080"/>
            <a:ext cx="1638360" cy="1036800"/>
          </a:xfrm>
          <a:prstGeom prst="pie">
            <a:avLst/>
          </a:prstGeom>
          <a:solidFill>
            <a:srgbClr val="c8fe00"/>
          </a:solidFill>
          <a:ln w="9360">
            <a:solidFill>
              <a:srgbClr val="c8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"/>
          <p:cNvSpPr/>
          <p:nvPr/>
        </p:nvSpPr>
        <p:spPr>
          <a:xfrm>
            <a:off x="8580600" y="3065400"/>
            <a:ext cx="2877840" cy="389160"/>
          </a:xfrm>
          <a:prstGeom prst="rect">
            <a:avLst/>
          </a:prstGeom>
          <a:solidFill>
            <a:srgbClr val="c8fe00"/>
          </a:solidFill>
          <a:ln w="9360">
            <a:solidFill>
              <a:srgbClr val="c8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029040"/>
            <a:ext cx="2841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. Business plan "light"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"/>
          <p:cNvSpPr/>
          <p:nvPr/>
        </p:nvSpPr>
        <p:spPr>
          <a:xfrm>
            <a:off x="4506840" y="3927600"/>
            <a:ext cx="50133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  <a:effectLst>
            <a:outerShdw dist="3168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"/>
          <p:cNvSpPr/>
          <p:nvPr/>
        </p:nvSpPr>
        <p:spPr>
          <a:xfrm>
            <a:off x="4525920" y="3882960"/>
            <a:ext cx="4977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ounder´s vision of Blue Elph®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"/>
          <p:cNvSpPr/>
          <p:nvPr/>
        </p:nvSpPr>
        <p:spPr>
          <a:xfrm>
            <a:off x="6864480" y="2470320"/>
            <a:ext cx="911160" cy="911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271600" y="3441600"/>
            <a:ext cx="842004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ce the commencement of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4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igid anti-smoking-law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4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side Italian restaurants and bars,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4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garette substitutes started to boom.“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4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4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43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strian press headline 03/2005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76320" y="7924680"/>
            <a:ext cx="2340000" cy="17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6891480" y="4095720"/>
            <a:ext cx="1689120" cy="2584440"/>
          </a:xfrm>
          <a:prstGeom prst="pie">
            <a:avLst/>
          </a:prstGeom>
          <a:solidFill>
            <a:srgbClr val="3cfe1a"/>
          </a:solidFill>
          <a:ln w="9360">
            <a:solidFill>
              <a:srgbClr val="3cfe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"/>
          <p:cNvSpPr/>
          <p:nvPr/>
        </p:nvSpPr>
        <p:spPr>
          <a:xfrm>
            <a:off x="8580600" y="6485040"/>
            <a:ext cx="2708280" cy="388800"/>
          </a:xfrm>
          <a:prstGeom prst="rect">
            <a:avLst/>
          </a:prstGeom>
          <a:solidFill>
            <a:srgbClr val="3cfe1a"/>
          </a:solidFill>
          <a:ln w="9360">
            <a:solidFill>
              <a:srgbClr val="3cfe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"/>
          <p:cNvSpPr/>
          <p:nvPr/>
        </p:nvSpPr>
        <p:spPr>
          <a:xfrm>
            <a:off x="8597880" y="6448320"/>
            <a:ext cx="2671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3. Business plan v1.0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>
            <a:off x="6958080" y="4038480"/>
            <a:ext cx="1622520" cy="792360"/>
          </a:xfrm>
          <a:prstGeom prst="pie">
            <a:avLst/>
          </a:prstGeom>
          <a:solidFill>
            <a:srgbClr val="5efe00"/>
          </a:solidFill>
          <a:ln w="9360">
            <a:solidFill>
              <a:srgbClr val="5e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"/>
          <p:cNvSpPr/>
          <p:nvPr/>
        </p:nvSpPr>
        <p:spPr>
          <a:xfrm>
            <a:off x="8580600" y="4637160"/>
            <a:ext cx="2651040" cy="388800"/>
          </a:xfrm>
          <a:prstGeom prst="rect">
            <a:avLst/>
          </a:prstGeom>
          <a:solidFill>
            <a:srgbClr val="5efe00"/>
          </a:solidFill>
          <a:ln w="9360">
            <a:solidFill>
              <a:srgbClr val="5e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"/>
          <p:cNvSpPr/>
          <p:nvPr/>
        </p:nvSpPr>
        <p:spPr>
          <a:xfrm>
            <a:off x="8597880" y="4599000"/>
            <a:ext cx="2614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. Business proposal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"/>
          <p:cNvSpPr/>
          <p:nvPr/>
        </p:nvSpPr>
        <p:spPr>
          <a:xfrm>
            <a:off x="6942240" y="3259080"/>
            <a:ext cx="1638360" cy="1036800"/>
          </a:xfrm>
          <a:prstGeom prst="pie">
            <a:avLst/>
          </a:prstGeom>
          <a:solidFill>
            <a:srgbClr val="c8fe00"/>
          </a:solidFill>
          <a:ln w="9360">
            <a:solidFill>
              <a:srgbClr val="c8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"/>
          <p:cNvSpPr/>
          <p:nvPr/>
        </p:nvSpPr>
        <p:spPr>
          <a:xfrm>
            <a:off x="8580600" y="3065400"/>
            <a:ext cx="2877840" cy="389160"/>
          </a:xfrm>
          <a:prstGeom prst="rect">
            <a:avLst/>
          </a:prstGeom>
          <a:solidFill>
            <a:srgbClr val="c8fe00"/>
          </a:solidFill>
          <a:ln w="9360">
            <a:solidFill>
              <a:srgbClr val="c8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8597880" y="3029040"/>
            <a:ext cx="2841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. Business plan "light"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"/>
          <p:cNvSpPr/>
          <p:nvPr/>
        </p:nvSpPr>
        <p:spPr>
          <a:xfrm>
            <a:off x="4506840" y="3927600"/>
            <a:ext cx="50133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  <a:effectLst>
            <a:outerShdw dist="3168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>
            <a:off x="4525920" y="3882960"/>
            <a:ext cx="4977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ounder´s vision of Blue Elph®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>
            <a:off x="6864480" y="2470320"/>
            <a:ext cx="911160" cy="911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6877080" y="4125960"/>
            <a:ext cx="1703520" cy="4670280"/>
          </a:xfrm>
          <a:prstGeom prst="pie">
            <a:avLst/>
          </a:prstGeom>
          <a:solidFill>
            <a:srgbClr val="3efe5a"/>
          </a:solidFill>
          <a:ln w="9360">
            <a:solidFill>
              <a:srgbClr val="3ef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"/>
          <p:cNvSpPr/>
          <p:nvPr/>
        </p:nvSpPr>
        <p:spPr>
          <a:xfrm>
            <a:off x="8580600" y="8602560"/>
            <a:ext cx="3830400" cy="389160"/>
          </a:xfrm>
          <a:prstGeom prst="rect">
            <a:avLst/>
          </a:prstGeom>
          <a:solidFill>
            <a:srgbClr val="3efe5a"/>
          </a:solidFill>
          <a:ln w="9360">
            <a:solidFill>
              <a:srgbClr val="3ef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>
            <a:off x="8597880" y="8566200"/>
            <a:ext cx="37958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4. Business incubator (INiTS)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"/>
          <p:cNvSpPr/>
          <p:nvPr/>
        </p:nvSpPr>
        <p:spPr>
          <a:xfrm>
            <a:off x="6891480" y="4095720"/>
            <a:ext cx="1689120" cy="2584440"/>
          </a:xfrm>
          <a:prstGeom prst="pie">
            <a:avLst/>
          </a:prstGeom>
          <a:solidFill>
            <a:srgbClr val="3cfe1a"/>
          </a:solidFill>
          <a:ln w="9360">
            <a:solidFill>
              <a:srgbClr val="3cfe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"/>
          <p:cNvSpPr/>
          <p:nvPr/>
        </p:nvSpPr>
        <p:spPr>
          <a:xfrm>
            <a:off x="8580600" y="6485040"/>
            <a:ext cx="2708280" cy="388800"/>
          </a:xfrm>
          <a:prstGeom prst="rect">
            <a:avLst/>
          </a:prstGeom>
          <a:solidFill>
            <a:srgbClr val="3cfe1a"/>
          </a:solidFill>
          <a:ln w="9360">
            <a:solidFill>
              <a:srgbClr val="3cfe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"/>
          <p:cNvSpPr/>
          <p:nvPr/>
        </p:nvSpPr>
        <p:spPr>
          <a:xfrm>
            <a:off x="8597880" y="6448320"/>
            <a:ext cx="2671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3. Business plan v1.0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6958080" y="4038480"/>
            <a:ext cx="1622520" cy="792360"/>
          </a:xfrm>
          <a:prstGeom prst="pie">
            <a:avLst/>
          </a:prstGeom>
          <a:solidFill>
            <a:srgbClr val="5efe00"/>
          </a:solidFill>
          <a:ln w="9360">
            <a:solidFill>
              <a:srgbClr val="5e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"/>
          <p:cNvSpPr/>
          <p:nvPr/>
        </p:nvSpPr>
        <p:spPr>
          <a:xfrm>
            <a:off x="8580600" y="4637160"/>
            <a:ext cx="2651040" cy="388800"/>
          </a:xfrm>
          <a:prstGeom prst="rect">
            <a:avLst/>
          </a:prstGeom>
          <a:solidFill>
            <a:srgbClr val="5efe00"/>
          </a:solidFill>
          <a:ln w="9360">
            <a:solidFill>
              <a:srgbClr val="5e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"/>
          <p:cNvSpPr/>
          <p:nvPr/>
        </p:nvSpPr>
        <p:spPr>
          <a:xfrm>
            <a:off x="8597880" y="4599000"/>
            <a:ext cx="2614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. Business proposal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"/>
          <p:cNvSpPr/>
          <p:nvPr/>
        </p:nvSpPr>
        <p:spPr>
          <a:xfrm>
            <a:off x="6942240" y="3259080"/>
            <a:ext cx="1638360" cy="1036800"/>
          </a:xfrm>
          <a:prstGeom prst="pie">
            <a:avLst/>
          </a:prstGeom>
          <a:solidFill>
            <a:srgbClr val="c8fe00"/>
          </a:solidFill>
          <a:ln w="9360">
            <a:solidFill>
              <a:srgbClr val="c8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"/>
          <p:cNvSpPr/>
          <p:nvPr/>
        </p:nvSpPr>
        <p:spPr>
          <a:xfrm>
            <a:off x="8580600" y="3065400"/>
            <a:ext cx="2877840" cy="389160"/>
          </a:xfrm>
          <a:prstGeom prst="rect">
            <a:avLst/>
          </a:prstGeom>
          <a:solidFill>
            <a:srgbClr val="c8fe00"/>
          </a:solidFill>
          <a:ln w="9360">
            <a:solidFill>
              <a:srgbClr val="c8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"/>
          <p:cNvSpPr/>
          <p:nvPr/>
        </p:nvSpPr>
        <p:spPr>
          <a:xfrm>
            <a:off x="8597880" y="3029040"/>
            <a:ext cx="2841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. Business plan "light"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"/>
          <p:cNvSpPr/>
          <p:nvPr/>
        </p:nvSpPr>
        <p:spPr>
          <a:xfrm>
            <a:off x="4506840" y="3927600"/>
            <a:ext cx="50133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  <a:effectLst>
            <a:outerShdw dist="3168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4525920" y="3882960"/>
            <a:ext cx="4977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ounder´s vision of Blue Elph®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>
            <a:off x="6864480" y="2470320"/>
            <a:ext cx="911160" cy="911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5859360" y="4138560"/>
            <a:ext cx="1295640" cy="4343400"/>
          </a:xfrm>
          <a:prstGeom prst="pie">
            <a:avLst/>
          </a:prstGeom>
          <a:solidFill>
            <a:srgbClr val="2f79ff"/>
          </a:solidFill>
          <a:ln w="9360">
            <a:solidFill>
              <a:srgbClr val="2f7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>
            <a:off x="2112840" y="8288280"/>
            <a:ext cx="3759480" cy="389160"/>
          </a:xfrm>
          <a:prstGeom prst="rect">
            <a:avLst/>
          </a:prstGeom>
          <a:solidFill>
            <a:srgbClr val="2f79ff"/>
          </a:solidFill>
          <a:ln w="9360">
            <a:solidFill>
              <a:srgbClr val="2f7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>
            <a:off x="2130480" y="8251920"/>
            <a:ext cx="3724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5. Pre-seed advance (NöBEG)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>
            <a:off x="6877080" y="4125960"/>
            <a:ext cx="1703520" cy="4670280"/>
          </a:xfrm>
          <a:prstGeom prst="pie">
            <a:avLst/>
          </a:prstGeom>
          <a:solidFill>
            <a:srgbClr val="3efe5a"/>
          </a:solidFill>
          <a:ln w="9360">
            <a:solidFill>
              <a:srgbClr val="3ef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>
            <a:off x="8580600" y="8602560"/>
            <a:ext cx="3830400" cy="389160"/>
          </a:xfrm>
          <a:prstGeom prst="rect">
            <a:avLst/>
          </a:prstGeom>
          <a:solidFill>
            <a:srgbClr val="3efe5a"/>
          </a:solidFill>
          <a:ln w="9360">
            <a:solidFill>
              <a:srgbClr val="3ef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"/>
          <p:cNvSpPr/>
          <p:nvPr/>
        </p:nvSpPr>
        <p:spPr>
          <a:xfrm>
            <a:off x="8597880" y="8566200"/>
            <a:ext cx="37958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4. Business incubator (INiTS)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"/>
          <p:cNvSpPr/>
          <p:nvPr/>
        </p:nvSpPr>
        <p:spPr>
          <a:xfrm>
            <a:off x="6891480" y="4095720"/>
            <a:ext cx="1689120" cy="2584440"/>
          </a:xfrm>
          <a:prstGeom prst="pie">
            <a:avLst/>
          </a:prstGeom>
          <a:solidFill>
            <a:srgbClr val="3cfe1a"/>
          </a:solidFill>
          <a:ln w="9360">
            <a:solidFill>
              <a:srgbClr val="3cfe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>
            <a:off x="8580600" y="6485040"/>
            <a:ext cx="2708280" cy="388800"/>
          </a:xfrm>
          <a:prstGeom prst="rect">
            <a:avLst/>
          </a:prstGeom>
          <a:solidFill>
            <a:srgbClr val="3cfe1a"/>
          </a:solidFill>
          <a:ln w="9360">
            <a:solidFill>
              <a:srgbClr val="3cfe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>
            <a:off x="8597880" y="6448320"/>
            <a:ext cx="2671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3. Business plan v1.0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6958080" y="4038480"/>
            <a:ext cx="1622520" cy="792360"/>
          </a:xfrm>
          <a:prstGeom prst="pie">
            <a:avLst/>
          </a:prstGeom>
          <a:solidFill>
            <a:srgbClr val="5efe00"/>
          </a:solidFill>
          <a:ln w="9360">
            <a:solidFill>
              <a:srgbClr val="5e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8580600" y="4637160"/>
            <a:ext cx="2651040" cy="388800"/>
          </a:xfrm>
          <a:prstGeom prst="rect">
            <a:avLst/>
          </a:prstGeom>
          <a:solidFill>
            <a:srgbClr val="5efe00"/>
          </a:solidFill>
          <a:ln w="9360">
            <a:solidFill>
              <a:srgbClr val="5e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8597880" y="4599000"/>
            <a:ext cx="2614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. Business proposal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6942240" y="3259080"/>
            <a:ext cx="1638360" cy="1036800"/>
          </a:xfrm>
          <a:prstGeom prst="pie">
            <a:avLst/>
          </a:prstGeom>
          <a:solidFill>
            <a:srgbClr val="c8fe00"/>
          </a:solidFill>
          <a:ln w="9360">
            <a:solidFill>
              <a:srgbClr val="c8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8580600" y="3065400"/>
            <a:ext cx="2877840" cy="389160"/>
          </a:xfrm>
          <a:prstGeom prst="rect">
            <a:avLst/>
          </a:prstGeom>
          <a:solidFill>
            <a:srgbClr val="c8fe00"/>
          </a:solidFill>
          <a:ln w="9360">
            <a:solidFill>
              <a:srgbClr val="c8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8597880" y="3029040"/>
            <a:ext cx="2841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. Business plan "light"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>
            <a:off x="4506840" y="3927600"/>
            <a:ext cx="50133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  <a:effectLst>
            <a:outerShdw dist="3168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4525920" y="3882960"/>
            <a:ext cx="4977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ounder´s vision of Blue Elph®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6864480" y="2470320"/>
            <a:ext cx="911160" cy="911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5540400" y="4092480"/>
            <a:ext cx="1593720" cy="2333880"/>
          </a:xfrm>
          <a:prstGeom prst="pie">
            <a:avLst/>
          </a:prstGeom>
          <a:solidFill>
            <a:srgbClr val="2532ff"/>
          </a:solidFill>
          <a:ln w="9360">
            <a:solidFill>
              <a:srgbClr val="253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1730520" y="6197760"/>
            <a:ext cx="3809880" cy="444240"/>
          </a:xfrm>
          <a:prstGeom prst="rect">
            <a:avLst/>
          </a:prstGeom>
          <a:solidFill>
            <a:srgbClr val="2532ff"/>
          </a:solidFill>
          <a:ln w="9360">
            <a:solidFill>
              <a:srgbClr val="253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1755720" y="6045120"/>
            <a:ext cx="39117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6. Foundation of Blue Elph corp.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5859360" y="4138560"/>
            <a:ext cx="1295640" cy="4343400"/>
          </a:xfrm>
          <a:prstGeom prst="pie">
            <a:avLst/>
          </a:prstGeom>
          <a:solidFill>
            <a:srgbClr val="2f79ff"/>
          </a:solidFill>
          <a:ln w="9360">
            <a:solidFill>
              <a:srgbClr val="2f7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2112840" y="8288280"/>
            <a:ext cx="3759480" cy="389160"/>
          </a:xfrm>
          <a:prstGeom prst="rect">
            <a:avLst/>
          </a:prstGeom>
          <a:solidFill>
            <a:srgbClr val="2f79ff"/>
          </a:solidFill>
          <a:ln w="9360">
            <a:solidFill>
              <a:srgbClr val="2f7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>
            <a:off x="2130480" y="8251920"/>
            <a:ext cx="3724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5. Pre-seed advance (NöBEG)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6877080" y="4125960"/>
            <a:ext cx="1703520" cy="4670280"/>
          </a:xfrm>
          <a:prstGeom prst="pie">
            <a:avLst/>
          </a:prstGeom>
          <a:solidFill>
            <a:srgbClr val="3efe5a"/>
          </a:solidFill>
          <a:ln w="9360">
            <a:solidFill>
              <a:srgbClr val="3ef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8580600" y="8602560"/>
            <a:ext cx="3830400" cy="389160"/>
          </a:xfrm>
          <a:prstGeom prst="rect">
            <a:avLst/>
          </a:prstGeom>
          <a:solidFill>
            <a:srgbClr val="3efe5a"/>
          </a:solidFill>
          <a:ln w="9360">
            <a:solidFill>
              <a:srgbClr val="3ef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>
            <a:off x="8597880" y="8566200"/>
            <a:ext cx="37958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4. Business incubator (INiTS)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>
            <a:off x="6891480" y="4095720"/>
            <a:ext cx="1689120" cy="2584440"/>
          </a:xfrm>
          <a:prstGeom prst="pie">
            <a:avLst/>
          </a:prstGeom>
          <a:solidFill>
            <a:srgbClr val="3cfe1a"/>
          </a:solidFill>
          <a:ln w="9360">
            <a:solidFill>
              <a:srgbClr val="3cfe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8580600" y="6485040"/>
            <a:ext cx="2708280" cy="388800"/>
          </a:xfrm>
          <a:prstGeom prst="rect">
            <a:avLst/>
          </a:prstGeom>
          <a:solidFill>
            <a:srgbClr val="3cfe1a"/>
          </a:solidFill>
          <a:ln w="9360">
            <a:solidFill>
              <a:srgbClr val="3cfe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>
            <a:off x="8597880" y="6448320"/>
            <a:ext cx="2671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3. Business plan v1.0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>
            <a:off x="6958080" y="4038480"/>
            <a:ext cx="1622520" cy="792360"/>
          </a:xfrm>
          <a:prstGeom prst="pie">
            <a:avLst/>
          </a:prstGeom>
          <a:solidFill>
            <a:srgbClr val="5efe00"/>
          </a:solidFill>
          <a:ln w="9360">
            <a:solidFill>
              <a:srgbClr val="5e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"/>
          <p:cNvSpPr/>
          <p:nvPr/>
        </p:nvSpPr>
        <p:spPr>
          <a:xfrm>
            <a:off x="8580600" y="4637160"/>
            <a:ext cx="2651040" cy="388800"/>
          </a:xfrm>
          <a:prstGeom prst="rect">
            <a:avLst/>
          </a:prstGeom>
          <a:solidFill>
            <a:srgbClr val="5efe00"/>
          </a:solidFill>
          <a:ln w="9360">
            <a:solidFill>
              <a:srgbClr val="5e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"/>
          <p:cNvSpPr/>
          <p:nvPr/>
        </p:nvSpPr>
        <p:spPr>
          <a:xfrm>
            <a:off x="8597880" y="4599000"/>
            <a:ext cx="2614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. Business proposal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"/>
          <p:cNvSpPr/>
          <p:nvPr/>
        </p:nvSpPr>
        <p:spPr>
          <a:xfrm>
            <a:off x="6942240" y="3259080"/>
            <a:ext cx="1638360" cy="1036800"/>
          </a:xfrm>
          <a:prstGeom prst="pie">
            <a:avLst/>
          </a:prstGeom>
          <a:solidFill>
            <a:srgbClr val="c8fe00"/>
          </a:solidFill>
          <a:ln w="9360">
            <a:solidFill>
              <a:srgbClr val="c8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"/>
          <p:cNvSpPr/>
          <p:nvPr/>
        </p:nvSpPr>
        <p:spPr>
          <a:xfrm>
            <a:off x="8580600" y="3065400"/>
            <a:ext cx="2877840" cy="389160"/>
          </a:xfrm>
          <a:prstGeom prst="rect">
            <a:avLst/>
          </a:prstGeom>
          <a:solidFill>
            <a:srgbClr val="c8fe00"/>
          </a:solidFill>
          <a:ln w="9360">
            <a:solidFill>
              <a:srgbClr val="c8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"/>
          <p:cNvSpPr/>
          <p:nvPr/>
        </p:nvSpPr>
        <p:spPr>
          <a:xfrm>
            <a:off x="8597880" y="3029040"/>
            <a:ext cx="2841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. Business plan "light"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"/>
          <p:cNvSpPr/>
          <p:nvPr/>
        </p:nvSpPr>
        <p:spPr>
          <a:xfrm>
            <a:off x="4506840" y="3927600"/>
            <a:ext cx="50133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  <a:effectLst>
            <a:outerShdw dist="3168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"/>
          <p:cNvSpPr/>
          <p:nvPr/>
        </p:nvSpPr>
        <p:spPr>
          <a:xfrm>
            <a:off x="4525920" y="3882960"/>
            <a:ext cx="4977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ounder´s vision of Blue Elph®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"/>
          <p:cNvSpPr/>
          <p:nvPr/>
        </p:nvSpPr>
        <p:spPr>
          <a:xfrm>
            <a:off x="6864480" y="2470320"/>
            <a:ext cx="911160" cy="911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5443560" y="3059280"/>
            <a:ext cx="1654200" cy="1230120"/>
          </a:xfrm>
          <a:prstGeom prst="pie">
            <a:avLst/>
          </a:prstGeom>
          <a:solidFill>
            <a:srgbClr val="bb0eff"/>
          </a:solidFill>
          <a:ln w="9360">
            <a:solidFill>
              <a:srgbClr val="bb0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"/>
          <p:cNvSpPr/>
          <p:nvPr/>
        </p:nvSpPr>
        <p:spPr>
          <a:xfrm>
            <a:off x="574560" y="2863800"/>
            <a:ext cx="4869000" cy="389160"/>
          </a:xfrm>
          <a:prstGeom prst="rect">
            <a:avLst/>
          </a:prstGeom>
          <a:solidFill>
            <a:srgbClr val="bb0eff"/>
          </a:solidFill>
          <a:ln w="9360">
            <a:solidFill>
              <a:srgbClr val="bb0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>
            <a:off x="593640" y="2827440"/>
            <a:ext cx="4832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7. Research &amp; development grant (FFG)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"/>
          <p:cNvSpPr/>
          <p:nvPr/>
        </p:nvSpPr>
        <p:spPr>
          <a:xfrm>
            <a:off x="5540400" y="4092480"/>
            <a:ext cx="1593720" cy="2333880"/>
          </a:xfrm>
          <a:prstGeom prst="pie">
            <a:avLst/>
          </a:prstGeom>
          <a:solidFill>
            <a:srgbClr val="2532ff"/>
          </a:solidFill>
          <a:ln w="9360">
            <a:solidFill>
              <a:srgbClr val="253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"/>
          <p:cNvSpPr/>
          <p:nvPr/>
        </p:nvSpPr>
        <p:spPr>
          <a:xfrm>
            <a:off x="1730520" y="6197760"/>
            <a:ext cx="3809880" cy="444240"/>
          </a:xfrm>
          <a:prstGeom prst="rect">
            <a:avLst/>
          </a:prstGeom>
          <a:solidFill>
            <a:srgbClr val="2532ff"/>
          </a:solidFill>
          <a:ln w="9360">
            <a:solidFill>
              <a:srgbClr val="253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"/>
          <p:cNvSpPr/>
          <p:nvPr/>
        </p:nvSpPr>
        <p:spPr>
          <a:xfrm>
            <a:off x="1755720" y="6045120"/>
            <a:ext cx="39117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6. Foundation of Blue Elph corp.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"/>
          <p:cNvSpPr/>
          <p:nvPr/>
        </p:nvSpPr>
        <p:spPr>
          <a:xfrm>
            <a:off x="5859360" y="4138560"/>
            <a:ext cx="1295640" cy="4343400"/>
          </a:xfrm>
          <a:prstGeom prst="pie">
            <a:avLst/>
          </a:prstGeom>
          <a:solidFill>
            <a:srgbClr val="2f79ff"/>
          </a:solidFill>
          <a:ln w="9360">
            <a:solidFill>
              <a:srgbClr val="2f7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"/>
          <p:cNvSpPr/>
          <p:nvPr/>
        </p:nvSpPr>
        <p:spPr>
          <a:xfrm>
            <a:off x="2112840" y="8288280"/>
            <a:ext cx="3759480" cy="389160"/>
          </a:xfrm>
          <a:prstGeom prst="rect">
            <a:avLst/>
          </a:prstGeom>
          <a:solidFill>
            <a:srgbClr val="2f79ff"/>
          </a:solidFill>
          <a:ln w="9360">
            <a:solidFill>
              <a:srgbClr val="2f7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"/>
          <p:cNvSpPr/>
          <p:nvPr/>
        </p:nvSpPr>
        <p:spPr>
          <a:xfrm>
            <a:off x="2130480" y="8251920"/>
            <a:ext cx="3724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5. Pre-seed advance (NöBEG)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"/>
          <p:cNvSpPr/>
          <p:nvPr/>
        </p:nvSpPr>
        <p:spPr>
          <a:xfrm>
            <a:off x="6877080" y="4125960"/>
            <a:ext cx="1703520" cy="4670280"/>
          </a:xfrm>
          <a:prstGeom prst="pie">
            <a:avLst/>
          </a:prstGeom>
          <a:solidFill>
            <a:srgbClr val="3efe5a"/>
          </a:solidFill>
          <a:ln w="9360">
            <a:solidFill>
              <a:srgbClr val="3ef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"/>
          <p:cNvSpPr/>
          <p:nvPr/>
        </p:nvSpPr>
        <p:spPr>
          <a:xfrm>
            <a:off x="8580600" y="8602560"/>
            <a:ext cx="3830400" cy="389160"/>
          </a:xfrm>
          <a:prstGeom prst="rect">
            <a:avLst/>
          </a:prstGeom>
          <a:solidFill>
            <a:srgbClr val="3efe5a"/>
          </a:solidFill>
          <a:ln w="9360">
            <a:solidFill>
              <a:srgbClr val="3ef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"/>
          <p:cNvSpPr/>
          <p:nvPr/>
        </p:nvSpPr>
        <p:spPr>
          <a:xfrm>
            <a:off x="8597880" y="8566200"/>
            <a:ext cx="37958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4. Business incubator (INiTS)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"/>
          <p:cNvSpPr/>
          <p:nvPr/>
        </p:nvSpPr>
        <p:spPr>
          <a:xfrm>
            <a:off x="6891480" y="4095720"/>
            <a:ext cx="1689120" cy="2584440"/>
          </a:xfrm>
          <a:prstGeom prst="pie">
            <a:avLst/>
          </a:prstGeom>
          <a:solidFill>
            <a:srgbClr val="3cfe1a"/>
          </a:solidFill>
          <a:ln w="9360">
            <a:solidFill>
              <a:srgbClr val="3cfe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"/>
          <p:cNvSpPr/>
          <p:nvPr/>
        </p:nvSpPr>
        <p:spPr>
          <a:xfrm>
            <a:off x="8580600" y="6485040"/>
            <a:ext cx="2708280" cy="388800"/>
          </a:xfrm>
          <a:prstGeom prst="rect">
            <a:avLst/>
          </a:prstGeom>
          <a:solidFill>
            <a:srgbClr val="3cfe1a"/>
          </a:solidFill>
          <a:ln w="9360">
            <a:solidFill>
              <a:srgbClr val="3cfe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"/>
          <p:cNvSpPr/>
          <p:nvPr/>
        </p:nvSpPr>
        <p:spPr>
          <a:xfrm>
            <a:off x="8597880" y="6448320"/>
            <a:ext cx="2671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3. Business plan v1.0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"/>
          <p:cNvSpPr/>
          <p:nvPr/>
        </p:nvSpPr>
        <p:spPr>
          <a:xfrm>
            <a:off x="6958080" y="4038480"/>
            <a:ext cx="1622520" cy="792360"/>
          </a:xfrm>
          <a:prstGeom prst="pie">
            <a:avLst/>
          </a:prstGeom>
          <a:solidFill>
            <a:srgbClr val="5efe00"/>
          </a:solidFill>
          <a:ln w="9360">
            <a:solidFill>
              <a:srgbClr val="5e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"/>
          <p:cNvSpPr/>
          <p:nvPr/>
        </p:nvSpPr>
        <p:spPr>
          <a:xfrm>
            <a:off x="8580600" y="4637160"/>
            <a:ext cx="2651040" cy="388800"/>
          </a:xfrm>
          <a:prstGeom prst="rect">
            <a:avLst/>
          </a:prstGeom>
          <a:solidFill>
            <a:srgbClr val="5efe00"/>
          </a:solidFill>
          <a:ln w="9360">
            <a:solidFill>
              <a:srgbClr val="5e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"/>
          <p:cNvSpPr/>
          <p:nvPr/>
        </p:nvSpPr>
        <p:spPr>
          <a:xfrm>
            <a:off x="8597880" y="4599000"/>
            <a:ext cx="2614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. Business proposal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"/>
          <p:cNvSpPr/>
          <p:nvPr/>
        </p:nvSpPr>
        <p:spPr>
          <a:xfrm>
            <a:off x="6942240" y="3259080"/>
            <a:ext cx="1638360" cy="1036800"/>
          </a:xfrm>
          <a:prstGeom prst="pie">
            <a:avLst/>
          </a:prstGeom>
          <a:solidFill>
            <a:srgbClr val="c8fe00"/>
          </a:solidFill>
          <a:ln w="9360">
            <a:solidFill>
              <a:srgbClr val="c8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"/>
          <p:cNvSpPr/>
          <p:nvPr/>
        </p:nvSpPr>
        <p:spPr>
          <a:xfrm>
            <a:off x="8580600" y="3065400"/>
            <a:ext cx="2877840" cy="389160"/>
          </a:xfrm>
          <a:prstGeom prst="rect">
            <a:avLst/>
          </a:prstGeom>
          <a:solidFill>
            <a:srgbClr val="c8fe00"/>
          </a:solidFill>
          <a:ln w="9360">
            <a:solidFill>
              <a:srgbClr val="c8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"/>
          <p:cNvSpPr/>
          <p:nvPr/>
        </p:nvSpPr>
        <p:spPr>
          <a:xfrm>
            <a:off x="8597880" y="3029040"/>
            <a:ext cx="2841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. Business plan "light"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4506840" y="3927600"/>
            <a:ext cx="50133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  <a:effectLst>
            <a:outerShdw dist="3168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"/>
          <p:cNvSpPr/>
          <p:nvPr/>
        </p:nvSpPr>
        <p:spPr>
          <a:xfrm>
            <a:off x="4525920" y="3882960"/>
            <a:ext cx="4977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ounder´s vision of Blue Elph®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"/>
          <p:cNvSpPr/>
          <p:nvPr/>
        </p:nvSpPr>
        <p:spPr>
          <a:xfrm>
            <a:off x="6864480" y="2470320"/>
            <a:ext cx="911160" cy="911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5684760" y="1628640"/>
            <a:ext cx="1457280" cy="2610000"/>
          </a:xfrm>
          <a:prstGeom prst="pie">
            <a:avLst/>
          </a:prstGeom>
          <a:solidFill>
            <a:srgbClr val="f200bb"/>
          </a:solidFill>
          <a:ln w="9360">
            <a:solidFill>
              <a:srgbClr val="f200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3511440" y="492120"/>
            <a:ext cx="2173320" cy="1136520"/>
          </a:xfrm>
          <a:prstGeom prst="pie">
            <a:avLst/>
          </a:prstGeom>
          <a:noFill/>
          <a:ln w="9360">
            <a:solidFill>
              <a:srgbClr val="f200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 rot="634200">
            <a:off x="3521160" y="80640"/>
            <a:ext cx="352440" cy="46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"/>
          <p:cNvSpPr/>
          <p:nvPr/>
        </p:nvSpPr>
        <p:spPr>
          <a:xfrm rot="1183800">
            <a:off x="3660480" y="110880"/>
            <a:ext cx="280800" cy="46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"/>
          <p:cNvSpPr/>
          <p:nvPr/>
        </p:nvSpPr>
        <p:spPr>
          <a:xfrm rot="1709400">
            <a:off x="3727440" y="139680"/>
            <a:ext cx="279360" cy="46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"/>
          <p:cNvSpPr/>
          <p:nvPr/>
        </p:nvSpPr>
        <p:spPr>
          <a:xfrm rot="1953000">
            <a:off x="3789000" y="175680"/>
            <a:ext cx="279360" cy="46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"/>
          <p:cNvSpPr/>
          <p:nvPr/>
        </p:nvSpPr>
        <p:spPr>
          <a:xfrm rot="2388000">
            <a:off x="3840120" y="241200"/>
            <a:ext cx="351000" cy="46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 rot="2895600">
            <a:off x="3942720" y="338400"/>
            <a:ext cx="338400" cy="46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 rot="3235200">
            <a:off x="4020120" y="443520"/>
            <a:ext cx="352440" cy="46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 rot="3430200">
            <a:off x="4105080" y="558360"/>
            <a:ext cx="338040" cy="46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 rot="3498000">
            <a:off x="4187880" y="642600"/>
            <a:ext cx="279360" cy="463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 rot="3475800">
            <a:off x="4208040" y="734760"/>
            <a:ext cx="352440" cy="463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 rot="3341400">
            <a:off x="4299840" y="831960"/>
            <a:ext cx="293760" cy="46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 rot="3070200">
            <a:off x="4353120" y="894600"/>
            <a:ext cx="279720" cy="46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 rot="2800800">
            <a:off x="4397760" y="954720"/>
            <a:ext cx="295200" cy="46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 rot="2284200">
            <a:off x="4455720" y="1033560"/>
            <a:ext cx="351000" cy="46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 rot="1721400">
            <a:off x="4582800" y="1087200"/>
            <a:ext cx="264960" cy="463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 rot="1182000">
            <a:off x="4632480" y="1130040"/>
            <a:ext cx="350640" cy="46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 rot="638400">
            <a:off x="4770360" y="1166760"/>
            <a:ext cx="352440" cy="46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 rot="336000">
            <a:off x="4913280" y="1186920"/>
            <a:ext cx="352440" cy="46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 rot="142800">
            <a:off x="5057280" y="1196640"/>
            <a:ext cx="351000" cy="463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 rot="57000">
            <a:off x="5200560" y="1201680"/>
            <a:ext cx="352440" cy="46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 rot="22200">
            <a:off x="5344920" y="1203120"/>
            <a:ext cx="293400" cy="461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5443560" y="3059280"/>
            <a:ext cx="1654200" cy="1230120"/>
          </a:xfrm>
          <a:prstGeom prst="pie">
            <a:avLst/>
          </a:prstGeom>
          <a:solidFill>
            <a:srgbClr val="bb0eff"/>
          </a:solidFill>
          <a:ln w="9360">
            <a:solidFill>
              <a:srgbClr val="bb0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574560" y="2863800"/>
            <a:ext cx="4869000" cy="389160"/>
          </a:xfrm>
          <a:prstGeom prst="rect">
            <a:avLst/>
          </a:prstGeom>
          <a:solidFill>
            <a:srgbClr val="bb0eff"/>
          </a:solidFill>
          <a:ln w="9360">
            <a:solidFill>
              <a:srgbClr val="bb0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593640" y="2827440"/>
            <a:ext cx="4832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7. Research &amp; development grant (FFG)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>
            <a:off x="5540400" y="4092480"/>
            <a:ext cx="1593720" cy="2333880"/>
          </a:xfrm>
          <a:prstGeom prst="pie">
            <a:avLst/>
          </a:prstGeom>
          <a:solidFill>
            <a:srgbClr val="2532ff"/>
          </a:solidFill>
          <a:ln w="9360">
            <a:solidFill>
              <a:srgbClr val="253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>
            <a:off x="1730520" y="6197760"/>
            <a:ext cx="3809880" cy="444240"/>
          </a:xfrm>
          <a:prstGeom prst="rect">
            <a:avLst/>
          </a:prstGeom>
          <a:solidFill>
            <a:srgbClr val="2532ff"/>
          </a:solidFill>
          <a:ln w="9360">
            <a:solidFill>
              <a:srgbClr val="253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>
            <a:off x="1755720" y="6045120"/>
            <a:ext cx="391176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6. Foundation of Blue Elph corp.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>
            <a:off x="5859360" y="4138560"/>
            <a:ext cx="1295640" cy="4343400"/>
          </a:xfrm>
          <a:prstGeom prst="pie">
            <a:avLst/>
          </a:prstGeom>
          <a:solidFill>
            <a:srgbClr val="2f79ff"/>
          </a:solidFill>
          <a:ln w="9360">
            <a:solidFill>
              <a:srgbClr val="2f7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>
            <a:off x="2112840" y="8288280"/>
            <a:ext cx="3759480" cy="389160"/>
          </a:xfrm>
          <a:prstGeom prst="rect">
            <a:avLst/>
          </a:prstGeom>
          <a:solidFill>
            <a:srgbClr val="2f79ff"/>
          </a:solidFill>
          <a:ln w="9360">
            <a:solidFill>
              <a:srgbClr val="2f7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>
            <a:off x="2130480" y="8251920"/>
            <a:ext cx="3724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5. Pre-seed advance (NöBEG)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6877080" y="4125960"/>
            <a:ext cx="1703520" cy="4670280"/>
          </a:xfrm>
          <a:prstGeom prst="pie">
            <a:avLst/>
          </a:prstGeom>
          <a:solidFill>
            <a:srgbClr val="3efe5a"/>
          </a:solidFill>
          <a:ln w="9360">
            <a:solidFill>
              <a:srgbClr val="3ef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580600" y="8602560"/>
            <a:ext cx="3830400" cy="389160"/>
          </a:xfrm>
          <a:prstGeom prst="rect">
            <a:avLst/>
          </a:prstGeom>
          <a:solidFill>
            <a:srgbClr val="3efe5a"/>
          </a:solidFill>
          <a:ln w="9360">
            <a:solidFill>
              <a:srgbClr val="3efe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597880" y="8566200"/>
            <a:ext cx="37958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4. Business incubator (INiTS)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6891480" y="4095720"/>
            <a:ext cx="1689120" cy="2584440"/>
          </a:xfrm>
          <a:prstGeom prst="pie">
            <a:avLst/>
          </a:prstGeom>
          <a:solidFill>
            <a:srgbClr val="3cfe1a"/>
          </a:solidFill>
          <a:ln w="9360">
            <a:solidFill>
              <a:srgbClr val="3cfe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8580600" y="6485040"/>
            <a:ext cx="2708280" cy="388800"/>
          </a:xfrm>
          <a:prstGeom prst="rect">
            <a:avLst/>
          </a:prstGeom>
          <a:solidFill>
            <a:srgbClr val="3cfe1a"/>
          </a:solidFill>
          <a:ln w="9360">
            <a:solidFill>
              <a:srgbClr val="3cfe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8597880" y="6448320"/>
            <a:ext cx="26719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3. Business plan v1.0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6958080" y="4038480"/>
            <a:ext cx="1622520" cy="792360"/>
          </a:xfrm>
          <a:prstGeom prst="pie">
            <a:avLst/>
          </a:prstGeom>
          <a:solidFill>
            <a:srgbClr val="5efe00"/>
          </a:solidFill>
          <a:ln w="9360">
            <a:solidFill>
              <a:srgbClr val="5e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580600" y="4637160"/>
            <a:ext cx="2651040" cy="388800"/>
          </a:xfrm>
          <a:prstGeom prst="rect">
            <a:avLst/>
          </a:prstGeom>
          <a:solidFill>
            <a:srgbClr val="5efe00"/>
          </a:solidFill>
          <a:ln w="9360">
            <a:solidFill>
              <a:srgbClr val="5e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8597880" y="4599000"/>
            <a:ext cx="26146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2. Business proposal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6942240" y="3259080"/>
            <a:ext cx="1638360" cy="1036800"/>
          </a:xfrm>
          <a:prstGeom prst="pie">
            <a:avLst/>
          </a:prstGeom>
          <a:solidFill>
            <a:srgbClr val="c8fe00"/>
          </a:solidFill>
          <a:ln w="9360">
            <a:solidFill>
              <a:srgbClr val="c8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>
            <a:off x="8580600" y="3065400"/>
            <a:ext cx="2877840" cy="389160"/>
          </a:xfrm>
          <a:prstGeom prst="rect">
            <a:avLst/>
          </a:prstGeom>
          <a:solidFill>
            <a:srgbClr val="c8fe00"/>
          </a:solidFill>
          <a:ln w="9360">
            <a:solidFill>
              <a:srgbClr val="c8f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8597880" y="3029040"/>
            <a:ext cx="2841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1. Business plan "light"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4506840" y="3927600"/>
            <a:ext cx="501336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  <a:effectLst>
            <a:outerShdw dist="31680" dir="54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4525920" y="3882960"/>
            <a:ext cx="4977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ounder´s vision of Blue Elph®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6864480" y="2470320"/>
            <a:ext cx="911160" cy="911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2271600" y="4140360"/>
            <a:ext cx="84200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38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hank you!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2271600" y="9016920"/>
            <a:ext cx="8420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3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lue Elph® is a registered trade mark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76320" y="7924680"/>
            <a:ext cx="2340000" cy="17352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2895480" y="1612800"/>
            <a:ext cx="7239240" cy="553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76320" y="7924680"/>
            <a:ext cx="2340000" cy="17352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803240" y="2362320"/>
            <a:ext cx="942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,3 mio. smokers do smok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ustria.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8547120"/>
            <a:ext cx="6337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6380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Online-statistics Austria, Smoke-statistics of the German council, Special Eurobarometer 183/Wave 58.2 European Opinion Research Group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7683480" y="0"/>
            <a:ext cx="458460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76320" y="7924680"/>
            <a:ext cx="2340000" cy="17352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803240" y="2362320"/>
            <a:ext cx="9423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,3 mio. smokers do smok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ustria.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alltogether about 650.000.00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ckets each year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"/>
          <p:cNvSpPr/>
          <p:nvPr/>
        </p:nvSpPr>
        <p:spPr>
          <a:xfrm>
            <a:off x="6629400" y="8547120"/>
            <a:ext cx="6337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6380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Online-statistics Austria, Smoke-statistics of the German council, Special Eurobarometer 183/Wave 58.2 European Opinion Research Group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7683480" y="0"/>
            <a:ext cx="458460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76320" y="7924680"/>
            <a:ext cx="2340000" cy="17352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803240" y="2362320"/>
            <a:ext cx="94237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,3 mio. smokers do smok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ustria.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alltogether about 650.000.00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ckets each year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5% of the Austrian smoker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ready tried once to quit smoking.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8547120"/>
            <a:ext cx="6337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6380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Online-statistics Austria, Smoke-statistics of the German council, Special Eurobarometer 183/Wave 58.2 European Opinion Research Group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7683480" y="0"/>
            <a:ext cx="458460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76320" y="7924680"/>
            <a:ext cx="2340000" cy="17352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803240" y="2362320"/>
            <a:ext cx="9423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,3 mio. smokers do smok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ustria.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alltogether about 650.000.000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ckets each year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5% of the Austrian smoker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ready tried once to quit smoking.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..most of them failed beause the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518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und no appropriate alternativ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"/>
          <p:cNvSpPr/>
          <p:nvPr/>
        </p:nvSpPr>
        <p:spPr>
          <a:xfrm>
            <a:off x="6629400" y="8547120"/>
            <a:ext cx="6337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6380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Online-statistics Austria, Smoke-statistics of the German council, Special Eurobarometer 183/Wave 58.2 European Opinion Research Group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683480" y="0"/>
            <a:ext cx="458460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271600" y="4140360"/>
            <a:ext cx="8420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a Blue Elph®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76320" y="7924680"/>
            <a:ext cx="2340000" cy="17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76320" y="7924680"/>
            <a:ext cx="2340000" cy="17352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2184480" y="76320"/>
            <a:ext cx="8623080" cy="8381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ro designment</cp:lastModifiedBy>
  <dcterms:modified xsi:type="dcterms:W3CDTF">2007-05-09T23:03:12Z</dcterms:modified>
  <cp:revision>2</cp:revision>
  <dc:subject/>
  <dc:title>PowerPoint-Präsentation</dc:title>
</cp:coreProperties>
</file>