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CCB3-F2EE-40A6-A762-ED7A5CC72B6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jfghnmfgj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5341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838080"/>
            <a:ext cx="0" cy="571500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839080" y="838080"/>
            <a:ext cx="0" cy="571500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304920" y="6552720"/>
            <a:ext cx="8534160" cy="180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553080" y="6324480"/>
            <a:ext cx="2327400" cy="330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228600"/>
            <a:ext cx="8610480" cy="990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838080"/>
            <a:ext cx="0" cy="571500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839080" y="838080"/>
            <a:ext cx="0" cy="571500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04920" y="6552720"/>
            <a:ext cx="8534160" cy="180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53080" y="6324480"/>
            <a:ext cx="2327400" cy="33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249120" y="6318360"/>
          <a:ext cx="160020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9120" y="6318360"/>
                    <a:ext cx="160020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304920" y="228600"/>
            <a:ext cx="8534160" cy="990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rmesimprese.it/" TargetMode="External"/><Relationship Id="rId2" Type="http://schemas.openxmlformats.org/officeDocument/2006/relationships/hyperlink" Target="http://www.ermesimprese.it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0"/>
            <a:ext cx="9144000" cy="1828440"/>
            <a:chOff x="0" y="0"/>
            <a:chExt cx="9144000" cy="1828440"/>
          </a:xfrm>
        </p:grpSpPr>
        <p:sp>
          <p:nvSpPr>
            <p:cNvPr id="96" name=""/>
            <p:cNvSpPr/>
            <p:nvPr/>
          </p:nvSpPr>
          <p:spPr>
            <a:xfrm>
              <a:off x="0" y="0"/>
              <a:ext cx="914400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04920" y="304920"/>
              <a:ext cx="0" cy="137160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8839080" y="304560"/>
              <a:ext cx="0" cy="152388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4920" y="304920"/>
              <a:ext cx="8534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57200" y="990720"/>
            <a:ext cx="8229600" cy="4495680"/>
            <a:chOff x="457200" y="990720"/>
            <a:chExt cx="8229600" cy="4495680"/>
          </a:xfrm>
        </p:grpSpPr>
        <p:sp>
          <p:nvSpPr>
            <p:cNvPr id="101" name=""/>
            <p:cNvSpPr/>
            <p:nvPr/>
          </p:nvSpPr>
          <p:spPr>
            <a:xfrm>
              <a:off x="457200" y="990720"/>
              <a:ext cx="8229600" cy="4495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762120" y="1219320"/>
              <a:ext cx="7619760" cy="408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"/>
          <p:cNvSpPr/>
          <p:nvPr/>
        </p:nvSpPr>
        <p:spPr>
          <a:xfrm>
            <a:off x="609480" y="1295280"/>
            <a:ext cx="8001000" cy="35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Verdana"/>
              </a:rPr>
              <a:t>EMILIA-ROMAG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Verdana"/>
              </a:rPr>
              <a:t>THE REGIONAL PROGRAMME FOR INDUSTRIAL RESEARCH, INNOVATION AND TECHNOLOGICAL 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33399"/>
                </a:solidFill>
                <a:latin typeface="Verdana"/>
              </a:rPr>
              <a:t>Caen, 17 March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THE SCENAR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f5f5f"/>
                </a:solidFill>
                <a:latin typeface="Arial"/>
              </a:rPr>
              <a:t>Increasing tendency of companies towards investment in R&amp;D and innovati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f5f5f"/>
                </a:solidFill>
                <a:latin typeface="Arial"/>
              </a:rPr>
              <a:t>High degree of participation to research and innovation support schemes by Emilia-Romagna actor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f5f5f"/>
                </a:solidFill>
                <a:latin typeface="Arial"/>
              </a:rPr>
              <a:t>Rapid developement of new companies and professions in the fields of new technologie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f5f5f"/>
                </a:solidFill>
                <a:latin typeface="Arial"/>
              </a:rPr>
              <a:t>Increasing use of intellectual property rights protecti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f5f5f"/>
                </a:solidFill>
                <a:latin typeface="Arial"/>
              </a:rPr>
              <a:t>Well established presence of a strong scientific community in the regi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f5f5f"/>
                </a:solidFill>
                <a:latin typeface="Arial"/>
              </a:rPr>
              <a:t>Network of actors belonging to the regional system of innovati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EGIONAL LAW 7/200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1375"/>
              </a:spcBef>
              <a:buClr>
                <a:srgbClr val="ff0000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29c4c"/>
                </a:solidFill>
                <a:latin typeface="Arial"/>
              </a:rPr>
              <a:t>An example of governance for implementation of a Knowledge based economy</a:t>
            </a:r>
            <a:r>
              <a:rPr b="0" lang="en-GB" sz="2200" spc="-1" strike="noStrike">
                <a:solidFill>
                  <a:srgbClr val="029c4c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ff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Promotion of investments on R&amp;D and innovatio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250"/>
              </a:spcBef>
              <a:buClr>
                <a:srgbClr val="ff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Improvement of investment on skilled human resourc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 algn="just">
              <a:spcBef>
                <a:spcPts val="1250"/>
              </a:spcBef>
              <a:buClr>
                <a:srgbClr val="ff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</a:rPr>
              <a:t>Support for more effective science-industry relationship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Arial"/>
              </a:rPr>
              <a:t>NOT ONLY ACTIONS TO PROMOTE ISOLATED EXCELLENCE BUT A FRAMEWORK OF ACTIONS ABLE TO CREATE AN ENVIRONMENT FOR THE GENERALISED ENLARGEMENT OF COMPETITIVENESS OF THE REGIO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PROGRAMME FOR RESEARCH, INNOVATION AND T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5f5f5f"/>
                </a:solidFill>
                <a:latin typeface="Arial"/>
              </a:rPr>
              <a:t>SPECIFIC OBJECTIV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Arial"/>
              </a:rPr>
              <a:t>To stimulate the business R&amp;D investment and stronger relations betwen industry and the research system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Arial"/>
              </a:rPr>
              <a:t>To favour the development of new industrial laboratories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Arial"/>
              </a:rPr>
              <a:t>To promote new businesses and professional activities with high technolgy content, for the economic exploitation of research resul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Arial"/>
              </a:rPr>
              <a:t>To promote programmes supporting transfer of technological knowledge and competencies towards compani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Arial"/>
              </a:rPr>
              <a:t>To develop a network of research and TT laboratories and centres for innovation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Arial"/>
              </a:rPr>
              <a:t>To improve services supporting the development of the regional network of research and innovation actor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33520" y="2286000"/>
            <a:ext cx="5943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29c4c"/>
                </a:solidFill>
                <a:latin typeface="Arial"/>
              </a:rPr>
              <a:t>Industrial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29c4c"/>
                </a:solidFill>
                <a:latin typeface="Arial"/>
              </a:rPr>
              <a:t>Industrial Laboratories for S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29c4c"/>
                </a:solidFill>
                <a:latin typeface="Arial"/>
              </a:rPr>
              <a:t>Spin of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29c4c"/>
                </a:solidFill>
                <a:latin typeface="Arial"/>
              </a:rPr>
              <a:t>Research Laboratories and Innovation Cent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29c4c"/>
                </a:solidFill>
                <a:latin typeface="Arial"/>
              </a:rPr>
              <a:t>ICT Research Laborat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29c4c"/>
                </a:solidFill>
                <a:latin typeface="Arial"/>
              </a:rPr>
              <a:t>Innovative Actions Programme “Health and Life Scienc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29c4c"/>
                </a:solidFill>
                <a:latin typeface="Arial"/>
              </a:rPr>
              <a:t>Innovation Pa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29c4c"/>
                </a:solidFill>
                <a:latin typeface="Arial"/>
              </a:rPr>
              <a:t>Venture capital Fund for innovative start 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2193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9c4c"/>
                </a:solidFill>
                <a:latin typeface="Arial"/>
              </a:rPr>
              <a:t>130 M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81680" y="2259000"/>
            <a:ext cx="1944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9c4c"/>
                </a:solidFill>
                <a:latin typeface="Arial"/>
              </a:rPr>
              <a:t>65,3 M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9c4c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9c4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29c4c"/>
                </a:solidFill>
                <a:latin typeface="Arial"/>
              </a:rPr>
              <a:t>3   M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9c4c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29c4c"/>
                </a:solidFill>
                <a:latin typeface="Arial"/>
              </a:rPr>
              <a:t>2  M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9c4c"/>
                </a:solidFill>
                <a:latin typeface="Arial"/>
              </a:rPr>
              <a:t>28,7 M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9c4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29c4c"/>
                </a:solidFill>
                <a:latin typeface="Arial"/>
              </a:rPr>
              <a:t>8    M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9c4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29c4c"/>
                </a:solidFill>
                <a:latin typeface="Arial"/>
              </a:rPr>
              <a:t>5,2 M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9c4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9c4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29c4c"/>
                </a:solidFill>
                <a:latin typeface="Arial"/>
              </a:rPr>
              <a:t>7,6 M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9c4c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29c4c"/>
                </a:solidFill>
                <a:latin typeface="Arial"/>
              </a:rPr>
              <a:t>10  M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9c4c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OVERALL INVEST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PROGRAMME OUTL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1447920"/>
            <a:ext cx="4190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9900"/>
                </a:solidFill>
                <a:latin typeface="Arial"/>
              </a:rPr>
              <a:t>Measure 1</a:t>
            </a:r>
            <a:br>
              <a:rPr sz="1600"/>
            </a:br>
            <a:r>
              <a:rPr b="1" lang="it-IT" sz="1600" spc="-1" strike="noStrike">
                <a:solidFill>
                  <a:srgbClr val="ff9900"/>
                </a:solidFill>
                <a:latin typeface="Arial"/>
              </a:rPr>
              <a:t>Actions for the development of the Regional Productive System toward industrial and Strategic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cc"/>
                </a:solidFill>
                <a:latin typeface="Arial"/>
              </a:rPr>
              <a:t>A. Industrial research and pre-competitive development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cc"/>
                </a:solidFill>
                <a:latin typeface="Arial"/>
              </a:rPr>
              <a:t>B. Industrial laboratories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447920"/>
            <a:ext cx="4267080" cy="22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00"/>
                </a:solidFill>
                <a:latin typeface="Arial"/>
              </a:rPr>
              <a:t>Measure 2</a:t>
            </a:r>
            <a:br>
              <a:rPr sz="1800"/>
            </a:br>
            <a:r>
              <a:rPr b="1" lang="it-IT" sz="1800" spc="-1" strike="noStrike">
                <a:solidFill>
                  <a:srgbClr val="ff9900"/>
                </a:solidFill>
                <a:latin typeface="Arial"/>
              </a:rPr>
              <a:t>Creation of New Entrepreneurial and Professional Activities with a Highly Technological 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.  Programmes for the creation of new professional and entrepreneurial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cc"/>
                </a:solidFill>
                <a:latin typeface="Arial"/>
              </a:rPr>
              <a:t>B.  Financial support to start up of entrepreneurial initi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3962520"/>
            <a:ext cx="396216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9900"/>
                </a:solidFill>
                <a:latin typeface="Arial"/>
              </a:rPr>
              <a:t>Measure 3</a:t>
            </a:r>
            <a:br>
              <a:rPr sz="1600"/>
            </a:br>
            <a:r>
              <a:rPr b="1" lang="it-IT" sz="1600" spc="-1" strike="noStrike">
                <a:solidFill>
                  <a:srgbClr val="ff9900"/>
                </a:solidFill>
                <a:latin typeface="Arial"/>
              </a:rPr>
              <a:t>Actions for the Transfer of Knowledge and of Technological Competenc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0" y="4038480"/>
            <a:ext cx="44197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9900"/>
                </a:solidFill>
                <a:latin typeface="Arial"/>
              </a:rPr>
              <a:t>Measure 4</a:t>
            </a:r>
            <a:br>
              <a:rPr sz="1600"/>
            </a:br>
            <a:r>
              <a:rPr b="1" lang="it-IT" sz="1600" spc="-1" strike="noStrike">
                <a:solidFill>
                  <a:srgbClr val="ff9900"/>
                </a:solidFill>
                <a:latin typeface="Arial"/>
              </a:rPr>
              <a:t>Netwo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cc"/>
                </a:solidFill>
                <a:latin typeface="Arial"/>
              </a:rPr>
              <a:t>A. Research and Technology Transfer Laborat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cc"/>
                </a:solidFill>
                <a:latin typeface="Arial"/>
              </a:rPr>
              <a:t>B. Innovation Cent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cc"/>
                </a:solidFill>
                <a:latin typeface="Arial"/>
              </a:rPr>
              <a:t>C. Services for the Development of a Research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. Monitoring and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80880" y="1676520"/>
            <a:ext cx="7848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00"/>
                </a:solidFill>
                <a:latin typeface="Arial"/>
              </a:rPr>
              <a:t>Measure 1. Action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00"/>
                </a:solidFill>
                <a:latin typeface="Arial"/>
              </a:rPr>
              <a:t>Industrial Research and Precompetitive Development Pro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29c4c"/>
                </a:solidFill>
                <a:latin typeface="Arial"/>
              </a:rPr>
              <a:t>360 </a:t>
            </a:r>
            <a:r>
              <a:rPr b="0" lang="it-IT" sz="1800" spc="-1" strike="noStrike">
                <a:solidFill>
                  <a:srgbClr val="5f5f5f"/>
                </a:solidFill>
                <a:latin typeface="Arial"/>
              </a:rPr>
              <a:t>proposals presented in the first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29c4c"/>
                </a:solidFill>
                <a:latin typeface="Arial"/>
              </a:rPr>
              <a:t>182 </a:t>
            </a:r>
            <a:r>
              <a:rPr b="0" lang="it-IT" sz="1800" spc="-1" strike="noStrike">
                <a:solidFill>
                  <a:srgbClr val="5f5f5f"/>
                </a:solidFill>
                <a:latin typeface="Arial"/>
              </a:rPr>
              <a:t>projects selected for funding (50,6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29c4c"/>
                </a:solidFill>
                <a:latin typeface="Arial"/>
              </a:rPr>
              <a:t>77 M€ </a:t>
            </a:r>
            <a:r>
              <a:rPr b="0" lang="it-IT" sz="1800" spc="-1" strike="noStrike">
                <a:solidFill>
                  <a:srgbClr val="5f5f5f"/>
                </a:solidFill>
                <a:latin typeface="Arial"/>
              </a:rPr>
              <a:t>the total 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29c4c"/>
                </a:solidFill>
                <a:latin typeface="Arial"/>
              </a:rPr>
              <a:t>30,3 M€ </a:t>
            </a:r>
            <a:r>
              <a:rPr b="0" lang="it-IT" sz="1800" spc="-1" strike="noStrike">
                <a:solidFill>
                  <a:srgbClr val="5f5f5f"/>
                </a:solidFill>
                <a:latin typeface="Arial"/>
              </a:rPr>
              <a:t>the regionals funds (39,4%)</a:t>
            </a:r>
            <a:r>
              <a:rPr b="0" lang="it-IT" sz="20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29c4c"/>
                </a:solidFill>
                <a:latin typeface="Arial"/>
              </a:rPr>
              <a:t>869</a:t>
            </a:r>
            <a:r>
              <a:rPr b="0" lang="it-IT" sz="2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5f5f5f"/>
                </a:solidFill>
                <a:latin typeface="Arial"/>
              </a:rPr>
              <a:t>the proposals</a:t>
            </a:r>
            <a:r>
              <a:rPr b="0" lang="it-IT" sz="2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5f5f5f"/>
                </a:solidFill>
                <a:latin typeface="Arial"/>
              </a:rPr>
              <a:t> submitted in the second call, almost 600 are being evalu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INDUSTRIAL RESEAR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INDUSTRIAL RESEAR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00"/>
                </a:solidFill>
                <a:latin typeface="Arial"/>
              </a:rPr>
              <a:t>Measure 1. Action A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00"/>
                </a:solidFill>
                <a:latin typeface="Arial"/>
              </a:rPr>
              <a:t>Industrial Research and Precompetitive Development Project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29c4c"/>
                </a:solidFill>
                <a:latin typeface="Arial"/>
              </a:rPr>
              <a:t>153 proposals (84%)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require the employment of new research staff for a total of 300 new employees;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29c4c"/>
                </a:solidFill>
                <a:latin typeface="Arial"/>
              </a:rPr>
              <a:t>+4%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the estimated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 increase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in R&amp;D staff;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29c4c"/>
                </a:solidFill>
                <a:latin typeface="Arial"/>
              </a:rPr>
              <a:t>159</a:t>
            </a:r>
            <a:r>
              <a:rPr b="1" lang="en-GB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rojects (87%) are expected to result in the 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establishment of long-term research projects in association universities and research centres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for a total of 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234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contracts;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29c4c"/>
                </a:solidFill>
                <a:latin typeface="Arial"/>
              </a:rPr>
              <a:t>115</a:t>
            </a:r>
            <a:r>
              <a:rPr b="1" lang="en-GB" sz="2400" spc="-1" strike="noStrike">
                <a:solidFill>
                  <a:srgbClr val="029c4c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rojects (63%) are expected to involve agreements with 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laboratories certified by MIUR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29c4c"/>
                </a:solidFill>
                <a:latin typeface="Arial"/>
              </a:rPr>
              <a:t>120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rojects (66%) are expected to result in the 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deposition of patents. 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29c4c"/>
                </a:solidFill>
                <a:latin typeface="Arial"/>
              </a:rPr>
              <a:t>11%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the estimated</a:t>
            </a: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 increase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in R&amp;D expenditure by the Regional Authority.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LLABORATION WITH UNIVERS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80880" y="1981080"/>
          <a:ext cx="8458200" cy="426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45820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971800" y="1523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4 CONTR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THEMES OF INDUSTRIAL RESEAR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1452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533520" y="1523880"/>
          <a:ext cx="8076960" cy="450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807696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INDUSTRIAL RESEARCH LABORATOR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00"/>
                </a:solidFill>
                <a:latin typeface="Arial"/>
              </a:rPr>
              <a:t>Measure 1. Action B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00"/>
                </a:solidFill>
                <a:latin typeface="Arial"/>
              </a:rPr>
              <a:t>Industrial Laboratories development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29c4c"/>
                </a:solidFill>
                <a:latin typeface="Arial"/>
              </a:rPr>
              <a:t>22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 projects submitted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29c4c"/>
                </a:solidFill>
                <a:latin typeface="Arial"/>
              </a:rPr>
              <a:t>12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laboratories funded, of which 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8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 are new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29c4c"/>
                </a:solidFill>
                <a:latin typeface="Arial"/>
              </a:rPr>
              <a:t>35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 small and medium enterprises involved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29c4c"/>
                </a:solidFill>
                <a:latin typeface="Arial"/>
              </a:rPr>
              <a:t>6.6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29c4c"/>
                </a:solidFill>
                <a:latin typeface="Arial"/>
              </a:rPr>
              <a:t>M€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 total value of projects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29c4c"/>
                </a:solidFill>
                <a:latin typeface="Arial"/>
              </a:rPr>
              <a:t>3 M€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 contribution made by the Regional Authority (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39.4%</a:t>
            </a:r>
            <a:r>
              <a:rPr b="1" lang="en-GB" sz="2400" spc="-1" strike="noStrike">
                <a:solidFill>
                  <a:srgbClr val="5f5f5f"/>
                </a:solidFill>
                <a:latin typeface="Arial"/>
              </a:rPr>
              <a:t> the average percentage of co-financing)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OPIC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 origin of the Regional Law for Research, Innovation and T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 regional system of research and innovation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 implementation of the Regional Programm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dustry – science relationship at the core of the programme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 results of the first year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PIN-OFF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00"/>
                </a:solidFill>
                <a:latin typeface="Arial"/>
              </a:rPr>
              <a:t>Measure 2. Action A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00"/>
                </a:solidFill>
                <a:latin typeface="Arial"/>
              </a:rPr>
              <a:t>Financial support to start up of entrepreneurial initiativ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29c4c"/>
                </a:solidFill>
                <a:latin typeface="Arial"/>
              </a:rPr>
              <a:t>39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projects submitted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29c4c"/>
                </a:solidFill>
                <a:latin typeface="Arial"/>
              </a:rPr>
              <a:t>26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approved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29c4c"/>
                </a:solidFill>
                <a:latin typeface="Arial"/>
              </a:rPr>
              <a:t>1.77 M€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 investments made available for funding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29c4c"/>
                </a:solidFill>
                <a:latin typeface="Arial"/>
              </a:rPr>
              <a:t>1 M€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 the contribution made by the Regional Authority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29c4c"/>
                </a:solidFill>
                <a:latin typeface="Arial"/>
              </a:rPr>
              <a:t>4</a:t>
            </a:r>
            <a:r>
              <a:rPr b="0" lang="en-GB" sz="16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enterprises funded based on patents deposited following research activitie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29c4c"/>
                </a:solidFill>
                <a:latin typeface="Arial"/>
              </a:rPr>
              <a:t>4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enterprises funded based on the use of unpatented research result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29c4c"/>
                </a:solidFill>
                <a:latin typeface="Arial"/>
              </a:rPr>
              <a:t>23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enterprises funded based on competences and knowledge acquired during research activities carried out in Universities or research institutes.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In </a:t>
            </a:r>
            <a:r>
              <a:rPr b="1" lang="en-GB" sz="2000" spc="-1" strike="noStrike">
                <a:solidFill>
                  <a:srgbClr val="029c4c"/>
                </a:solidFill>
                <a:latin typeface="Arial"/>
              </a:rPr>
              <a:t>3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funded businesses institutional investors or universities have an interest in company capital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29c4c"/>
                </a:solidFill>
                <a:latin typeface="Arial"/>
              </a:rPr>
              <a:t>1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 funded businesses have documented agreements with institutional investors or universities that will have future interests in company capital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28600" y="1523880"/>
            <a:ext cx="8610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8440" indent="-181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00"/>
                </a:solidFill>
                <a:latin typeface="Arial"/>
              </a:rPr>
              <a:t>Measure 4. Action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181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00"/>
                </a:solidFill>
                <a:latin typeface="Arial"/>
              </a:rPr>
              <a:t>Research and technology transfer labora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181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new model: the NET-L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181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f5f5f"/>
                </a:solidFill>
                <a:latin typeface="Arial"/>
              </a:rPr>
              <a:t>Newly founded units integrating different universities and research bodies,  participated or supported by enterprises and other public  organis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181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Higher added value compared to the mere sum of efforts of each individual net-lab me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181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f5f5f"/>
                </a:solidFill>
                <a:latin typeface="Arial"/>
              </a:rPr>
              <a:t>Aimed at developing research-based activities dealing with the industrial field, and socio-economic themes  and based on a specific activity 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181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f5f5f"/>
                </a:solidFill>
                <a:latin typeface="Arial"/>
              </a:rPr>
              <a:t>Aimed at increasing the knowledge-sharing for industrial and productive activities and for the economy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68440" indent="-181080" algn="just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f5f5f"/>
                </a:solidFill>
                <a:latin typeface="Arial"/>
              </a:rPr>
              <a:t>Working with researchers, whose expertise is based on these new research-based activities and on technology transfer. They are working with experts from enterpri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THE LABORATORIES FOR INDUSTRIAL RESEARCH AND TECHNOLOGY TRANSF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0880" y="1523880"/>
            <a:ext cx="81536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151200" indent="-151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00"/>
                </a:solidFill>
                <a:latin typeface="Arial"/>
              </a:rPr>
              <a:t>Measure 4. Action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1200" indent="-1512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00"/>
                </a:solidFill>
                <a:latin typeface="Arial"/>
              </a:rPr>
              <a:t>Innovation Cen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1200" indent="-1512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1200" indent="-15120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Arial"/>
              </a:rPr>
              <a:t>Promoted and established by Universities, Research bodies, Local bodies, or bodies experienced in the field of services to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1200" indent="-15120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1200" indent="-15120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Arial"/>
              </a:rPr>
              <a:t>Aimed at developing activities of technology tranfer, such as updating initiatives and professional training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1200" indent="-15120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51200" indent="-15120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Arial"/>
              </a:rPr>
              <a:t>Aimed at improving the knowledge sharing and the transfer of technology competences towards the production system and the terrr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THE INNOVATION CENT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REGIONAL NETWOR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56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8600" y="1523880"/>
            <a:ext cx="8233920" cy="4466880"/>
            <a:chOff x="228600" y="1523880"/>
            <a:chExt cx="8233920" cy="4466880"/>
          </a:xfrm>
        </p:grpSpPr>
        <p:sp>
          <p:nvSpPr>
            <p:cNvPr id="195" name=""/>
            <p:cNvSpPr/>
            <p:nvPr/>
          </p:nvSpPr>
          <p:spPr>
            <a:xfrm>
              <a:off x="228600" y="5682960"/>
              <a:ext cx="3067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42400" y="1523880"/>
              <a:ext cx="7367040" cy="4390200"/>
            </a:xfrm>
            <a:custGeom>
              <a:avLst/>
              <a:gdLst/>
              <a:ahLst/>
              <a:rect l="l" t="t" r="r" b="b"/>
              <a:pathLst>
                <a:path w="4164" h="2623">
                  <a:moveTo>
                    <a:pt x="4126" y="2259"/>
                  </a:moveTo>
                  <a:lnTo>
                    <a:pt x="3992" y="2158"/>
                  </a:lnTo>
                  <a:lnTo>
                    <a:pt x="3934" y="2057"/>
                  </a:lnTo>
                  <a:lnTo>
                    <a:pt x="3854" y="1834"/>
                  </a:lnTo>
                  <a:lnTo>
                    <a:pt x="3816" y="1755"/>
                  </a:lnTo>
                  <a:lnTo>
                    <a:pt x="3720" y="1593"/>
                  </a:lnTo>
                  <a:lnTo>
                    <a:pt x="3661" y="1515"/>
                  </a:lnTo>
                  <a:lnTo>
                    <a:pt x="3661" y="1414"/>
                  </a:lnTo>
                  <a:lnTo>
                    <a:pt x="3741" y="1314"/>
                  </a:lnTo>
                  <a:lnTo>
                    <a:pt x="3720" y="1191"/>
                  </a:lnTo>
                  <a:lnTo>
                    <a:pt x="3720" y="1029"/>
                  </a:lnTo>
                  <a:lnTo>
                    <a:pt x="3699" y="928"/>
                  </a:lnTo>
                  <a:lnTo>
                    <a:pt x="3758" y="850"/>
                  </a:lnTo>
                  <a:lnTo>
                    <a:pt x="3699" y="766"/>
                  </a:lnTo>
                  <a:lnTo>
                    <a:pt x="3603" y="604"/>
                  </a:lnTo>
                  <a:lnTo>
                    <a:pt x="3507" y="587"/>
                  </a:lnTo>
                  <a:lnTo>
                    <a:pt x="3373" y="543"/>
                  </a:lnTo>
                  <a:lnTo>
                    <a:pt x="3298" y="587"/>
                  </a:lnTo>
                  <a:lnTo>
                    <a:pt x="3239" y="643"/>
                  </a:lnTo>
                  <a:lnTo>
                    <a:pt x="3159" y="665"/>
                  </a:lnTo>
                  <a:lnTo>
                    <a:pt x="3085" y="626"/>
                  </a:lnTo>
                  <a:lnTo>
                    <a:pt x="2834" y="626"/>
                  </a:lnTo>
                  <a:lnTo>
                    <a:pt x="2700" y="565"/>
                  </a:lnTo>
                  <a:lnTo>
                    <a:pt x="2605" y="525"/>
                  </a:lnTo>
                  <a:lnTo>
                    <a:pt x="2525" y="441"/>
                  </a:lnTo>
                  <a:lnTo>
                    <a:pt x="2428" y="503"/>
                  </a:lnTo>
                  <a:lnTo>
                    <a:pt x="2257" y="503"/>
                  </a:lnTo>
                  <a:lnTo>
                    <a:pt x="2060" y="525"/>
                  </a:lnTo>
                  <a:lnTo>
                    <a:pt x="1948" y="503"/>
                  </a:lnTo>
                  <a:lnTo>
                    <a:pt x="1831" y="386"/>
                  </a:lnTo>
                  <a:lnTo>
                    <a:pt x="1756" y="441"/>
                  </a:lnTo>
                  <a:lnTo>
                    <a:pt x="1676" y="464"/>
                  </a:lnTo>
                  <a:lnTo>
                    <a:pt x="1580" y="403"/>
                  </a:lnTo>
                  <a:lnTo>
                    <a:pt x="1543" y="363"/>
                  </a:lnTo>
                  <a:lnTo>
                    <a:pt x="1425" y="386"/>
                  </a:lnTo>
                  <a:lnTo>
                    <a:pt x="1313" y="363"/>
                  </a:lnTo>
                  <a:lnTo>
                    <a:pt x="1216" y="302"/>
                  </a:lnTo>
                  <a:lnTo>
                    <a:pt x="1062" y="179"/>
                  </a:lnTo>
                  <a:lnTo>
                    <a:pt x="924" y="62"/>
                  </a:lnTo>
                  <a:lnTo>
                    <a:pt x="827" y="78"/>
                  </a:lnTo>
                  <a:lnTo>
                    <a:pt x="716" y="123"/>
                  </a:lnTo>
                  <a:lnTo>
                    <a:pt x="619" y="62"/>
                  </a:lnTo>
                  <a:lnTo>
                    <a:pt x="539" y="0"/>
                  </a:lnTo>
                  <a:lnTo>
                    <a:pt x="443" y="0"/>
                  </a:lnTo>
                  <a:lnTo>
                    <a:pt x="368" y="62"/>
                  </a:lnTo>
                  <a:lnTo>
                    <a:pt x="347" y="100"/>
                  </a:lnTo>
                  <a:lnTo>
                    <a:pt x="347" y="285"/>
                  </a:lnTo>
                  <a:lnTo>
                    <a:pt x="309" y="464"/>
                  </a:lnTo>
                  <a:lnTo>
                    <a:pt x="272" y="587"/>
                  </a:lnTo>
                  <a:lnTo>
                    <a:pt x="214" y="665"/>
                  </a:lnTo>
                  <a:lnTo>
                    <a:pt x="155" y="789"/>
                  </a:lnTo>
                  <a:lnTo>
                    <a:pt x="75" y="867"/>
                  </a:lnTo>
                  <a:lnTo>
                    <a:pt x="0" y="928"/>
                  </a:lnTo>
                  <a:lnTo>
                    <a:pt x="96" y="1006"/>
                  </a:lnTo>
                  <a:lnTo>
                    <a:pt x="192" y="1029"/>
                  </a:lnTo>
                  <a:lnTo>
                    <a:pt x="309" y="1051"/>
                  </a:lnTo>
                  <a:lnTo>
                    <a:pt x="288" y="1208"/>
                  </a:lnTo>
                  <a:lnTo>
                    <a:pt x="405" y="1269"/>
                  </a:lnTo>
                  <a:lnTo>
                    <a:pt x="560" y="1330"/>
                  </a:lnTo>
                  <a:lnTo>
                    <a:pt x="597" y="1370"/>
                  </a:lnTo>
                  <a:lnTo>
                    <a:pt x="619" y="1454"/>
                  </a:lnTo>
                  <a:lnTo>
                    <a:pt x="636" y="1616"/>
                  </a:lnTo>
                  <a:lnTo>
                    <a:pt x="673" y="1716"/>
                  </a:lnTo>
                  <a:lnTo>
                    <a:pt x="768" y="1755"/>
                  </a:lnTo>
                  <a:lnTo>
                    <a:pt x="848" y="1733"/>
                  </a:lnTo>
                  <a:lnTo>
                    <a:pt x="870" y="1655"/>
                  </a:lnTo>
                  <a:lnTo>
                    <a:pt x="870" y="1571"/>
                  </a:lnTo>
                  <a:lnTo>
                    <a:pt x="966" y="1493"/>
                  </a:lnTo>
                  <a:lnTo>
                    <a:pt x="1004" y="1454"/>
                  </a:lnTo>
                  <a:lnTo>
                    <a:pt x="1041" y="1515"/>
                  </a:lnTo>
                  <a:lnTo>
                    <a:pt x="1136" y="1593"/>
                  </a:lnTo>
                  <a:lnTo>
                    <a:pt x="1270" y="1633"/>
                  </a:lnTo>
                  <a:lnTo>
                    <a:pt x="1446" y="1671"/>
                  </a:lnTo>
                  <a:lnTo>
                    <a:pt x="1580" y="1694"/>
                  </a:lnTo>
                  <a:lnTo>
                    <a:pt x="1756" y="1772"/>
                  </a:lnTo>
                  <a:lnTo>
                    <a:pt x="1852" y="1856"/>
                  </a:lnTo>
                  <a:lnTo>
                    <a:pt x="1964" y="1979"/>
                  </a:lnTo>
                  <a:lnTo>
                    <a:pt x="2023" y="1996"/>
                  </a:lnTo>
                  <a:lnTo>
                    <a:pt x="2177" y="1996"/>
                  </a:lnTo>
                  <a:lnTo>
                    <a:pt x="2257" y="1996"/>
                  </a:lnTo>
                  <a:lnTo>
                    <a:pt x="2370" y="2097"/>
                  </a:lnTo>
                  <a:lnTo>
                    <a:pt x="2466" y="2119"/>
                  </a:lnTo>
                  <a:lnTo>
                    <a:pt x="2583" y="2097"/>
                  </a:lnTo>
                  <a:lnTo>
                    <a:pt x="2658" y="2119"/>
                  </a:lnTo>
                  <a:lnTo>
                    <a:pt x="2717" y="2119"/>
                  </a:lnTo>
                  <a:lnTo>
                    <a:pt x="2850" y="2119"/>
                  </a:lnTo>
                  <a:lnTo>
                    <a:pt x="2893" y="2079"/>
                  </a:lnTo>
                  <a:lnTo>
                    <a:pt x="2988" y="2158"/>
                  </a:lnTo>
                  <a:lnTo>
                    <a:pt x="2988" y="2236"/>
                  </a:lnTo>
                  <a:lnTo>
                    <a:pt x="3005" y="2360"/>
                  </a:lnTo>
                  <a:lnTo>
                    <a:pt x="3064" y="2398"/>
                  </a:lnTo>
                  <a:lnTo>
                    <a:pt x="3197" y="2421"/>
                  </a:lnTo>
                  <a:lnTo>
                    <a:pt x="3277" y="2499"/>
                  </a:lnTo>
                  <a:lnTo>
                    <a:pt x="3336" y="2560"/>
                  </a:lnTo>
                  <a:lnTo>
                    <a:pt x="3395" y="2622"/>
                  </a:lnTo>
                  <a:lnTo>
                    <a:pt x="3469" y="2560"/>
                  </a:lnTo>
                  <a:lnTo>
                    <a:pt x="3490" y="2460"/>
                  </a:lnTo>
                  <a:lnTo>
                    <a:pt x="3518" y="2382"/>
                  </a:lnTo>
                  <a:lnTo>
                    <a:pt x="3613" y="2410"/>
                  </a:lnTo>
                  <a:lnTo>
                    <a:pt x="3720" y="2382"/>
                  </a:lnTo>
                  <a:lnTo>
                    <a:pt x="3795" y="2382"/>
                  </a:lnTo>
                  <a:lnTo>
                    <a:pt x="3912" y="2460"/>
                  </a:lnTo>
                  <a:lnTo>
                    <a:pt x="3992" y="2522"/>
                  </a:lnTo>
                  <a:lnTo>
                    <a:pt x="4046" y="2522"/>
                  </a:lnTo>
                  <a:lnTo>
                    <a:pt x="4126" y="2443"/>
                  </a:lnTo>
                  <a:lnTo>
                    <a:pt x="4163" y="2382"/>
                  </a:lnTo>
                  <a:lnTo>
                    <a:pt x="4126" y="2259"/>
                  </a:lnTo>
                </a:path>
              </a:pathLst>
            </a:custGeom>
            <a:solidFill>
              <a:srgbClr val="ccffcc"/>
            </a:solidFill>
            <a:ln cap="rnd" w="25560">
              <a:solidFill>
                <a:srgbClr val="808080"/>
              </a:solidFill>
              <a:round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97400" y="2045160"/>
              <a:ext cx="230040" cy="230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89080" y="2335680"/>
              <a:ext cx="1381320" cy="7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808080"/>
                  </a:solidFill>
                  <a:latin typeface="Verdana"/>
                  <a:ea typeface="Times New Roman"/>
                </a:rPr>
                <a:t>PIACENZA</a:t>
              </a:r>
              <a:br>
                <a:rPr sz="1000"/>
              </a:br>
              <a:r>
                <a:rPr b="1" lang="it-IT" sz="1200" spc="-1" strike="noStrike">
                  <a:solidFill>
                    <a:srgbClr val="c70f0f"/>
                  </a:solidFill>
                  <a:latin typeface="Verdana"/>
                  <a:ea typeface="Times New Roman"/>
                </a:rPr>
                <a:t>2 laboratories  2 centres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77080" y="2602080"/>
              <a:ext cx="230040" cy="230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86240" y="2910240"/>
              <a:ext cx="1381320" cy="9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808080"/>
                  </a:solidFill>
                  <a:latin typeface="Verdana"/>
                  <a:ea typeface="Times New Roman"/>
                </a:rPr>
                <a:t>PARMA</a:t>
              </a:r>
              <a:br>
                <a:rPr sz="1000"/>
              </a:br>
              <a:r>
                <a:rPr b="1" lang="it-IT" sz="1200" spc="-1" strike="noStrike">
                  <a:solidFill>
                    <a:srgbClr val="c70f0f"/>
                  </a:solidFill>
                  <a:latin typeface="Verdana"/>
                  <a:ea typeface="Times New Roman"/>
                </a:rPr>
                <a:t>2 laboratories 2 centres              1 park</a:t>
              </a:r>
              <a:br>
                <a:rPr sz="1200"/>
              </a:b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12120" y="3279240"/>
              <a:ext cx="230040" cy="230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58400" y="2335680"/>
              <a:ext cx="153468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808080"/>
                  </a:solidFill>
                  <a:latin typeface="Verdana"/>
                  <a:ea typeface="Times New Roman"/>
                </a:rPr>
                <a:t>REGGIO EMILIA</a:t>
              </a:r>
              <a:br>
                <a:rPr sz="1000"/>
              </a:br>
              <a:r>
                <a:rPr b="1" lang="it-IT" sz="1200" spc="-1" strike="noStrike">
                  <a:solidFill>
                    <a:srgbClr val="c70f0f"/>
                  </a:solidFill>
                  <a:latin typeface="Verdana"/>
                  <a:ea typeface="Times New Roman"/>
                </a:rPr>
                <a:t>2 laboratories </a:t>
              </a:r>
              <a:br>
                <a:rPr sz="1200"/>
              </a:br>
              <a:r>
                <a:rPr b="1" lang="it-IT" sz="1200" spc="-1" strike="noStrike">
                  <a:solidFill>
                    <a:srgbClr val="c70f0f"/>
                  </a:solidFill>
                  <a:latin typeface="Verdana"/>
                  <a:ea typeface="Times New Roman"/>
                </a:rPr>
                <a:t>2 cent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51680" y="3141360"/>
              <a:ext cx="230040" cy="230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02600" y="3526200"/>
              <a:ext cx="230040" cy="230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2360" y="3646800"/>
              <a:ext cx="1535040" cy="100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808080"/>
                  </a:solidFill>
                  <a:latin typeface="Verdana"/>
                  <a:ea typeface="Times New Roman"/>
                </a:rPr>
                <a:t>BOLOGNA</a:t>
              </a:r>
              <a:br>
                <a:rPr sz="1000"/>
              </a:br>
              <a:r>
                <a:rPr b="1" lang="it-IT" sz="1200" spc="-1" strike="noStrike">
                  <a:solidFill>
                    <a:srgbClr val="c70f0f"/>
                  </a:solidFill>
                  <a:latin typeface="Verdana"/>
                  <a:ea typeface="Times New Roman"/>
                </a:rPr>
                <a:t>9 laboratories</a:t>
              </a:r>
              <a:br>
                <a:rPr sz="1200"/>
              </a:br>
              <a:r>
                <a:rPr b="1" lang="it-IT" sz="1200" spc="-1" strike="noStrike">
                  <a:solidFill>
                    <a:srgbClr val="c70f0f"/>
                  </a:solidFill>
                  <a:latin typeface="Verdana"/>
                  <a:ea typeface="Times New Roman"/>
                </a:rPr>
                <a:t>11 centres              2 par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53880" y="2679120"/>
              <a:ext cx="230040" cy="230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70120" y="2910240"/>
              <a:ext cx="14580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808080"/>
                  </a:solidFill>
                  <a:latin typeface="Verdana"/>
                  <a:ea typeface="Times New Roman"/>
                </a:rPr>
                <a:t>FERRARA</a:t>
              </a:r>
              <a:br>
                <a:rPr sz="1000"/>
              </a:br>
              <a:r>
                <a:rPr b="1" lang="it-IT" sz="1200" spc="-1" strike="noStrike">
                  <a:solidFill>
                    <a:srgbClr val="c70f0f"/>
                  </a:solidFill>
                  <a:latin typeface="Verdana"/>
                  <a:ea typeface="Times New Roman"/>
                </a:rPr>
                <a:t>4 laboratories 1 pa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58520" y="3680280"/>
              <a:ext cx="230040" cy="230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51440" y="3063960"/>
              <a:ext cx="16884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808080"/>
                  </a:solidFill>
                  <a:latin typeface="Verdana"/>
                  <a:ea typeface="Times New Roman"/>
                </a:rPr>
                <a:t>RAVENNA</a:t>
              </a:r>
              <a:br>
                <a:rPr sz="1000"/>
              </a:br>
              <a:r>
                <a:rPr b="1" lang="en-US" sz="1200" spc="-1" strike="noStrike">
                  <a:solidFill>
                    <a:srgbClr val="c70f0f"/>
                  </a:solidFill>
                  <a:latin typeface="Verdana"/>
                  <a:ea typeface="Times New Roman"/>
                </a:rPr>
                <a:t>1 cent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93440" y="3680280"/>
              <a:ext cx="230040" cy="230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33000" y="3911400"/>
              <a:ext cx="153468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808080"/>
                  </a:solidFill>
                  <a:latin typeface="Verdana"/>
                  <a:ea typeface="Times New Roman"/>
                </a:rPr>
                <a:t>Imola</a:t>
              </a:r>
              <a:br>
                <a:rPr sz="1000"/>
              </a:br>
              <a:r>
                <a:rPr b="1" lang="it-IT" sz="1200" spc="-1" strike="noStrike">
                  <a:solidFill>
                    <a:srgbClr val="c70f0f"/>
                  </a:solidFill>
                  <a:latin typeface="Verdana"/>
                  <a:ea typeface="Times New Roman"/>
                </a:rPr>
                <a:t>1 laboratory    1 cent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91000" y="4296600"/>
              <a:ext cx="230040" cy="230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28120" y="4681800"/>
              <a:ext cx="230040" cy="230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749000" y="5297760"/>
              <a:ext cx="230040" cy="230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66400" y="4065480"/>
              <a:ext cx="79956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808080"/>
                  </a:solidFill>
                  <a:latin typeface="Verdana"/>
                  <a:ea typeface="Times New Roman"/>
                </a:rPr>
                <a:t>Faenz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c70f0f"/>
                  </a:solidFill>
                  <a:latin typeface="Verdana"/>
                  <a:ea typeface="Times New Roman"/>
                </a:rPr>
                <a:t>1 cent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c70f0f"/>
                  </a:solidFill>
                  <a:latin typeface="Verdana"/>
                  <a:ea typeface="Times New Roman"/>
                </a:rPr>
                <a:t>1 pa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50480" y="4758840"/>
              <a:ext cx="1112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808080"/>
                  </a:solidFill>
                  <a:latin typeface="Verdana"/>
                  <a:ea typeface="Times New Roman"/>
                </a:rPr>
                <a:t>RIMINI</a:t>
              </a:r>
              <a:br>
                <a:rPr sz="1000"/>
              </a:br>
              <a:r>
                <a:rPr b="1" lang="it-IT" sz="1200" spc="-1" strike="noStrike">
                  <a:solidFill>
                    <a:srgbClr val="c70f0f"/>
                  </a:solidFill>
                  <a:latin typeface="Verdana"/>
                  <a:ea typeface="Times New Roman"/>
                </a:rPr>
                <a:t>1 laborat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14200" y="4835520"/>
              <a:ext cx="11120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808080"/>
                  </a:solidFill>
                  <a:latin typeface="Verdana"/>
                  <a:ea typeface="Times New Roman"/>
                </a:rPr>
                <a:t>FORLI’-CESENA</a:t>
              </a:r>
              <a:br>
                <a:rPr sz="1000"/>
              </a:br>
              <a:r>
                <a:rPr b="1" lang="it-IT" sz="1200" spc="-1" strike="noStrike">
                  <a:solidFill>
                    <a:srgbClr val="c70f0f"/>
                  </a:solidFill>
                  <a:latin typeface="Verdana"/>
                  <a:ea typeface="Times New Roman"/>
                </a:rPr>
                <a:t>2 laborat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c70f0f"/>
                  </a:solidFill>
                  <a:latin typeface="Verdana"/>
                  <a:ea typeface="Times New Roman"/>
                </a:rPr>
                <a:t>2 cent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91040" y="2627640"/>
              <a:ext cx="153468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808080"/>
                  </a:solidFill>
                  <a:latin typeface="Verdana"/>
                  <a:ea typeface="Times New Roman"/>
                </a:rPr>
                <a:t>MODENA </a:t>
              </a:r>
              <a:br>
                <a:rPr sz="1000"/>
              </a:br>
              <a:r>
                <a:rPr b="1" lang="it-IT" sz="1200" spc="-1" strike="noStrike">
                  <a:solidFill>
                    <a:srgbClr val="c70f0f"/>
                  </a:solidFill>
                  <a:latin typeface="Verdana"/>
                  <a:ea typeface="Times New Roman"/>
                </a:rPr>
                <a:t>2 laboratories </a:t>
              </a:r>
              <a:br>
                <a:rPr sz="1200"/>
              </a:br>
              <a:r>
                <a:rPr b="1" lang="it-IT" sz="1200" spc="-1" strike="noStrike">
                  <a:solidFill>
                    <a:srgbClr val="c70f0f"/>
                  </a:solidFill>
                  <a:latin typeface="Verdana"/>
                  <a:ea typeface="Times New Roman"/>
                </a:rPr>
                <a:t>2 centres                 1 pa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9" name="logo_aster" descr=""/>
          <p:cNvPicPr/>
          <p:nvPr/>
        </p:nvPicPr>
        <p:blipFill>
          <a:blip r:embed="rId1"/>
          <a:stretch/>
        </p:blipFill>
        <p:spPr>
          <a:xfrm>
            <a:off x="457200" y="4724280"/>
            <a:ext cx="2895480" cy="615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57200" y="541008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ordination and implementation of th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3352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29c4c"/>
                </a:solidFill>
                <a:latin typeface="Arial"/>
              </a:rPr>
              <a:t>182</a:t>
            </a:r>
            <a:r>
              <a:rPr b="1" lang="it-IT" sz="2400" spc="-1" strike="noStrike">
                <a:solidFill>
                  <a:srgbClr val="029c4c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5f5f5f"/>
                </a:solidFill>
                <a:latin typeface="Arial"/>
              </a:rPr>
              <a:t>industrial research projects funded in the first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f5f5f"/>
                </a:solidFill>
                <a:latin typeface="Arial"/>
              </a:rPr>
              <a:t>Almost </a:t>
            </a:r>
            <a:r>
              <a:rPr b="1" lang="it-IT" sz="2800" spc="-1" strike="noStrike">
                <a:solidFill>
                  <a:srgbClr val="029c4c"/>
                </a:solidFill>
                <a:latin typeface="Arial"/>
              </a:rPr>
              <a:t>600</a:t>
            </a:r>
            <a:r>
              <a:rPr b="1" lang="it-IT" sz="1800" spc="-1" strike="noStrike">
                <a:solidFill>
                  <a:srgbClr val="5f5f5f"/>
                </a:solidFill>
                <a:latin typeface="Arial"/>
              </a:rPr>
              <a:t> are being evaluated in the second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29c4c"/>
                </a:solidFill>
                <a:latin typeface="Arial"/>
              </a:rPr>
              <a:t>12</a:t>
            </a:r>
            <a:r>
              <a:rPr b="1" lang="it-IT" sz="1600" spc="-1" strike="noStrike">
                <a:solidFill>
                  <a:srgbClr val="029c4c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5f5f5f"/>
                </a:solidFill>
                <a:latin typeface="Arial"/>
              </a:rPr>
              <a:t>industrial laboratories for SMEs fu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29c4c"/>
                </a:solidFill>
                <a:latin typeface="Arial"/>
              </a:rPr>
              <a:t>26</a:t>
            </a:r>
            <a:r>
              <a:rPr b="1" lang="it-IT" sz="1600" spc="-1" strike="noStrike">
                <a:solidFill>
                  <a:srgbClr val="029c4c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5f5f5f"/>
                </a:solidFill>
                <a:latin typeface="Arial"/>
              </a:rPr>
              <a:t>new enterprises based on research acitivites (spin-off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29c4c"/>
                </a:solidFill>
                <a:latin typeface="Arial"/>
              </a:rPr>
              <a:t>25</a:t>
            </a:r>
            <a:r>
              <a:rPr b="1" lang="it-IT" sz="1600" spc="-1" strike="noStrike">
                <a:solidFill>
                  <a:srgbClr val="029c4c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5f5f5f"/>
                </a:solidFill>
                <a:latin typeface="Arial"/>
              </a:rPr>
              <a:t>Research and technology transfer laborat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29c4c"/>
                </a:solidFill>
                <a:latin typeface="Arial"/>
              </a:rPr>
              <a:t>24</a:t>
            </a:r>
            <a:r>
              <a:rPr b="1" lang="it-IT" sz="1600" spc="-1" strike="noStrike">
                <a:solidFill>
                  <a:srgbClr val="029c4c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5f5f5f"/>
                </a:solidFill>
                <a:latin typeface="Arial"/>
              </a:rPr>
              <a:t>Innovation Cen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29c4c"/>
                </a:solidFill>
                <a:latin typeface="Arial"/>
              </a:rPr>
              <a:t>6</a:t>
            </a:r>
            <a:r>
              <a:rPr b="1" lang="it-IT" sz="1600" spc="-1" strike="noStrike">
                <a:solidFill>
                  <a:srgbClr val="029c4c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5f5f5f"/>
                </a:solidFill>
                <a:latin typeface="Arial"/>
              </a:rPr>
              <a:t>Innovation Pa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5f5f5f"/>
                </a:solidFill>
                <a:latin typeface="Arial"/>
              </a:rPr>
              <a:t>Almost </a:t>
            </a:r>
            <a:r>
              <a:rPr b="1" lang="it-IT" sz="2800" spc="-1" strike="noStrike">
                <a:solidFill>
                  <a:srgbClr val="029c4c"/>
                </a:solidFill>
                <a:latin typeface="Arial"/>
              </a:rPr>
              <a:t>1500</a:t>
            </a:r>
            <a:r>
              <a:rPr b="1" lang="it-IT" sz="16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5f5f5f"/>
                </a:solidFill>
                <a:latin typeface="Arial"/>
              </a:rPr>
              <a:t>new researchers invol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FIRST RESULTS -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295280" y="1600200"/>
            <a:ext cx="1828800" cy="1447920"/>
          </a:xfrm>
          <a:prstGeom prst="flowChartMagneticDisk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Arial"/>
              </a:rPr>
              <a:t>on-line sub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1523880"/>
            <a:ext cx="2590920" cy="3353040"/>
          </a:xfrm>
          <a:prstGeom prst="flowChartAlternateProcess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38880" y="1447920"/>
            <a:ext cx="1524240" cy="2133360"/>
          </a:xfrm>
          <a:prstGeom prst="flowChartAlternateProcess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Arial"/>
              </a:rPr>
              <a:t>Evaluation exp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9880" y="1981080"/>
            <a:ext cx="2286000" cy="11430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5f5f5f"/>
                </a:solidFill>
                <a:latin typeface="Arial"/>
              </a:rPr>
              <a:t>Proposal-evaluation expert matching and external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15238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STEERING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6720" y="1266840"/>
            <a:ext cx="174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PROPOS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rot="10800000">
            <a:off x="455760" y="1523880"/>
            <a:ext cx="685800" cy="1447920"/>
          </a:xfrm>
          <a:custGeom>
            <a:avLst/>
            <a:gdLst>
              <a:gd name="textAreaLeft" fmla="*/ -360 w 685800"/>
              <a:gd name="textAreaRight" fmla="*/ 685800 w 6858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750" stAng="10800000" swAng="5400000"/>
                <a:lnTo>
                  <a:pt x="15950" y="4410"/>
                </a:lnTo>
                <a:lnTo>
                  <a:pt x="15950" y="0"/>
                </a:lnTo>
                <a:lnTo>
                  <a:pt x="21600" y="6079"/>
                </a:lnTo>
                <a:lnTo>
                  <a:pt x="15950" y="12158"/>
                </a:lnTo>
                <a:lnTo>
                  <a:pt x="15950" y="7748"/>
                </a:lnTo>
                <a:lnTo>
                  <a:pt x="12427" y="7748"/>
                </a:lnTo>
                <a:arcTo wR="9089" hR="4412" stAng="16200000" swAng="-5400000"/>
                <a:lnTo>
                  <a:pt x="3338" y="21600"/>
                </a:lnTo>
                <a:close/>
              </a:path>
            </a:pathLst>
          </a:custGeom>
          <a:solidFill>
            <a:srgbClr val="029c4c"/>
          </a:solidFill>
          <a:ln w="9360">
            <a:solidFill>
              <a:srgbClr val="029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3124080"/>
            <a:ext cx="2286000" cy="9144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5f5f5f"/>
                </a:solidFill>
                <a:latin typeface="Arial"/>
              </a:rPr>
              <a:t>Evaluation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71800" y="19051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29c4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324480" y="2133720"/>
            <a:ext cx="914400" cy="20304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029c4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6248520" y="251388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029c4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44520" y="3467160"/>
            <a:ext cx="1676520" cy="1447920"/>
          </a:xfrm>
          <a:prstGeom prst="flowChartAlternateProcess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Arial"/>
              </a:rPr>
              <a:t>Eligibility ch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4080" y="34830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EG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MILIA-ROMAG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71800" y="3352680"/>
            <a:ext cx="609480" cy="622440"/>
          </a:xfrm>
          <a:prstGeom prst="rightArrow">
            <a:avLst>
              <a:gd name="adj1" fmla="val 46870"/>
              <a:gd name="adj2" fmla="val 31250"/>
            </a:avLst>
          </a:prstGeom>
          <a:solidFill>
            <a:srgbClr val="029c4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79560" y="312408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29c4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67080" y="5334120"/>
            <a:ext cx="1397160" cy="9903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f5f5f"/>
                </a:solidFill>
                <a:latin typeface="Arial"/>
              </a:rPr>
              <a:t>Propos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f5f5f"/>
                </a:solidFill>
                <a:latin typeface="Arial"/>
              </a:rPr>
              <a:t>Sele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f5f5f"/>
                </a:solidFill>
                <a:latin typeface="Arial"/>
              </a:rPr>
              <a:t>for fu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49528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029c4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62920" y="3581280"/>
            <a:ext cx="1600200" cy="1447920"/>
          </a:xfrm>
          <a:prstGeom prst="flowChartMagneticDisk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00800" y="3809880"/>
            <a:ext cx="914400" cy="203400"/>
          </a:xfrm>
          <a:prstGeom prst="rightArrow">
            <a:avLst>
              <a:gd name="adj1" fmla="val 50000"/>
              <a:gd name="adj2" fmla="val 112389"/>
            </a:avLst>
          </a:prstGeom>
          <a:solidFill>
            <a:srgbClr val="029c4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6324480" y="4190400"/>
            <a:ext cx="914400" cy="228600"/>
          </a:xfrm>
          <a:prstGeom prst="rightArrow">
            <a:avLst>
              <a:gd name="adj1" fmla="val 50000"/>
              <a:gd name="adj2" fmla="val 100000"/>
            </a:avLst>
          </a:prstGeom>
          <a:solidFill>
            <a:srgbClr val="029c4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9880" y="4038480"/>
            <a:ext cx="2286000" cy="68580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THE PROCES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74800" y="424008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5f5f5f"/>
                </a:solidFill>
                <a:latin typeface="Arial"/>
              </a:rPr>
              <a:t>Nego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467840" y="4419720"/>
            <a:ext cx="136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Arial"/>
              </a:rPr>
              <a:t>Mod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0" y="0"/>
            <a:ext cx="9144000" cy="1828440"/>
            <a:chOff x="0" y="0"/>
            <a:chExt cx="9144000" cy="1828440"/>
          </a:xfrm>
        </p:grpSpPr>
        <p:sp>
          <p:nvSpPr>
            <p:cNvPr id="249" name=""/>
            <p:cNvSpPr/>
            <p:nvPr/>
          </p:nvSpPr>
          <p:spPr>
            <a:xfrm>
              <a:off x="0" y="0"/>
              <a:ext cx="914400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04920" y="304920"/>
              <a:ext cx="0" cy="137160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8839080" y="304560"/>
              <a:ext cx="0" cy="152388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4920" y="304920"/>
              <a:ext cx="8534160" cy="0"/>
            </a:xfrm>
            <a:prstGeom prst="line">
              <a:avLst/>
            </a:prstGeom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5f5f5f"/>
                </a:solidFill>
                <a:latin typeface="Arial"/>
              </a:rPr>
              <a:t>THANK YOU VERY MUCH FOR YOUR ATTENTION….</a:t>
            </a: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f5f5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gmoretti@regione.emilia-romagna.i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</a:t>
            </a:r>
            <a:r>
              <a:rPr b="0" lang="it-IT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ermesimprese.i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Regional policy for R&amp;D - 1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f5f5f"/>
                </a:solidFill>
                <a:latin typeface="Arial"/>
              </a:rPr>
              <a:t>In the ‘80s almost all of the instruments and financial resources for Research and Innovation Policies were managed by central governmen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f5f5f"/>
                </a:solidFill>
                <a:latin typeface="Arial"/>
              </a:rPr>
              <a:t>Emilia-Romagna adopted 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an explicit policy for the growth of companies through tangible and intangible services</a:t>
            </a:r>
            <a:r>
              <a:rPr b="0" lang="it-IT" sz="2400" spc="-1" strike="noStrike">
                <a:solidFill>
                  <a:srgbClr val="5f5f5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f5f5f"/>
                </a:solidFill>
                <a:latin typeface="Arial"/>
              </a:rPr>
              <a:t>In 1997 starts the process of decentralization from state to regions. Some instruments and resources were transferred to Regional Administrati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e ERDF ob. 2 1996-1998 operational plan includes the concept of Knowledge economy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Regional policy for R&amp;D - 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2001 - MoU among the regional authority, universities and the research centres for the establishment of a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Regional Network for Research and Innova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"/>
              </a:rPr>
              <a:t>2002 - Regional Law n. 7: the first example in Italy of a structured system of actions for supporting industrial research and innova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"/>
              </a:rPr>
              <a:t>2003 - The PRRIITT is the operational instrument for the implementation of the law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334120" y="2895480"/>
          <a:ext cx="2819160" cy="6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895480"/>
                    <a:ext cx="281916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UNIVERSITI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1752480"/>
            <a:ext cx="5762520" cy="4002120"/>
          </a:xfrm>
          <a:custGeom>
            <a:avLst/>
            <a:gdLst/>
            <a:ahLst/>
            <a:rect l="l" t="t" r="r" b="b"/>
            <a:pathLst>
              <a:path w="4164" h="2623">
                <a:moveTo>
                  <a:pt x="4126" y="2259"/>
                </a:moveTo>
                <a:lnTo>
                  <a:pt x="3992" y="2158"/>
                </a:lnTo>
                <a:lnTo>
                  <a:pt x="3934" y="2057"/>
                </a:lnTo>
                <a:lnTo>
                  <a:pt x="3854" y="1834"/>
                </a:lnTo>
                <a:lnTo>
                  <a:pt x="3816" y="1755"/>
                </a:lnTo>
                <a:lnTo>
                  <a:pt x="3720" y="1593"/>
                </a:lnTo>
                <a:lnTo>
                  <a:pt x="3661" y="1515"/>
                </a:lnTo>
                <a:lnTo>
                  <a:pt x="3661" y="1414"/>
                </a:lnTo>
                <a:lnTo>
                  <a:pt x="3741" y="1314"/>
                </a:lnTo>
                <a:lnTo>
                  <a:pt x="3720" y="1191"/>
                </a:lnTo>
                <a:lnTo>
                  <a:pt x="3720" y="1029"/>
                </a:lnTo>
                <a:lnTo>
                  <a:pt x="3699" y="928"/>
                </a:lnTo>
                <a:lnTo>
                  <a:pt x="3758" y="850"/>
                </a:lnTo>
                <a:lnTo>
                  <a:pt x="3699" y="766"/>
                </a:lnTo>
                <a:lnTo>
                  <a:pt x="3603" y="604"/>
                </a:lnTo>
                <a:lnTo>
                  <a:pt x="3507" y="587"/>
                </a:lnTo>
                <a:lnTo>
                  <a:pt x="3373" y="543"/>
                </a:lnTo>
                <a:lnTo>
                  <a:pt x="3298" y="587"/>
                </a:lnTo>
                <a:lnTo>
                  <a:pt x="3239" y="643"/>
                </a:lnTo>
                <a:lnTo>
                  <a:pt x="3159" y="665"/>
                </a:lnTo>
                <a:lnTo>
                  <a:pt x="3085" y="626"/>
                </a:lnTo>
                <a:lnTo>
                  <a:pt x="2834" y="626"/>
                </a:lnTo>
                <a:lnTo>
                  <a:pt x="2700" y="565"/>
                </a:lnTo>
                <a:lnTo>
                  <a:pt x="2605" y="525"/>
                </a:lnTo>
                <a:lnTo>
                  <a:pt x="2525" y="441"/>
                </a:lnTo>
                <a:lnTo>
                  <a:pt x="2428" y="503"/>
                </a:lnTo>
                <a:lnTo>
                  <a:pt x="2257" y="503"/>
                </a:lnTo>
                <a:lnTo>
                  <a:pt x="2060" y="525"/>
                </a:lnTo>
                <a:lnTo>
                  <a:pt x="1948" y="503"/>
                </a:lnTo>
                <a:lnTo>
                  <a:pt x="1831" y="386"/>
                </a:lnTo>
                <a:lnTo>
                  <a:pt x="1756" y="441"/>
                </a:lnTo>
                <a:lnTo>
                  <a:pt x="1676" y="464"/>
                </a:lnTo>
                <a:lnTo>
                  <a:pt x="1580" y="403"/>
                </a:lnTo>
                <a:lnTo>
                  <a:pt x="1543" y="363"/>
                </a:lnTo>
                <a:lnTo>
                  <a:pt x="1425" y="386"/>
                </a:lnTo>
                <a:lnTo>
                  <a:pt x="1313" y="363"/>
                </a:lnTo>
                <a:lnTo>
                  <a:pt x="1216" y="302"/>
                </a:lnTo>
                <a:lnTo>
                  <a:pt x="1062" y="179"/>
                </a:lnTo>
                <a:lnTo>
                  <a:pt x="924" y="62"/>
                </a:lnTo>
                <a:lnTo>
                  <a:pt x="827" y="78"/>
                </a:lnTo>
                <a:lnTo>
                  <a:pt x="716" y="123"/>
                </a:lnTo>
                <a:lnTo>
                  <a:pt x="619" y="62"/>
                </a:lnTo>
                <a:lnTo>
                  <a:pt x="539" y="0"/>
                </a:lnTo>
                <a:lnTo>
                  <a:pt x="443" y="0"/>
                </a:lnTo>
                <a:lnTo>
                  <a:pt x="368" y="62"/>
                </a:lnTo>
                <a:lnTo>
                  <a:pt x="347" y="100"/>
                </a:lnTo>
                <a:lnTo>
                  <a:pt x="347" y="285"/>
                </a:lnTo>
                <a:lnTo>
                  <a:pt x="309" y="464"/>
                </a:lnTo>
                <a:lnTo>
                  <a:pt x="272" y="587"/>
                </a:lnTo>
                <a:lnTo>
                  <a:pt x="214" y="665"/>
                </a:lnTo>
                <a:lnTo>
                  <a:pt x="155" y="789"/>
                </a:lnTo>
                <a:lnTo>
                  <a:pt x="75" y="867"/>
                </a:lnTo>
                <a:lnTo>
                  <a:pt x="0" y="928"/>
                </a:lnTo>
                <a:lnTo>
                  <a:pt x="96" y="1006"/>
                </a:lnTo>
                <a:lnTo>
                  <a:pt x="192" y="1029"/>
                </a:lnTo>
                <a:lnTo>
                  <a:pt x="309" y="1051"/>
                </a:lnTo>
                <a:lnTo>
                  <a:pt x="288" y="1208"/>
                </a:lnTo>
                <a:lnTo>
                  <a:pt x="405" y="1269"/>
                </a:lnTo>
                <a:lnTo>
                  <a:pt x="560" y="1330"/>
                </a:lnTo>
                <a:lnTo>
                  <a:pt x="597" y="1370"/>
                </a:lnTo>
                <a:lnTo>
                  <a:pt x="619" y="1454"/>
                </a:lnTo>
                <a:lnTo>
                  <a:pt x="636" y="1616"/>
                </a:lnTo>
                <a:lnTo>
                  <a:pt x="673" y="1716"/>
                </a:lnTo>
                <a:lnTo>
                  <a:pt x="768" y="1755"/>
                </a:lnTo>
                <a:lnTo>
                  <a:pt x="848" y="1733"/>
                </a:lnTo>
                <a:lnTo>
                  <a:pt x="870" y="1655"/>
                </a:lnTo>
                <a:lnTo>
                  <a:pt x="870" y="1571"/>
                </a:lnTo>
                <a:lnTo>
                  <a:pt x="966" y="1493"/>
                </a:lnTo>
                <a:lnTo>
                  <a:pt x="1004" y="1454"/>
                </a:lnTo>
                <a:lnTo>
                  <a:pt x="1041" y="1515"/>
                </a:lnTo>
                <a:lnTo>
                  <a:pt x="1136" y="1593"/>
                </a:lnTo>
                <a:lnTo>
                  <a:pt x="1270" y="1633"/>
                </a:lnTo>
                <a:lnTo>
                  <a:pt x="1446" y="1671"/>
                </a:lnTo>
                <a:lnTo>
                  <a:pt x="1580" y="1694"/>
                </a:lnTo>
                <a:lnTo>
                  <a:pt x="1756" y="1772"/>
                </a:lnTo>
                <a:lnTo>
                  <a:pt x="1852" y="1856"/>
                </a:lnTo>
                <a:lnTo>
                  <a:pt x="1964" y="1979"/>
                </a:lnTo>
                <a:lnTo>
                  <a:pt x="2023" y="1996"/>
                </a:lnTo>
                <a:lnTo>
                  <a:pt x="2177" y="1996"/>
                </a:lnTo>
                <a:lnTo>
                  <a:pt x="2257" y="1996"/>
                </a:lnTo>
                <a:lnTo>
                  <a:pt x="2370" y="2097"/>
                </a:lnTo>
                <a:lnTo>
                  <a:pt x="2466" y="2119"/>
                </a:lnTo>
                <a:lnTo>
                  <a:pt x="2583" y="2097"/>
                </a:lnTo>
                <a:lnTo>
                  <a:pt x="2658" y="2119"/>
                </a:lnTo>
                <a:lnTo>
                  <a:pt x="2717" y="2119"/>
                </a:lnTo>
                <a:lnTo>
                  <a:pt x="2850" y="2119"/>
                </a:lnTo>
                <a:lnTo>
                  <a:pt x="2893" y="2079"/>
                </a:lnTo>
                <a:lnTo>
                  <a:pt x="2988" y="2158"/>
                </a:lnTo>
                <a:lnTo>
                  <a:pt x="2988" y="2236"/>
                </a:lnTo>
                <a:lnTo>
                  <a:pt x="3005" y="2360"/>
                </a:lnTo>
                <a:lnTo>
                  <a:pt x="3064" y="2398"/>
                </a:lnTo>
                <a:lnTo>
                  <a:pt x="3197" y="2421"/>
                </a:lnTo>
                <a:lnTo>
                  <a:pt x="3277" y="2499"/>
                </a:lnTo>
                <a:lnTo>
                  <a:pt x="3336" y="2560"/>
                </a:lnTo>
                <a:lnTo>
                  <a:pt x="3395" y="2622"/>
                </a:lnTo>
                <a:lnTo>
                  <a:pt x="3469" y="2560"/>
                </a:lnTo>
                <a:lnTo>
                  <a:pt x="3490" y="2460"/>
                </a:lnTo>
                <a:lnTo>
                  <a:pt x="3518" y="2382"/>
                </a:lnTo>
                <a:lnTo>
                  <a:pt x="3613" y="2410"/>
                </a:lnTo>
                <a:lnTo>
                  <a:pt x="3720" y="2382"/>
                </a:lnTo>
                <a:lnTo>
                  <a:pt x="3795" y="2382"/>
                </a:lnTo>
                <a:lnTo>
                  <a:pt x="3912" y="2460"/>
                </a:lnTo>
                <a:lnTo>
                  <a:pt x="3992" y="2522"/>
                </a:lnTo>
                <a:lnTo>
                  <a:pt x="4046" y="2522"/>
                </a:lnTo>
                <a:lnTo>
                  <a:pt x="4126" y="2443"/>
                </a:lnTo>
                <a:lnTo>
                  <a:pt x="4163" y="2382"/>
                </a:lnTo>
                <a:lnTo>
                  <a:pt x="4126" y="2259"/>
                </a:lnTo>
              </a:path>
            </a:pathLst>
          </a:custGeom>
          <a:solidFill>
            <a:srgbClr val="618ffd"/>
          </a:solidFill>
          <a:ln cap="rnd" w="25560">
            <a:solidFill>
              <a:srgbClr val="333399"/>
            </a:solidFill>
            <a:round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29960" y="2338560"/>
            <a:ext cx="791640" cy="21816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IACE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44040" y="2895480"/>
            <a:ext cx="588960" cy="21816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40800" y="2895480"/>
            <a:ext cx="1184760" cy="21816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GGIO EMI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36040" y="3429000"/>
            <a:ext cx="735120" cy="21816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21440" y="4267080"/>
            <a:ext cx="518760" cy="21816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L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26000" y="3733920"/>
            <a:ext cx="969840" cy="24876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OLOG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6520" y="3019320"/>
            <a:ext cx="710640" cy="21816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RR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76480" y="3352680"/>
            <a:ext cx="765720" cy="21816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AV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30840" y="4389480"/>
            <a:ext cx="68400" cy="73080"/>
          </a:xfrm>
          <a:prstGeom prst="ellipse">
            <a:avLst/>
          </a:prstGeom>
          <a:solidFill>
            <a:srgbClr val="fe342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216480" y="2924280"/>
            <a:ext cx="68400" cy="73080"/>
          </a:xfrm>
          <a:prstGeom prst="ellipse">
            <a:avLst/>
          </a:prstGeom>
          <a:solidFill>
            <a:srgbClr val="fe342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45040" y="3143160"/>
            <a:ext cx="68040" cy="74880"/>
          </a:xfrm>
          <a:prstGeom prst="ellipse">
            <a:avLst/>
          </a:prstGeom>
          <a:solidFill>
            <a:srgbClr val="fe342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10280" y="3657600"/>
            <a:ext cx="69840" cy="73080"/>
          </a:xfrm>
          <a:prstGeom prst="ellipse">
            <a:avLst/>
          </a:prstGeom>
          <a:solidFill>
            <a:srgbClr val="fe342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60840" y="2778120"/>
            <a:ext cx="69840" cy="73080"/>
          </a:xfrm>
          <a:prstGeom prst="ellipse">
            <a:avLst/>
          </a:prstGeom>
          <a:solidFill>
            <a:srgbClr val="fe342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35520" y="3436920"/>
            <a:ext cx="68400" cy="73080"/>
          </a:xfrm>
          <a:prstGeom prst="ellipse">
            <a:avLst/>
          </a:prstGeom>
          <a:solidFill>
            <a:srgbClr val="fe342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0200" y="2265480"/>
            <a:ext cx="68040" cy="73080"/>
          </a:xfrm>
          <a:prstGeom prst="ellipse">
            <a:avLst/>
          </a:prstGeom>
          <a:solidFill>
            <a:srgbClr val="fe342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94400" y="4022640"/>
            <a:ext cx="69840" cy="73080"/>
          </a:xfrm>
          <a:prstGeom prst="ellipse">
            <a:avLst/>
          </a:prstGeom>
          <a:solidFill>
            <a:srgbClr val="fe342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75360" y="4608360"/>
            <a:ext cx="69840" cy="73080"/>
          </a:xfrm>
          <a:prstGeom prst="ellipse">
            <a:avLst/>
          </a:prstGeom>
          <a:solidFill>
            <a:srgbClr val="fe342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83080" y="4964040"/>
            <a:ext cx="572040" cy="21816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33480" tIns="17640" bIns="17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MI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94400" y="4118040"/>
            <a:ext cx="196920" cy="1292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095880" y="3809880"/>
            <a:ext cx="914400" cy="2133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742840" y="3505320"/>
            <a:ext cx="1981080" cy="1039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133720" y="2819160"/>
            <a:ext cx="152388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278400" y="1905120"/>
            <a:ext cx="960480" cy="92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5029200"/>
            <a:ext cx="2590920" cy="115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ologna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.000 Professors/researc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00.000 Stud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3320" y="4038480"/>
            <a:ext cx="2589480" cy="115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dena and Reggio Emil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730 Professors/researc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5.000 Stud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2514600"/>
            <a:ext cx="2627280" cy="94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arma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950 Professors/researc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9.000 Stud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90920" y="1295280"/>
            <a:ext cx="2391120" cy="115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rrara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6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fessors/reasearch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4.500 Stud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666880" y="3276720"/>
            <a:ext cx="1447920" cy="1295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172200" y="4452840"/>
            <a:ext cx="43956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172200" y="4572000"/>
            <a:ext cx="762120" cy="1424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89720" y="4900680"/>
            <a:ext cx="69840" cy="74520"/>
          </a:xfrm>
          <a:prstGeom prst="ellipse">
            <a:avLst/>
          </a:prstGeom>
          <a:solidFill>
            <a:srgbClr val="fe342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67280" y="4338720"/>
            <a:ext cx="74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S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  <a:ea typeface="Tahoma"/>
              </a:rPr>
              <a:t>1 private University (Università Cattolica del Sacro Cuore, Piacenza, 260 professors and 3.000 students );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  <a:ea typeface="Tahoma"/>
              </a:rPr>
              <a:t>CNR (National Research Council), with 7 Institutes and more than 800 researchers;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f5f5f"/>
                </a:solidFill>
                <a:latin typeface="Arial"/>
                <a:ea typeface="Tahoma"/>
              </a:rPr>
              <a:t>ENEA, 3 research centres and about 400 researchers;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  <a:ea typeface="Times New Roman"/>
              </a:rPr>
              <a:t>More than 50 technical and vocational training centres</a:t>
            </a:r>
            <a:r>
              <a:rPr b="0" lang="it-IT" sz="2000" spc="-1" strike="noStrike">
                <a:solidFill>
                  <a:srgbClr val="5f5f5f"/>
                </a:solidFill>
                <a:latin typeface="Arial"/>
                <a:ea typeface="Tahoma"/>
              </a:rPr>
              <a:t>;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Arial"/>
                <a:ea typeface="Tahoma"/>
              </a:rPr>
              <a:t>A complex network of innovation and TT centre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f5f5f"/>
                </a:solidFill>
                <a:latin typeface="Arial"/>
                <a:ea typeface="Tahoma"/>
              </a:rPr>
              <a:t>232 Laboratoris qualified by the Italian Ministry for Education, University and Research (MIUR), out of which 114 privat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7,000</a:t>
            </a:r>
            <a:r>
              <a:rPr b="0" lang="it-IT" sz="2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5f5f5f"/>
                </a:solidFill>
                <a:latin typeface="Arial"/>
              </a:rPr>
              <a:t>researchers in the public secto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5f5f5f"/>
                </a:solidFill>
                <a:latin typeface="Arial"/>
              </a:rPr>
              <a:t>and </a:t>
            </a: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15,000</a:t>
            </a:r>
            <a:r>
              <a:rPr b="1" lang="it-IT" sz="2800" spc="-1" strike="noStrike">
                <a:solidFill>
                  <a:srgbClr val="5f5f5f"/>
                </a:solidFill>
                <a:latin typeface="Arial"/>
              </a:rPr>
              <a:t> researchers including also R&amp;D personnel of the private sector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0" y="457200"/>
            <a:ext cx="606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THER RESEARCH CENT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THE INDUSTRIAL SYSTEM – 1</a:t>
            </a:r>
            <a:br>
              <a:rPr sz="32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Fields of investment of industrial compan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8600" y="1752480"/>
          <a:ext cx="8229600" cy="457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229600" cy="45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THE INDUSTRIAL SYSTEM – 2</a:t>
            </a:r>
            <a:br>
              <a:rPr sz="32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Companies’ R&amp;D intra-muros activities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90720" y="1447920"/>
          <a:ext cx="7662600" cy="51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766260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THE INDUSTRIAL SYSTEM – 3</a:t>
            </a:r>
            <a:br>
              <a:rPr sz="3200"/>
            </a:b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Patents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62120" y="1447920"/>
          <a:ext cx="7581960" cy="455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47920"/>
                    <a:ext cx="7581960" cy="45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14:54:07Z</dcterms:created>
  <dc:creator>asteroide</dc:creator>
  <dc:description/>
  <dc:language>en-US</dc:language>
  <cp:lastModifiedBy>Regione Emilia-Romagna</cp:lastModifiedBy>
  <cp:lastPrinted>2005-03-16T11:14:08Z</cp:lastPrinted>
  <dcterms:modified xsi:type="dcterms:W3CDTF">2005-03-16T12:04:45Z</dcterms:modified>
  <cp:revision>28</cp:revision>
  <dc:subject/>
  <dc:title>Presentazione di PowerPoint</dc:title>
</cp:coreProperties>
</file>