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583E4-9766-4BFA-812E-F4CAD2C8D2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3720" y="1350720"/>
            <a:ext cx="7778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2673360"/>
            <a:ext cx="7905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1280" y="4583880"/>
            <a:ext cx="7905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E50B8-E58C-4FBB-B75F-B67B26401F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1350720"/>
            <a:ext cx="7778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1280" y="2673360"/>
            <a:ext cx="38577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2360" y="2673360"/>
            <a:ext cx="38577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280" y="4583880"/>
            <a:ext cx="38577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2360" y="4583880"/>
            <a:ext cx="38577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9419E-6AC3-4A56-8C37-72E3204AE8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3720" y="1350720"/>
            <a:ext cx="7778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1280" y="2673360"/>
            <a:ext cx="2545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84280" y="2673360"/>
            <a:ext cx="2545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6920" y="2673360"/>
            <a:ext cx="2545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1280" y="4583880"/>
            <a:ext cx="2545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84280" y="4583880"/>
            <a:ext cx="2545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6920" y="4583880"/>
            <a:ext cx="2545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55865-61BF-49E2-8CE6-073D95DA1E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93720" y="1350720"/>
            <a:ext cx="7778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1280" y="2673360"/>
            <a:ext cx="7905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5BF0F-E3C8-4887-9B6D-F3CCDF675A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1350720"/>
            <a:ext cx="7778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1280" y="2673360"/>
            <a:ext cx="7905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49469-1011-4B0D-A76F-58B86E4EC1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1350720"/>
            <a:ext cx="7778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1280" y="2673360"/>
            <a:ext cx="385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2360" y="2673360"/>
            <a:ext cx="385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8CCEF-A4FE-4045-9197-529C542E20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93720" y="1350720"/>
            <a:ext cx="7778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0D835-7481-423C-A82D-D23295D9FE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93720" y="1350720"/>
            <a:ext cx="777888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0851-24AE-4AE3-B6DE-FDF5A21F7E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93720" y="1350720"/>
            <a:ext cx="7778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1280" y="2673360"/>
            <a:ext cx="38577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2360" y="2673360"/>
            <a:ext cx="385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1280" y="4583880"/>
            <a:ext cx="38577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AD86B-87D5-4F1C-80C0-15F2C19842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93720" y="1350720"/>
            <a:ext cx="7778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1280" y="2673360"/>
            <a:ext cx="385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2360" y="2673360"/>
            <a:ext cx="38577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2360" y="4583880"/>
            <a:ext cx="38577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DF52D-7CAB-4B54-9577-0F01052803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3720" y="1350720"/>
            <a:ext cx="7778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1280" y="2673360"/>
            <a:ext cx="38577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2360" y="2673360"/>
            <a:ext cx="38577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1280" y="4583880"/>
            <a:ext cx="7905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6BDD1-E37C-4F2F-944F-05B5A222A2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4059" r="0" b="0"/>
          <a:stretch/>
        </p:blipFill>
        <p:spPr>
          <a:xfrm>
            <a:off x="1979640" y="996840"/>
            <a:ext cx="4213080" cy="5402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93720" y="1350720"/>
            <a:ext cx="7778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11280" y="2673360"/>
            <a:ext cx="7905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SzPct val="120000"/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ccff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rcRect l="0" t="76176" r="0" b="1194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152280" y="119160"/>
            <a:ext cx="2063880" cy="7556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127480" y="92160"/>
            <a:ext cx="39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NRT Matériaux Recherche Technolog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422920" y="6789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B908-70D1-4291-983A-0CBD7907003C}" type="slidenum">
              <a:rPr b="1" lang="fr-FR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267160" y="444600"/>
            <a:ext cx="329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March 17</a:t>
            </a:r>
            <a:r>
              <a:rPr b="0" lang="fr-FR" sz="12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http://www-crismat.ismra.fr/cnrt/index.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3240" y="2109600"/>
            <a:ext cx="8499240" cy="41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700" spc="-1" strike="noStrike">
                <a:solidFill>
                  <a:srgbClr val="0099ff"/>
                </a:solidFill>
                <a:latin typeface="Arial"/>
              </a:rPr>
              <a:t>CNRT Materials</a:t>
            </a:r>
            <a:r>
              <a:rPr b="1" lang="fr-FR" sz="3800" spc="-1" strike="noStrike">
                <a:solidFill>
                  <a:srgbClr val="777777"/>
                </a:solidFill>
                <a:latin typeface="Arial"/>
              </a:rPr>
              <a:t> </a:t>
            </a:r>
            <a:br>
              <a:rPr sz="3800"/>
            </a:br>
            <a:r>
              <a:rPr b="0" lang="fr-FR" sz="3800" spc="-1" strike="noStrike">
                <a:solidFill>
                  <a:srgbClr val="808080"/>
                </a:solidFill>
                <a:latin typeface="Arial"/>
              </a:rPr>
              <a:t>Technological Research</a:t>
            </a:r>
            <a:br>
              <a:rPr sz="3800"/>
            </a:br>
            <a:r>
              <a:rPr b="0" lang="fr-FR" sz="3800" spc="-1" strike="noStrike">
                <a:solidFill>
                  <a:srgbClr val="808080"/>
                </a:solidFill>
                <a:latin typeface="Arial"/>
              </a:rPr>
              <a:t>for</a:t>
            </a:r>
            <a:br>
              <a:rPr sz="3800"/>
            </a:br>
            <a:r>
              <a:rPr b="0" lang="fr-FR" sz="3800" spc="-1" strike="noStrike">
                <a:solidFill>
                  <a:srgbClr val="808080"/>
                </a:solidFill>
                <a:latin typeface="Arial"/>
              </a:rPr>
              <a:t>Industrial development </a:t>
            </a:r>
            <a:br>
              <a:rPr sz="3800"/>
            </a:br>
            <a:br>
              <a:rPr sz="3800"/>
            </a:br>
            <a:r>
              <a:rPr b="0" i="1" lang="fr-FR" sz="2000" spc="-1" strike="noStrike">
                <a:solidFill>
                  <a:srgbClr val="0099ff"/>
                </a:solidFill>
                <a:latin typeface="Arial"/>
              </a:rPr>
              <a:t>Dr. Marie-Pierre DELAMARE – Project Manager</a:t>
            </a:r>
            <a:br>
              <a:rPr sz="2000"/>
            </a:br>
            <a:r>
              <a:rPr b="0" i="1" lang="fr-FR" sz="2000" spc="-1" strike="noStrike">
                <a:solidFill>
                  <a:srgbClr val="0099ff"/>
                </a:solidFill>
                <a:latin typeface="Arial"/>
              </a:rPr>
              <a:t>cnrt@ensicaen.fr or +33 2 31 45 26 29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2421000"/>
            <a:ext cx="0" cy="259056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971640"/>
            <a:ext cx="9140760" cy="6851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68160" y="984240"/>
            <a:ext cx="777888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Scanning Electronic Microscope</a:t>
            </a:r>
            <a:endParaRPr b="1" lang="en-US" sz="30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92000" y="2403360"/>
            <a:ext cx="2559240" cy="3851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472000" y="2276640"/>
            <a:ext cx="3073680" cy="4103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68160" y="1050480"/>
            <a:ext cx="77788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777777"/>
                </a:solidFill>
                <a:latin typeface="Arial"/>
              </a:rPr>
              <a:t>Thermomecanical Characterisation</a:t>
            </a:r>
            <a:endParaRPr b="1" lang="en-US" sz="3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8160" y="1139760"/>
            <a:ext cx="777888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777777"/>
                </a:solidFill>
                <a:latin typeface="Arial"/>
              </a:rPr>
              <a:t>How does it work ? </a:t>
            </a:r>
            <a:br>
              <a:rPr sz="3400"/>
            </a:br>
            <a:r>
              <a:rPr b="1" lang="fr-FR" sz="3400" spc="-1" strike="noStrike">
                <a:solidFill>
                  <a:srgbClr val="777777"/>
                </a:solidFill>
                <a:latin typeface="Arial"/>
              </a:rPr>
              <a:t>"</a:t>
            </a:r>
            <a:r>
              <a:rPr b="1" lang="fr-FR" sz="3000" spc="-1" strike="noStrike">
                <a:solidFill>
                  <a:srgbClr val="777777"/>
                </a:solidFill>
                <a:latin typeface="Arial"/>
              </a:rPr>
              <a:t>Grouping of Scientific Interest" (GIS)</a:t>
            </a:r>
            <a:endParaRPr b="1" lang="en-US" sz="3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1280" y="2708280"/>
            <a:ext cx="7905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ff"/>
                </a:solidFill>
                <a:latin typeface="Arial"/>
              </a:rPr>
              <a:t>Industrials</a:t>
            </a: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HILIP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Semiconductors – CA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F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opérativ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étropolitaine d'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trepris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énérale (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.M.E.G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ff"/>
                </a:solidFill>
                <a:latin typeface="Arial"/>
              </a:rPr>
              <a:t>Research Organisms </a:t>
            </a: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N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SICA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iversity of Ca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ff"/>
                </a:solidFill>
                <a:latin typeface="Arial"/>
              </a:rPr>
              <a:t>Financially suppported by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he State, Regional Council of Basse Normandie, General Council of Calvados, Caen la Mer and Europe (FEDER)</a:t>
            </a:r>
            <a:endParaRPr b="0" lang="en-US" sz="16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951280" y="1658880"/>
            <a:ext cx="3600360" cy="1324080"/>
          </a:xfrm>
          <a:prstGeom prst="flowChartAlternateProcess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N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President : Franck MU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Director  : Bernard RAV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Project Manager : Marie-Pierre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DELAM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50920" y="2982960"/>
            <a:ext cx="8648640" cy="3325320"/>
            <a:chOff x="250920" y="2982960"/>
            <a:chExt cx="8648640" cy="3325320"/>
          </a:xfrm>
        </p:grpSpPr>
        <p:sp>
          <p:nvSpPr>
            <p:cNvPr id="50" name=""/>
            <p:cNvSpPr/>
            <p:nvPr/>
          </p:nvSpPr>
          <p:spPr>
            <a:xfrm>
              <a:off x="250920" y="3657600"/>
              <a:ext cx="1441440" cy="701640"/>
            </a:xfrm>
            <a:prstGeom prst="flowChartAlternateProcess">
              <a:avLst/>
            </a:prstGeom>
            <a:solidFill>
              <a:srgbClr val="71b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talys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71640" y="3657600"/>
              <a:ext cx="2386080" cy="701640"/>
            </a:xfrm>
            <a:prstGeom prst="flowChartAlternateProcess">
              <a:avLst/>
            </a:prstGeom>
            <a:solidFill>
              <a:srgbClr val="71b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ctroni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cro-électroni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05400" y="3657600"/>
              <a:ext cx="1506600" cy="701640"/>
            </a:xfrm>
            <a:prstGeom prst="flowChartAlternateProcess">
              <a:avLst/>
            </a:prstGeom>
            <a:solidFill>
              <a:srgbClr val="71b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lym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72360" y="3657600"/>
              <a:ext cx="2527200" cy="701640"/>
            </a:xfrm>
            <a:prstGeom prst="flowChartAlternateProcess">
              <a:avLst/>
            </a:prstGeom>
            <a:solidFill>
              <a:srgbClr val="71b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rmomec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er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73000" y="4346640"/>
              <a:ext cx="277920" cy="450720"/>
            </a:xfrm>
            <a:prstGeom prst="downArrow">
              <a:avLst>
                <a:gd name="adj1" fmla="val 50000"/>
                <a:gd name="adj2" fmla="val 40544"/>
              </a:avLst>
            </a:prstGeom>
            <a:solidFill>
              <a:srgbClr val="71b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451640" y="4346640"/>
              <a:ext cx="277920" cy="450720"/>
            </a:xfrm>
            <a:prstGeom prst="downArrow">
              <a:avLst>
                <a:gd name="adj1" fmla="val 50000"/>
                <a:gd name="adj2" fmla="val 40544"/>
              </a:avLst>
            </a:prstGeom>
            <a:solidFill>
              <a:srgbClr val="71b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111640" y="4346640"/>
              <a:ext cx="277920" cy="450720"/>
            </a:xfrm>
            <a:prstGeom prst="downArrow">
              <a:avLst>
                <a:gd name="adj1" fmla="val 50000"/>
                <a:gd name="adj2" fmla="val 40544"/>
              </a:avLst>
            </a:prstGeom>
            <a:solidFill>
              <a:srgbClr val="71b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51280" y="4346640"/>
              <a:ext cx="277560" cy="450720"/>
            </a:xfrm>
            <a:prstGeom prst="downArrow">
              <a:avLst>
                <a:gd name="adj1" fmla="val 50000"/>
                <a:gd name="adj2" fmla="val 40597"/>
              </a:avLst>
            </a:prstGeom>
            <a:solidFill>
              <a:srgbClr val="71b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" name=""/>
            <p:cNvCxnSpPr>
              <a:stCxn id="48" idx="2"/>
              <a:endCxn id="53" idx="0"/>
            </p:cNvCxnSpPr>
            <p:nvPr/>
          </p:nvCxnSpPr>
          <p:spPr>
            <a:xfrm flipH="1" rot="16200000">
              <a:off x="5855400" y="1877760"/>
              <a:ext cx="675360" cy="2885400"/>
            </a:xfrm>
            <a:prstGeom prst="bentConnector3">
              <a:avLst>
                <a:gd name="adj1" fmla="val 49866"/>
              </a:avLst>
            </a:prstGeom>
            <a:ln w="50760">
              <a:solidFill>
                <a:srgbClr val="ccffcc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48" idx="2"/>
              <a:endCxn id="50" idx="0"/>
            </p:cNvCxnSpPr>
            <p:nvPr/>
          </p:nvCxnSpPr>
          <p:spPr>
            <a:xfrm rot="5400000">
              <a:off x="2523240" y="1430280"/>
              <a:ext cx="675360" cy="3780360"/>
            </a:xfrm>
            <a:prstGeom prst="bentConnector3">
              <a:avLst>
                <a:gd name="adj1" fmla="val 49866"/>
              </a:avLst>
            </a:prstGeom>
            <a:ln w="50760">
              <a:solidFill>
                <a:srgbClr val="ccffcc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2"/>
              <a:endCxn id="51" idx="0"/>
            </p:cNvCxnSpPr>
            <p:nvPr/>
          </p:nvCxnSpPr>
          <p:spPr>
            <a:xfrm rot="5400000">
              <a:off x="3570120" y="2477160"/>
              <a:ext cx="675360" cy="1686600"/>
            </a:xfrm>
            <a:prstGeom prst="bentConnector3">
              <a:avLst>
                <a:gd name="adj1" fmla="val 49866"/>
              </a:avLst>
            </a:prstGeom>
            <a:ln w="50760">
              <a:solidFill>
                <a:srgbClr val="ccffcc"/>
              </a:solidFill>
              <a:miter/>
              <a:tailEnd len="med" type="triangle" w="med"/>
            </a:ln>
          </p:spPr>
        </p:cxnSp>
        <p:cxnSp>
          <p:nvCxnSpPr>
            <p:cNvPr id="61" name=""/>
            <p:cNvCxnSpPr>
              <a:stCxn id="48" idx="2"/>
              <a:endCxn id="52" idx="0"/>
            </p:cNvCxnSpPr>
            <p:nvPr/>
          </p:nvCxnSpPr>
          <p:spPr>
            <a:xfrm flipH="1" rot="16200000">
              <a:off x="4667040" y="3066120"/>
              <a:ext cx="675360" cy="508680"/>
            </a:xfrm>
            <a:prstGeom prst="bentConnector3">
              <a:avLst>
                <a:gd name="adj1" fmla="val 49866"/>
              </a:avLst>
            </a:prstGeom>
            <a:ln w="50760">
              <a:solidFill>
                <a:srgbClr val="ccffcc"/>
              </a:solidFill>
              <a:miter/>
              <a:tailEnd len="med" type="triangle" w="med"/>
            </a:ln>
          </p:spPr>
        </p:cxnSp>
        <p:sp>
          <p:nvSpPr>
            <p:cNvPr id="62" name=""/>
            <p:cNvSpPr/>
            <p:nvPr/>
          </p:nvSpPr>
          <p:spPr>
            <a:xfrm>
              <a:off x="276480" y="4807080"/>
              <a:ext cx="1488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. FERNANDEZ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84200" y="4797360"/>
              <a:ext cx="1579680" cy="15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ISM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. MAIGNA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M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. DESCAMP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USA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J.M. HAUSSONN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95480" y="4813200"/>
              <a:ext cx="110412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CM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.J. MADE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21720" y="4807080"/>
              <a:ext cx="128700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ISM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M. GOMIN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J.P. JERNO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. JOUANNO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39840" y="1360440"/>
            <a:ext cx="1620720" cy="87012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Scientific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Committ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91240" y="1360440"/>
            <a:ext cx="1621080" cy="87012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Board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Dir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60560" y="1808280"/>
            <a:ext cx="990720" cy="285480"/>
          </a:xfrm>
          <a:prstGeom prst="line">
            <a:avLst/>
          </a:prstGeom>
          <a:ln w="633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551640" y="1808280"/>
            <a:ext cx="990720" cy="285480"/>
          </a:xfrm>
          <a:prstGeom prst="line">
            <a:avLst/>
          </a:prstGeom>
          <a:ln w="633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68160" y="1139760"/>
            <a:ext cx="777888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777777"/>
                </a:solidFill>
                <a:latin typeface="Arial"/>
              </a:rPr>
              <a:t>How does it work ?</a:t>
            </a:r>
            <a:endParaRPr b="1" lang="en-US" sz="3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2327040"/>
            <a:ext cx="790560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ff"/>
                </a:solidFill>
                <a:latin typeface="Arial"/>
              </a:rPr>
              <a:t>Virtual Centre </a:t>
            </a:r>
            <a:r>
              <a:rPr b="0" i="1" lang="fr-FR" sz="1800" spc="-1" strike="noStrike">
                <a:solidFill>
                  <a:srgbClr val="0099ff"/>
                </a:solidFill>
                <a:latin typeface="Arial"/>
              </a:rPr>
              <a:t>(till september 2005)</a:t>
            </a:r>
            <a:endParaRPr b="0" lang="en-US" sz="1800" spc="-1" strike="noStrike">
              <a:solidFill>
                <a:srgbClr val="0099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SzPct val="120000"/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research is performed in the laboratories members of the CNRT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SzPct val="120000"/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building (4000 m²) is under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ff"/>
                </a:solidFill>
                <a:latin typeface="Arial"/>
              </a:rPr>
              <a:t>CNRT 's Personnels</a:t>
            </a:r>
            <a:endParaRPr b="0" lang="en-US" sz="2000" spc="-1" strike="noStrike">
              <a:solidFill>
                <a:srgbClr val="0099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SzPct val="120000"/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echnic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SzPct val="120000"/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 project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ff"/>
                </a:solidFill>
                <a:latin typeface="Arial"/>
              </a:rPr>
              <a:t>CNRT's laboratories </a:t>
            </a:r>
            <a:r>
              <a:rPr b="0" lang="fr-FR" sz="2000" spc="-1" strike="noStrike">
                <a:solidFill>
                  <a:srgbClr val="0099ff"/>
                </a:solidFill>
                <a:latin typeface="Symbol"/>
                <a:ea typeface="Symbol"/>
              </a:rPr>
              <a:t></a:t>
            </a:r>
            <a:r>
              <a:rPr b="0" lang="fr-FR" sz="2000" spc="-1" strike="noStrike">
                <a:solidFill>
                  <a:srgbClr val="0099ff"/>
                </a:solidFill>
                <a:latin typeface="Arial"/>
              </a:rPr>
              <a:t> 200 persons</a:t>
            </a:r>
            <a:endParaRPr b="0" lang="en-US" sz="2000" spc="-1" strike="noStrike">
              <a:solidFill>
                <a:srgbClr val="0099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SzPct val="120000"/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sear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SzPct val="120000"/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a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SzPct val="120000"/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t-Do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SzPct val="120000"/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hD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93720" y="1350720"/>
            <a:ext cx="7778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777777"/>
                </a:solidFill>
                <a:latin typeface="Arial"/>
              </a:rPr>
              <a:t>Aims of CNRT Materials</a:t>
            </a:r>
            <a:endParaRPr b="1" lang="en-US" sz="3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1280" y="2698920"/>
            <a:ext cx="7905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To develop technological research on the initiative of industrials and on subjects determined by them</a:t>
            </a: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 favour the technological innovation</a:t>
            </a: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  <a:p>
            <a:pPr lvl="4" marL="205740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 favour and to stimulate the technological innovation &amp; transfer</a:t>
            </a: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  <a:p>
            <a:pPr lvl="4" marL="205740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 favour the emergence of regional, national and european projects</a:t>
            </a: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93720" y="1350720"/>
            <a:ext cx="7778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777777"/>
                </a:solidFill>
                <a:latin typeface="Arial"/>
              </a:rPr>
              <a:t>Services of CNRT Materials</a:t>
            </a:r>
            <a:endParaRPr b="1" lang="en-US" sz="3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2711520"/>
            <a:ext cx="7905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echnological research under contract</a:t>
            </a: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  <a:p>
            <a:pPr lvl="4" marL="205740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echnological expertise &amp; consulting</a:t>
            </a: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  <a:p>
            <a:pPr lvl="4" marL="205740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  <a:p>
            <a:pPr lvl="4" marL="205740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cumentary service</a:t>
            </a: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  <a:p>
            <a:pPr lvl="4" marL="205740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equipments available</a:t>
            </a: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1653" t="0" r="1448" b="1040"/>
          <a:stretch/>
        </p:blipFill>
        <p:spPr>
          <a:xfrm>
            <a:off x="0" y="958680"/>
            <a:ext cx="9144000" cy="58993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8160" y="1012320"/>
            <a:ext cx="77788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High Temperature Synthseis</a:t>
            </a:r>
            <a:endParaRPr b="1" lang="en-US" sz="30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93720" y="1351080"/>
            <a:ext cx="777888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77777"/>
                </a:solidFill>
                <a:latin typeface="Arial"/>
              </a:rPr>
              <a:t>X-Ray Diffraction Equipments</a:t>
            </a:r>
            <a:r>
              <a:rPr b="1" lang="fr-FR" sz="3400" spc="-1" strike="noStrike">
                <a:solidFill>
                  <a:srgbClr val="777777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826160" y="3213000"/>
            <a:ext cx="3886200" cy="2880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93720" y="2876400"/>
            <a:ext cx="32464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7920" y="2533680"/>
            <a:ext cx="5081400" cy="3595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005440" y="1808280"/>
            <a:ext cx="4164120" cy="5064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52240" y="1060560"/>
            <a:ext cx="801828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77777"/>
                </a:solidFill>
                <a:latin typeface="Arial"/>
              </a:rPr>
              <a:t>Centre of Transmission Electronic Microscopy </a:t>
            </a:r>
            <a:br>
              <a:rPr sz="2400"/>
            </a:br>
            <a:r>
              <a:rPr b="1" i="1" lang="fr-FR" sz="1800" spc="-1" strike="noStrike">
                <a:solidFill>
                  <a:srgbClr val="777777"/>
                </a:solidFill>
                <a:latin typeface="Arial"/>
              </a:rPr>
              <a:t>Prof.</a:t>
            </a:r>
            <a:r>
              <a:rPr b="0" lang="fr-FR" sz="24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i="1" lang="fr-FR" sz="1800" spc="-1" strike="noStrike">
                <a:solidFill>
                  <a:srgbClr val="777777"/>
                </a:solidFill>
                <a:latin typeface="Arial"/>
              </a:rPr>
              <a:t>Maryvonne HERVIEU</a:t>
            </a:r>
            <a:endParaRPr b="1" lang="en-US" sz="1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08:00:38Z</dcterms:created>
  <dc:creator>Isabelle</dc:creator>
  <dc:description/>
  <dc:language>en-US</dc:language>
  <cp:lastModifiedBy>guarnieri</cp:lastModifiedBy>
  <dcterms:modified xsi:type="dcterms:W3CDTF">2005-06-09T14:14:25Z</dcterms:modified>
  <cp:revision>220</cp:revision>
  <dc:subject/>
  <dc:title>Présentation PowerPoint</dc:title>
</cp:coreProperties>
</file>