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9076-C587-4B39-B751-DEA1F8B3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9EE-E189-43AB-8B62-A3DC14B9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36E-5CEA-4557-89BB-2D9309E9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2A0-0203-435A-8894-47D8F82A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8DC-AF49-4C86-99F3-0F7FBF7D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959-7E40-4F39-85A9-004D9D68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746-5E7A-47A5-A6F1-47C6FB2A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549-C401-49A2-8FB1-D28A7859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C9BE-EB84-41E2-8911-A46228EF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E3C-BB0D-44BA-B4A0-AC7FBF22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89C-C6C0-4E45-999B-750FF2C6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1E9D-431F-4F6F-A991-8BA4D793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5E88-2965-434E-9FCE-5F20C32CC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rr_nisa" descr=""/>
          <p:cNvPicPr/>
          <p:nvPr/>
        </p:nvPicPr>
        <p:blipFill>
          <a:blip r:embed="rId2"/>
          <a:stretch/>
        </p:blipFill>
        <p:spPr>
          <a:xfrm>
            <a:off x="7315200" y="152280"/>
            <a:ext cx="1346040" cy="6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m.vslib.cz/" TargetMode="External"/><Relationship Id="rId2" Type="http://schemas.openxmlformats.org/officeDocument/2006/relationships/hyperlink" Target="mailto:jaroslav.nosek@vslib.cz" TargetMode="External"/><Relationship Id="rId3" Type="http://schemas.openxmlformats.org/officeDocument/2006/relationships/hyperlink" Target="http://www.fs.vslib.cz/" TargetMode="External"/><Relationship Id="rId4" Type="http://schemas.openxmlformats.org/officeDocument/2006/relationships/hyperlink" Target="mailto:petr.louda@vslib.cz" TargetMode="External"/><Relationship Id="rId5" Type="http://schemas.openxmlformats.org/officeDocument/2006/relationships/hyperlink" Target="http://www.ft.vslib.cz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638680"/>
            <a:ext cx="9144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1148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Tomas Kaf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Regional Development Agency Ltd., Liber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Arr_nisa" descr=""/>
          <p:cNvPicPr/>
          <p:nvPr/>
        </p:nvPicPr>
        <p:blipFill>
          <a:blip r:embed="rId1"/>
          <a:stretch/>
        </p:blipFill>
        <p:spPr>
          <a:xfrm>
            <a:off x="3429000" y="5715000"/>
            <a:ext cx="2235240" cy="1039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98108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Arial Black"/>
              </a:rPr>
              <a:t>Innovation and Sci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Arial Black"/>
              </a:rPr>
              <a:t>Activities in Liberec Reg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3512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 Black"/>
              </a:rPr>
              <a:t>The ERIK 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 Black"/>
              </a:rPr>
              <a:t>Trans – Regional Workshop INDUSTRY – SCIENCE RELATION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3657600"/>
            <a:ext cx="670536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head3_01_01" descr=""/>
          <p:cNvPicPr/>
          <p:nvPr/>
        </p:nvPicPr>
        <p:blipFill>
          <a:blip r:embed="rId2"/>
          <a:stretch/>
        </p:blipFill>
        <p:spPr>
          <a:xfrm>
            <a:off x="685800" y="407880"/>
            <a:ext cx="205740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Innovativ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VUTS (Research Institute of Textil Machinery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9051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construction of machinery for production industr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strength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, vibra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tion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no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i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iness,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ition accuracy of machin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echnic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al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mechani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cs of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machinery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or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c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inematic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anal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ysis and synthesis, dynamic analysis of machines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trength analysis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using special SW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ca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and cam-operated machinery calculations and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technical updat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and increase of production capacity of „old“ machin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828800"/>
            <a:ext cx="8610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Innovativ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ICP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Verdana"/>
                <a:hlinkClick r:id="rId1"/>
              </a:rPr>
              <a:t>www.fm.vslib.cz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jaroslav.nosek@vslib.cz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TUL – Faculty of Machin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Verdana"/>
                <a:hlinkClick r:id="rId3"/>
              </a:rPr>
              <a:t>www.fs.vslib.cz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Verdana"/>
                <a:hlinkClick r:id="rId4"/>
              </a:rPr>
              <a:t>petr.louda@vslib.cz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TUL – Faculty of Text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0000"/>
                </a:solidFill>
                <a:uFillTx/>
                <a:latin typeface="Verdana"/>
                <a:hlinkClick r:id="rId5"/>
              </a:rPr>
              <a:t>www.ft.vslib.cz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jarmila.vaneckova@vslib.c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VUTS and Technical P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www.vuts.cz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eliska@sixtova@vuts.c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Research Centre TEXTIL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http://centrum/vslib.cz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ales.richter@vslib.c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Contacts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676520"/>
            <a:ext cx="8610480" cy="7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head3_01_01" descr=""/>
          <p:cNvPicPr/>
          <p:nvPr/>
        </p:nvPicPr>
        <p:blipFill>
          <a:blip r:embed="rId6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Innovativ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Innovative Compani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9051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447920"/>
            <a:ext cx="8610480" cy="7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MEGA a.s.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environmental and biotechnologies  www.mega.c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PRECIOSA a.s.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glass and jewellery  www.preciosa.c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Modelárna LIAZ spol. s r.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foundry and forming www.modelarna-liaz.c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NAREX/PRO-TOOL a.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tools www.narex.c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M.A.G. Galvanochemie, a.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galvanochemistry www.magchem.c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CRYTUR L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laser rods, precise optics and mechanics  www.crytur.cz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Innovative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Ongoing Innovative Activiti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600200"/>
            <a:ext cx="8610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Regional Innovation Strategy</a:t>
            </a: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elaborated in 2004, currently in drafting proc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Innovation Price of Euroregion N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innovative companies honored yearl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Three Country Innovation Push Project (3-C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join project for Germany, Czechia and Poland, co-financed by EU from Interreg IIIC   www.3-cip.c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Business Centre/Incubator Česká Lípa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Verdana"/>
              </a:rPr>
              <a:t>(preliminary study and project draft)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Framework for Innovation in Liberec Reg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Weakness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majority of foreign investment in „production lines“ (still low costs of labour in Czech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national support is aimed at large investment projects, that is at large production fac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very poor communication between regional authorities and TUL and/or main employ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lack of systematical approach to RD application support at the national and region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unclear status of word „INNOVATIO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lack of Know-How and successfull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447920"/>
            <a:ext cx="8610480" cy="7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990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Framework for Innovation in Liberec Reg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447920"/>
            <a:ext cx="8610480" cy="7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914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slow reaction of academic environment on industry requests in 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poor language skills in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low interest of S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unwillingness to share experience and knowledge among S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out-of-time“ medium education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poor awareness of importance of Business Incubators and Park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Framework for Innovation in Liberec Reg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447920"/>
            <a:ext cx="8610480" cy="7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990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Stren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large scientific potential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human resources avail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cheap“ price of research activ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increase of subjects open to support innovative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regional „innovation“ network establis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regional innovation working group established (regional authority, TUL, RDA, ChofCommerce, CzechInves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first Business Incubator project prop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Framework for Innovation in Liberec Reg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990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Opport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447920"/>
            <a:ext cx="8610480" cy="7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o share experience in specific research fields (as mentioned befo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o develop human capital with reasonable co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o join ongoing innovation projects and other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o share know-how in operating the business incubators and scientific pa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o develop BI/SP projects with national financial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Framework for Innovation in Liberec Reg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990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Nee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447920"/>
            <a:ext cx="8610480" cy="75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o strengthen the role of regional innovation working group in process of regional strategy pl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o increase number of active players together with better and stronger „marketing“ of innovative ac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o develop (or transfer from the outside) successfull financial model for business incubative and support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o implement regional innovation strategy into the framework of the Regional Dvelopmnet Programme (2004) and its ac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ARR – Agentura regionálního rozvoje, spol. s r.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</a:rPr>
              <a:t>www.arr-nisa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632560"/>
            <a:ext cx="91440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Arr_nisa" descr=""/>
          <p:cNvPicPr/>
          <p:nvPr/>
        </p:nvPicPr>
        <p:blipFill>
          <a:blip r:embed="rId1"/>
          <a:stretch/>
        </p:blipFill>
        <p:spPr>
          <a:xfrm>
            <a:off x="3429000" y="5708520"/>
            <a:ext cx="2235240" cy="10400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head3_01_01" descr=""/>
          <p:cNvPicPr/>
          <p:nvPr/>
        </p:nvPicPr>
        <p:blipFill>
          <a:blip r:embed="rId2"/>
          <a:stretch/>
        </p:blipFill>
        <p:spPr>
          <a:xfrm>
            <a:off x="685800" y="407880"/>
            <a:ext cx="2057400" cy="10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Liberec Region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– the second smallest Czech region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Arr_nisa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346040" cy="62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2286000"/>
            <a:ext cx="8305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otal area 3.165 km2               216 municipalit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(4% of national area and popul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430.000 inhabitants   203.000 active in econom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main cit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Liberec – regional capital (100.000 inh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Česká Lípa (40.000 inh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Jablonec nad Nisou (50.000 inh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urnov (30.000 inh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Semily (10.000 inh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Liberec Region – general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610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head3_01_01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Liberec Region – General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Liberec Region - geography and attractiviti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981080"/>
            <a:ext cx="8610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286000"/>
            <a:ext cx="8305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North of Czechia, common border with Germany and Pol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mostly covered by highlands and mounta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Krkonoše (National Park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Jizerské Mts. - popular country-ski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Lužické Mts. – highlands on German bo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Czech Paradise – sandy towers, UNE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Máchovo Lake recreational area – very pop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plenty of castles (since 11th centu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rr_nisa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346040" cy="625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Liberec Region - Econom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Economy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Liberec Region produces 3,5% of national GD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305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extil (traditional, but on decline recent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glass (traditional, but on decline recent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automo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pla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machin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co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electronic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ravel and tourism (strong potential for develop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057400"/>
            <a:ext cx="8610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head3_01_01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Liberec Region - Econom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Econom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305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large foreign investment in last 4 years (Japan, USA, Germany, Spain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industry zones in development, but only „production lines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no high-tech investment y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unemployment varies by coun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lack of technical qualified workers and engine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981080"/>
            <a:ext cx="8610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rr_nisa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346040" cy="625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Liberec region - Edu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Educ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828800"/>
            <a:ext cx="8610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1337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large network of high sch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11.000 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Technical University Liberec, 6 facult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econom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echa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text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machin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archite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</a:rPr>
              <a:t>pedagog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7.000 students, cca 950 absolvents per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head3_01_01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Arr_nisa" descr=""/>
          <p:cNvPicPr/>
          <p:nvPr/>
        </p:nvPicPr>
        <p:blipFill>
          <a:blip r:embed="rId1"/>
          <a:stretch/>
        </p:blipFill>
        <p:spPr>
          <a:xfrm>
            <a:off x="7315200" y="152280"/>
            <a:ext cx="1346040" cy="625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Innovativ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Innovative and Research Network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Scientific and research laboratories at T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VUTS and Technological P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Research laboratories of compan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Research centre TEXTIL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Regional Development Agency as local AIP off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6th FP Regional Contact Organ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Laboratory of Academy of 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Chambre of 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 Black"/>
              </a:rPr>
              <a:t>Innovation Price of Euroregion NI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head3_01_01" descr=""/>
          <p:cNvPicPr/>
          <p:nvPr/>
        </p:nvPicPr>
        <p:blipFill>
          <a:blip r:embed="rId2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Innovativ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752480"/>
            <a:ext cx="8305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1" lang="cs-CZ" sz="2000" spc="-1" strike="noStrike">
                <a:solidFill>
                  <a:srgbClr val="ffffff"/>
                </a:solidFill>
                <a:latin typeface="Tahoma"/>
                <a:ea typeface="Tahoma"/>
              </a:rPr>
              <a:t>International Center for Piezoelectric Research (ICPR)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  <a:ea typeface="Tahoma"/>
              </a:rPr>
              <a:t> at the Faculty of Mechatronics and Interdisciplinary Studies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aracterization and understanding of the properties of material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undamental technology for resonators, actuators and new transdu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various a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pplications</a:t>
            </a:r>
            <a:r>
              <a:rPr b="1" lang="cs-CZ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esearch Center at the Faculty of Machiner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machine properties in interaction with manpower (vibroizolation and vibroizolation system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alternative fuel comsuming moto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extile production lines and innovation of textile machines and production proces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nano-surface material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high speed machinery controlll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olar energy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523880"/>
            <a:ext cx="8610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Research at the TUL - exampl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research and verification of mechanical and technologic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optimisation and innovation of selected nods of textile machin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development and application of modern measurement methods for textil etchnology inno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design systems for textile materia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textile senzors / senzors for textile materia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textile materials for special applications (space industr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principles of binding active materials on textile subst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Verdana"/>
              </a:rPr>
              <a:t>optimal construction of textile produ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280"/>
            <a:ext cx="72738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Arial Black"/>
              </a:rPr>
              <a:t>Innovative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699400" y="152280"/>
            <a:ext cx="444600" cy="609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Arial Black"/>
              </a:rPr>
              <a:t>Research Centre TEXTIL I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523880"/>
            <a:ext cx="8610480" cy="7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head3_01_01" descr=""/>
          <p:cNvPicPr/>
          <p:nvPr/>
        </p:nvPicPr>
        <p:blipFill>
          <a:blip r:embed="rId1"/>
          <a:stretch/>
        </p:blipFill>
        <p:spPr>
          <a:xfrm>
            <a:off x="7467480" y="838080"/>
            <a:ext cx="10670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20:02:57Z</dcterms:created>
  <dc:creator>Mgr. Tomáš Kafka</dc:creator>
  <dc:description/>
  <dc:language>en-US</dc:language>
  <cp:lastModifiedBy>Mgr. Tomáš Kafka</cp:lastModifiedBy>
  <dcterms:modified xsi:type="dcterms:W3CDTF">2005-03-14T15:13:57Z</dcterms:modified>
  <cp:revision>206</cp:revision>
  <dc:subject/>
  <dc:title>Prezentace aplikace PowerPoint</dc:title>
</cp:coreProperties>
</file>