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24.png" ContentType="image/png"/>
  <Override PartName="/ppt/media/image21.png" ContentType="image/png"/>
  <Override PartName="/ppt/media/image2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0.wmf" ContentType="image/x-wmf"/>
  <Override PartName="/ppt/media/image4.jpeg" ContentType="image/jpeg"/>
  <Override PartName="/ppt/media/image1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E23-645F-4A3C-AC67-F0FFCAA8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353-0490-4903-8969-8CC7AEA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87C-1EF8-4BE5-B334-D8883135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C10-39DC-426D-8DEF-7847BE2B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C121-6199-4990-A669-D4279C1E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9856-5A2F-43D2-99E8-9617DCA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C8BB-6449-447D-856B-219EAE99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D291-9D92-463C-8BE5-07B3B4B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F1E3-A5A8-4817-93B4-B9419FB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7F1-CBAC-4057-B211-90B83C08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4BF6-FB22-46A8-BE8F-2E0D4D8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ED7-039F-4DA2-88EC-C33FD8DC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1F27-1938-4A94-87DB-01AEA78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89C-C159-43A3-8033-6443CA5D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1A8D-E808-4309-8FAE-64717F84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7585-045B-421C-A055-436C119D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D352-BD19-4A43-9F22-5BE40393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9975-3ECD-4F2A-A1C0-0F5F9378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9638-AA38-419B-82B5-7E3694C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4670-B51F-4074-9132-E2D7C8C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BD92-92E7-4F8A-8704-61D412C8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429F-D0EC-43B5-8A85-A85FF4B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6D2-F56E-4991-A6B2-E40B31C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1A50-B8FE-4A54-9AE4-7871863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79B8-D1C0-4757-BFF0-F568E01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68AC-17AF-49AB-970E-5CF6762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B4D8-FA04-4045-A75A-DEB8EA7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9B32-8714-42F0-8FF3-773D177B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A1B7-DAE8-4055-967D-14B7EAB8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9D0A-07A9-4C80-9C82-80427291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B5F-7CB0-4F25-BD2D-216B9AE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E38-2BFC-44A6-A694-01EC489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1DE-5A31-41C5-87FD-8203B65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0C6-511A-4E88-A6BE-88F2F82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BF3-9D7F-47D0-A832-D01C4C7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1E0-0532-426B-AFF1-5921171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0887-58C4-48F9-A9A7-94B8CC82C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8B7-A4AD-4D86-B3A5-9D930272E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07B-2166-4BB6-8879-D4C5713F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1788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81600" y="5778360"/>
            <a:ext cx="222408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190000" y="5776920"/>
            <a:ext cx="954000" cy="10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17080" y="373392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Laurent PROTIN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-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atrick BERENGUER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-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3160" y="5029200"/>
            <a:ext cx="55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k Network, Caen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rc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66760" y="178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209680" y="609480"/>
            <a:ext cx="4321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8696" t="27589" r="19604" b="18518"/>
          <a:stretch/>
        </p:blipFill>
        <p:spPr>
          <a:xfrm>
            <a:off x="179280" y="2278080"/>
            <a:ext cx="6624720" cy="3095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778800" y="2133720"/>
            <a:ext cx="2257200" cy="944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43000" y="4764240"/>
            <a:ext cx="1879560" cy="1689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06200" y="692280"/>
            <a:ext cx="3745080" cy="83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6084720" y="4869000"/>
            <a:ext cx="1533600" cy="1689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2627280" y="2205000"/>
            <a:ext cx="62388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8000" y="1797120"/>
            <a:ext cx="88930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October 2000, 24 projects were incubated. (+ 5 in pre-incubation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23510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% of incubated projects are issued from research laboratories and 50 %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linked with regional research cen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23510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35 technological partnerships with research laboratories and 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ent depos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23510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ation of about 80 graduated and post-graduated students in incubated projects as projects holders or as employe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cts between the world of research and enterpri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23510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of 15 enterprises and more than 50 highly qualified job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-73080" y="620640"/>
            <a:ext cx="67327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2340000" cy="12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1513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3024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1640" y="620640"/>
            <a:ext cx="777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3040" y="4356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23360" y="835560"/>
            <a:ext cx="733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roject period : 01 Sept 2002 – 01 March 2006   (40 mont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7000" y="1772280"/>
            <a:ext cx="767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o better understand the “good incubation practices” : what are the key services support that any incubator should provide ? Is there a « standard model » of service support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67000" y="3059640"/>
            <a:ext cx="74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8568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tting up of a “virtual business desk” (website) designed to provide all the information useful to an entrepreneur in each partner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67000" y="4366080"/>
            <a:ext cx="74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evelopment of a monitoring and evaluation system in order to assess the value added of the incubation process and more generally of incubato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2520" y="1773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82520" y="3068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82520" y="4376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4920" y="321300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urent Protin (Incubator Manag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(33) 231 56 69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in.incubateur@unicaen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trick Berenguer (Project Manag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(33) 231 56 69 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nguer.incubateur@unicaen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097080" cy="1909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1957320" cy="1981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03640" y="321300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rnix Morsink (Project Lea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us Business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(31) 655 15 04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morsink@roc-on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1788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5734080"/>
            <a:ext cx="222408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55080" y="5732640"/>
            <a:ext cx="95400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1773360"/>
            <a:ext cx="83883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 </a:t>
            </a: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Incubator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rovides services and hosting to entrepreun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32d45"/>
                </a:solidFill>
                <a:uFillTx/>
                <a:latin typeface="Tahoma"/>
              </a:rPr>
              <a:t>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.I.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supports only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technological and innovative projects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sued (or linked) to </a:t>
            </a: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the public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.I.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s focussing on entreprises </a:t>
            </a: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in the pre-star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star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3360" y="5229360"/>
            <a:ext cx="624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Tahoma"/>
              </a:rPr>
              <a:t>Normandie Incubation </a:t>
            </a:r>
            <a:r>
              <a:rPr b="0" i="1" lang="fr-FR" sz="1600" spc="-1" strike="noStrike">
                <a:solidFill>
                  <a:srgbClr val="3333cc"/>
                </a:solidFill>
                <a:latin typeface="Tahoma"/>
              </a:rPr>
              <a:t>is one of the 31 regional public incuba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cc"/>
                </a:solidFill>
                <a:latin typeface="Tahoma"/>
              </a:rPr>
              <a:t>selected by the </a:t>
            </a:r>
            <a:r>
              <a:rPr b="1" i="1" lang="fr-FR" sz="1600" spc="-1" strike="noStrike">
                <a:solidFill>
                  <a:srgbClr val="d32d45"/>
                </a:solidFill>
                <a:latin typeface="Tahoma"/>
              </a:rPr>
              <a:t>french research Ministry</a:t>
            </a:r>
            <a:r>
              <a:rPr b="0" i="1" lang="fr-FR" sz="1600" spc="-1" strike="noStrike">
                <a:solidFill>
                  <a:srgbClr val="3333cc"/>
                </a:solidFill>
                <a:latin typeface="Tahoma"/>
              </a:rPr>
              <a:t> in march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-36360" y="404640"/>
            <a:ext cx="6516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8000" y="2205000"/>
            <a:ext cx="87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1999-2000 :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 La loi sur l’Innov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ational measures from Research Ministry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o fo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reation of technological enterprises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cc183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860640"/>
            <a:ext cx="763272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National Challenge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for innovative entreprise projects 30 M€/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(Price : 45 k€ pre-starters to 450 k€ of grant for star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blic incubators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50 M€ of R.M. on the period 2000-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National seed capita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structures (200 M€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Biotechnology, Materials, ICT, Telecom and Med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7912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8920" y="1773360"/>
            <a:ext cx="8785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2004 :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“ Plan en faveur de l’Innov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New fiscal Status for “Young Innovative companies</a:t>
            </a:r>
            <a:r>
              <a:rPr b="0" lang="en-US" sz="1600" spc="-1" strike="noStrike">
                <a:solidFill>
                  <a:srgbClr val="d32d45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ondition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: budget R&amp;D &gt; 15 % of the globa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Taxes reduction : on salaries, on society benefits during 8 yea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fiscal Statu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for business an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2005 :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“ fusion of ANVAR &amp; SME’s ba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financial supports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o help the starting and growing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791240" cy="725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48840" y="595620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2005 :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    Creation of a regional seed capital (6 M€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vesments (seed capital) 50 to 450 k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457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268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founded in July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egal status : non profit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276640"/>
            <a:ext cx="8675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32d45"/>
                </a:solidFill>
                <a:latin typeface="Tahoma"/>
              </a:rPr>
              <a:t>Founding members</a:t>
            </a:r>
            <a:r>
              <a:rPr b="1" lang="fr-FR" sz="1500" spc="-1" strike="noStrike">
                <a:solidFill>
                  <a:srgbClr val="3333cc"/>
                </a:solidFill>
                <a:latin typeface="Tahoma"/>
              </a:rPr>
              <a:t> 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33cc"/>
                </a:solidFill>
                <a:latin typeface="Tahoma"/>
              </a:rPr>
              <a:t>University of Caen Basse-Normandie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33cc"/>
                </a:solidFill>
                <a:latin typeface="Tahoma"/>
              </a:rPr>
              <a:t>ENSICAEN (National and Superior Ingineering School of Caen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3333cc"/>
                </a:solidFill>
                <a:latin typeface="Tahoma"/>
              </a:rPr>
              <a:t>GANIL </a:t>
            </a: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fr-FR" sz="1400" spc="-1" strike="noStrike">
                <a:solidFill>
                  <a:srgbClr val="3333cc"/>
                </a:solidFill>
                <a:latin typeface="Tahoma"/>
              </a:rPr>
              <a:t>National Swift Heavy Ions Accelerator</a:t>
            </a: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43520"/>
            <a:ext cx="561636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ISPA (Advanced Institute of Plastur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ESITC (Engineering School of Building 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SUP’EUROPE (Normandie School of Managme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INTECHMER (Institut National des Techniques de la M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SMEL (Syndicat Mixte de l’Équipement du Litt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Laboratoire Frank Duncom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&gt; Centre CYCE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9966"/>
                </a:solidFill>
                <a:latin typeface="Tahoma"/>
              </a:rPr>
              <a:t>Philips Semi-conducteu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9966"/>
                </a:solidFill>
                <a:latin typeface="Tahoma"/>
              </a:rPr>
              <a:t>COGEMA de la H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66"/>
                </a:solidFill>
                <a:latin typeface="Tahoma"/>
              </a:rPr>
              <a:t>&gt;  Regional delegation of EDF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71180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371628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d32d45"/>
                </a:solidFill>
                <a:latin typeface="Tahoma"/>
              </a:rPr>
              <a:t>Member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5080" y="5967360"/>
            <a:ext cx="3419640" cy="703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25751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Important scient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nd technologic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0120" y="82872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ormandie Incu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7640" y="2133720"/>
            <a:ext cx="84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Administration boa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presentatives of the founder m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gan of decisions, excepted for the selection of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Selection committe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presentatives of regional socio-economical environment and experts (finance and innov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Steering committe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inancial and institutional partn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gan of conformity assessments and of prospective advi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2d45"/>
                </a:solidFill>
                <a:latin typeface="Tahoma"/>
              </a:rPr>
              <a:t>Juridic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cubation contract (incubator and pre-starte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ientific contract(s) (laboratory(ies) and pre-starter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osting agreement (member and pre-starter)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658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79640" y="981000"/>
            <a:ext cx="410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2d45"/>
                </a:solidFill>
                <a:latin typeface="Tahoma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64000" y="4941720"/>
            <a:ext cx="2232000" cy="1084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146232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348000" y="3933720"/>
            <a:ext cx="2160720" cy="647640"/>
            <a:chOff x="3348000" y="3933720"/>
            <a:chExt cx="2160720" cy="647640"/>
          </a:xfrm>
        </p:grpSpPr>
        <p:sp>
          <p:nvSpPr>
            <p:cNvPr id="163" name=""/>
            <p:cNvSpPr/>
            <p:nvPr/>
          </p:nvSpPr>
          <p:spPr>
            <a:xfrm>
              <a:off x="3348000" y="3933720"/>
              <a:ext cx="2160720" cy="647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6320" y="4059360"/>
              <a:ext cx="1526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7440" y="1700280"/>
            <a:ext cx="374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bou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550 k€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 ye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5 % runn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5 % projects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2880" y="3071880"/>
            <a:ext cx="20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32d45"/>
                </a:solidFill>
                <a:latin typeface="Tahoma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54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00" y="-360"/>
            <a:ext cx="295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1480" y="445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443640" y="4581360"/>
          <a:ext cx="2016000" cy="148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4581360"/>
                    <a:ext cx="201600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1788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1280" y="2709720"/>
            <a:ext cx="73818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Confidential diagnosis of technico-economic fea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Project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Entrepreneur ho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Access to scientific and technic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Help with the constitution of a “project te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Support budget for feasibility studies (45 k€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Support and adv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080" y="220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c96c"/>
                </a:solidFill>
                <a:latin typeface="Arial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63640" y="5805360"/>
            <a:ext cx="5041800" cy="98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4920" y="2637000"/>
            <a:ext cx="140652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-36360" y="907920"/>
            <a:ext cx="54003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638680" y="1752480"/>
            <a:ext cx="2057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1788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36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2852640"/>
            <a:ext cx="561672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Broker function with institutional and      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busine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Formation of the entrepren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Help in the search of finan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Market and marketing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Juridical and industrial property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687bd"/>
              </a:buClr>
              <a:buFont typeface="Tahom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4687bd"/>
                </a:solidFill>
                <a:latin typeface="Tahoma"/>
              </a:rPr>
              <a:t>Help with the creation of a busin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5640" y="217980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c96c"/>
                </a:solidFill>
                <a:latin typeface="Arial"/>
              </a:rPr>
              <a:t>In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63640" y="5805360"/>
            <a:ext cx="5041800" cy="981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4920" y="2637000"/>
            <a:ext cx="140652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-36360" y="907920"/>
            <a:ext cx="54003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2:39:12Z</dcterms:created>
  <dc:creator>Accueil</dc:creator>
  <dc:description/>
  <dc:language>en-US</dc:language>
  <cp:lastModifiedBy>Patrick</cp:lastModifiedBy>
  <cp:lastPrinted>2003-10-08T14:05:35Z</cp:lastPrinted>
  <dcterms:modified xsi:type="dcterms:W3CDTF">2005-03-17T09:46:44Z</dcterms:modified>
  <cp:revision>189</cp:revision>
  <dc:subject/>
  <dc:title>Aucun titre de diapositive</dc:title>
</cp:coreProperties>
</file>