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8837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3720" y="3491280"/>
            <a:ext cx="8837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372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16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720" y="114300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300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3720" y="349128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720" y="349128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49128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372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16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3720" y="3491280"/>
            <a:ext cx="8837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8837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3720" y="3491280"/>
            <a:ext cx="8837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372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16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720" y="114300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14300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3720" y="349128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720" y="349128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491280"/>
            <a:ext cx="2845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372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160" y="349128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160" y="1143000"/>
            <a:ext cx="4312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3720" y="3491280"/>
            <a:ext cx="8837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solidFill>
            <a:srgbClr val="006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66680"/>
            <a:ext cx="9144000" cy="4572000"/>
          </a:xfrm>
          <a:prstGeom prst="rect">
            <a:avLst/>
          </a:prstGeom>
          <a:solidFill>
            <a:srgbClr val="fec4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1500"/>
              </a:spcBef>
              <a:buClr>
                <a:srgbClr val="f3520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2" marL="1366920" indent="-33516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3" marL="1824120" indent="-343080">
              <a:spcBef>
                <a:spcPts val="1500"/>
              </a:spcBef>
              <a:buClr>
                <a:srgbClr val="f35205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4" marL="2286000" indent="-347760">
              <a:spcBef>
                <a:spcPts val="1500"/>
              </a:spcBef>
              <a:buClr>
                <a:srgbClr val="f3520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5" marL="2286000" indent="-34776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6" marL="2286000" indent="-34776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5562720"/>
            <a:ext cx="2590920" cy="138888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solidFill>
            <a:srgbClr val="006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ondernemersch_met_quadri" descr=""/>
          <p:cNvPicPr/>
          <p:nvPr/>
        </p:nvPicPr>
        <p:blipFill>
          <a:blip r:embed="rId2"/>
          <a:stretch/>
        </p:blipFill>
        <p:spPr>
          <a:xfrm>
            <a:off x="152280" y="5545080"/>
            <a:ext cx="2590920" cy="1389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lvl="2" marL="914400" indent="117360" algn="ctr">
              <a:spcBef>
                <a:spcPts val="300"/>
              </a:spcBef>
              <a:buClr>
                <a:srgbClr val="f35205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374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6374"/>
              </a:solidFill>
              <a:latin typeface="Verdana"/>
            </a:endParaRPr>
          </a:p>
          <a:p>
            <a:pPr lvl="3" marL="1366920" indent="114120" algn="ctr">
              <a:spcBef>
                <a:spcPts val="264"/>
              </a:spcBef>
              <a:buClr>
                <a:srgbClr val="f35205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374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6374"/>
              </a:solidFill>
              <a:latin typeface="Verdana"/>
            </a:endParaRPr>
          </a:p>
          <a:p>
            <a:pPr lvl="4" marL="1824120" indent="114120" algn="ctr">
              <a:spcBef>
                <a:spcPts val="264"/>
              </a:spcBef>
              <a:buClr>
                <a:srgbClr val="f35205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374"/>
                </a:solidFill>
                <a:latin typeface="Interstate-Regular"/>
              </a:rPr>
              <a:t>Fifth Outline Level</a:t>
            </a:r>
            <a:endParaRPr b="0" lang="en-US" sz="1400" spc="-1" strike="noStrike">
              <a:solidFill>
                <a:srgbClr val="006374"/>
              </a:solidFill>
              <a:latin typeface="Interstate-Regular"/>
            </a:endParaRPr>
          </a:p>
          <a:p>
            <a:pPr lvl="5" marL="1824120" indent="11412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374"/>
                </a:solidFill>
                <a:latin typeface="Interstate-Regular"/>
              </a:rPr>
              <a:t>Sixth Outline Level</a:t>
            </a:r>
            <a:endParaRPr b="0" lang="en-US" sz="1400" spc="-1" strike="noStrike">
              <a:solidFill>
                <a:srgbClr val="006374"/>
              </a:solidFill>
              <a:latin typeface="Interstate-Regular"/>
            </a:endParaRPr>
          </a:p>
          <a:p>
            <a:pPr lvl="6" marL="1824120" indent="11412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374"/>
                </a:solidFill>
                <a:latin typeface="Interstate-Regular"/>
              </a:rPr>
              <a:t>Seventh Outline Level</a:t>
            </a:r>
            <a:endParaRPr b="0" lang="en-US" sz="1400" spc="-1" strike="noStrike">
              <a:solidFill>
                <a:srgbClr val="006374"/>
              </a:solidFill>
              <a:latin typeface="Interstate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486240"/>
            <a:ext cx="83822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Verdana"/>
              </a:rPr>
              <a:t>Alternative Forms of Financing for Spin-out Compan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4400" y="1752120"/>
            <a:ext cx="8769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Verdana"/>
              </a:rPr>
              <a:t>Bart Clarys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alisation of the Spin-out Polic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1219320"/>
          <a:ext cx="7772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772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Starting Criteria Incubator Mod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1219320"/>
          <a:ext cx="13563360" cy="68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13563360" cy="68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522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sults?</a:t>
            </a: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96920" y="1371600"/>
          <a:ext cx="67518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371600"/>
                    <a:ext cx="6751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c6"/>
                </a:solidFill>
                <a:latin typeface="Verdana"/>
              </a:rPr>
              <a:t>-Incubator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a04"/>
                </a:solidFill>
                <a:latin typeface="Verdana"/>
              </a:rPr>
              <a:t>-Supportive Model</a:t>
            </a: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c6"/>
                </a:solidFill>
                <a:latin typeface="Verdana"/>
              </a:rPr>
              <a:t>-Self Selective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79" name=""/>
          <p:cNvSpPr/>
          <p:nvPr/>
        </p:nvSpPr>
        <p:spPr>
          <a:xfrm>
            <a:off x="383760" y="228600"/>
            <a:ext cx="9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Three reference models were distinguished...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228600"/>
            <a:ext cx="71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Supportive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990720"/>
            <a:ext cx="769608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Project approach to working with potential entrepreneurial cases; intensive coaching</a:t>
            </a:r>
            <a:endParaRPr b="0" lang="en-US" sz="18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RIs TT critical mass c.20 multidisciplinary team with commercial experience &amp; contacts with public/private funds and local experts (e.g. surrogates)</a:t>
            </a:r>
            <a:endParaRPr b="0" lang="en-US" sz="18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Large no. of researchers in limited no. of tech domains (184 researchers per TTO)</a:t>
            </a:r>
            <a:endParaRPr b="0" lang="en-US" sz="18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RI TT has control over triggers to motivate professors to spin-out</a:t>
            </a:r>
            <a:endParaRPr b="0" lang="en-US" sz="18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Moderate no. of Prospectors, few transitional start-ups</a:t>
            </a:r>
            <a:endParaRPr b="0" lang="en-US" sz="18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terstate-Regular"/>
              </a:rPr>
              <a:t>Create economically viable companies that stay in region; make environment attractive; create contract research spillovers; more employment per firm than low selective</a:t>
            </a:r>
            <a:endParaRPr b="0" lang="en-US" sz="18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Starting Criteria Supportive Mod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90720" y="1219320"/>
          <a:ext cx="13563360" cy="68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13563360" cy="68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blic Private Partnerships to fund (Eg Flanders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523880" y="1600200"/>
            <a:ext cx="5105520" cy="3505320"/>
            <a:chOff x="1523880" y="1600200"/>
            <a:chExt cx="5105520" cy="3505320"/>
          </a:xfrm>
        </p:grpSpPr>
        <p:grpSp>
          <p:nvGrpSpPr>
            <p:cNvPr id="288" name=""/>
            <p:cNvGrpSpPr/>
            <p:nvPr/>
          </p:nvGrpSpPr>
          <p:grpSpPr>
            <a:xfrm>
              <a:off x="1541520" y="1619640"/>
              <a:ext cx="4035600" cy="2844720"/>
              <a:chOff x="1541520" y="1619640"/>
              <a:chExt cx="4035600" cy="284472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2905200" y="2315880"/>
                <a:ext cx="2671920" cy="2148480"/>
                <a:chOff x="2905200" y="2315880"/>
                <a:chExt cx="2671920" cy="2148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310920" y="2524680"/>
                  <a:ext cx="1872720" cy="190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8" y="0"/>
                      </a:moveTo>
                      <a:arcTo wR="10800" hR="10800" stAng="-5432329" swAng="165069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8" y="0"/>
                      </a:moveTo>
                      <a:arcTo wR="10800" hR="10800" stAng="-5432329" swAng="16506979"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312720" y="2525760"/>
                  <a:ext cx="187092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" y="9938"/>
                      </a:moveTo>
                      <a:arcTo wR="10800" hR="10800" stAng="-10525350" swAng="42752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" y="9938"/>
                      </a:moveTo>
                      <a:arcTo wR="10800" hR="10800" stAng="-10525350" swAng="4275287"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313080" y="2526120"/>
                  <a:ext cx="1870200" cy="190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57" y="328"/>
                      </a:moveTo>
                      <a:arcTo wR="10800" hR="10800" stAng="-6250063" swAng="817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57" y="328"/>
                      </a:moveTo>
                      <a:arcTo wR="10800" hR="10800" stAng="-6250063" swAng="817734"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4239360" y="2524320"/>
                  <a:ext cx="1440" cy="944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063320" y="2405160"/>
                  <a:ext cx="73440" cy="12708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7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246920" y="244980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913280" y="4250880"/>
                  <a:ext cx="663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76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905200" y="2628000"/>
                  <a:ext cx="663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20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546720" y="2315880"/>
                  <a:ext cx="5616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4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781800" y="1619640"/>
                <a:ext cx="165240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0240" y="1665720"/>
                <a:ext cx="1279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Starterslening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98360" y="1882440"/>
                <a:ext cx="1536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participatiefonds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4105080" y="2158920"/>
                <a:ext cx="88920" cy="538560"/>
                <a:chOff x="4105080" y="2158920"/>
                <a:chExt cx="88920" cy="53856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4144320" y="2158920"/>
                  <a:ext cx="49680" cy="46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05080" y="2617200"/>
                  <a:ext cx="77040" cy="80280"/>
                </a:xfrm>
                <a:custGeom>
                  <a:avLst/>
                  <a:gdLst/>
                  <a:ahLst/>
                  <a:rect l="l" t="t" r="r" b="b"/>
                  <a:pathLst>
                    <a:path w="106" h="109">
                      <a:moveTo>
                        <a:pt x="0" y="0"/>
                      </a:moveTo>
                      <a:lnTo>
                        <a:pt x="42" y="109"/>
                      </a:lnTo>
                      <a:lnTo>
                        <a:pt x="106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541520" y="2818080"/>
                <a:ext cx="112212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05960" y="2862720"/>
                <a:ext cx="40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IWT-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13120" y="2862720"/>
                <a:ext cx="563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lening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12080" y="307944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of 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98920" y="3079440"/>
                <a:ext cx="735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subsidie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2838240" y="3079440"/>
                <a:ext cx="883800" cy="79200"/>
                <a:chOff x="2838240" y="3079440"/>
                <a:chExt cx="883800" cy="792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838240" y="3118320"/>
                  <a:ext cx="810720" cy="1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46080" y="3079440"/>
                  <a:ext cx="75960" cy="79200"/>
                </a:xfrm>
                <a:custGeom>
                  <a:avLst/>
                  <a:gdLst/>
                  <a:ahLst/>
                  <a:rect l="l" t="t" r="r" b="b"/>
                  <a:pathLst>
                    <a:path w="103" h="105">
                      <a:moveTo>
                        <a:pt x="0" y="105"/>
                      </a:moveTo>
                      <a:lnTo>
                        <a:pt x="103" y="52"/>
                      </a:lnTo>
                      <a:lnTo>
                        <a:pt x="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</p:grpSp>
        <p:sp>
          <p:nvSpPr>
            <p:cNvPr id="313" name=""/>
            <p:cNvSpPr/>
            <p:nvPr/>
          </p:nvSpPr>
          <p:spPr>
            <a:xfrm>
              <a:off x="1531080" y="160920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31080" y="1609200"/>
              <a:ext cx="8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31080" y="160920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31080" y="160920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1080" y="1609200"/>
              <a:ext cx="8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31080" y="160920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9720" y="1609200"/>
              <a:ext cx="50774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39720" y="1609200"/>
              <a:ext cx="507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17160" y="160920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17160" y="160920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17160" y="160920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17160" y="160920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17160" y="160920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17160" y="160920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31080" y="1617840"/>
              <a:ext cx="8640" cy="346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31080" y="1617840"/>
              <a:ext cx="1080" cy="346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17160" y="1617840"/>
              <a:ext cx="8640" cy="346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17160" y="1617840"/>
              <a:ext cx="1440" cy="346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1080" y="508608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31080" y="5086080"/>
              <a:ext cx="8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31080" y="508608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31080" y="508608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31080" y="5086080"/>
              <a:ext cx="8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31080" y="508608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39720" y="5086080"/>
              <a:ext cx="50774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39720" y="5086080"/>
              <a:ext cx="5077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17160" y="508608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17160" y="508608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17160" y="508608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17160" y="5086080"/>
              <a:ext cx="8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17160" y="508608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17160" y="508608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23880" y="1600200"/>
              <a:ext cx="5105520" cy="350532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rman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523880" y="1143000"/>
            <a:ext cx="6324480" cy="4114440"/>
            <a:chOff x="1523880" y="1143000"/>
            <a:chExt cx="6324480" cy="4114440"/>
          </a:xfrm>
        </p:grpSpPr>
        <p:grpSp>
          <p:nvGrpSpPr>
            <p:cNvPr id="348" name=""/>
            <p:cNvGrpSpPr/>
            <p:nvPr/>
          </p:nvGrpSpPr>
          <p:grpSpPr>
            <a:xfrm>
              <a:off x="2228040" y="1172880"/>
              <a:ext cx="5593680" cy="3535200"/>
              <a:chOff x="2228040" y="1172880"/>
              <a:chExt cx="5593680" cy="35352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611440" y="1749240"/>
                <a:ext cx="3332160" cy="2958840"/>
                <a:chOff x="2611440" y="1749240"/>
                <a:chExt cx="3332160" cy="29588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184200" y="2073600"/>
                  <a:ext cx="2164320" cy="235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809" swAng="43126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809" swAng="4312637"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83840" y="2072160"/>
                  <a:ext cx="2165400" cy="235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039" y="7364"/>
                      </a:moveTo>
                      <a:arcTo wR="10800" hR="10800" stAng="-1113171" swAng="10871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039" y="7364"/>
                      </a:moveTo>
                      <a:arcTo wR="10800" hR="10800" stAng="-1113171" swAng="1087165"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183840" y="2074320"/>
                  <a:ext cx="2165400" cy="235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18"/>
                      </a:moveTo>
                      <a:arcTo wR="10800" hR="10800" stAng="-26006" swAng="32748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18"/>
                      </a:moveTo>
                      <a:arcTo wR="10800" hR="10800" stAng="-26006" swAng="3274864"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183120" y="2073600"/>
                  <a:ext cx="2165760" cy="235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26" y="19554"/>
                      </a:moveTo>
                      <a:arcTo wR="10800" hR="10800" stAng="3248858" swAng="6273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26" y="19554"/>
                      </a:moveTo>
                      <a:arcTo wR="10800" hR="10800" stAng="3248858" swAng="6273860"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183840" y="2073240"/>
                  <a:ext cx="2164680" cy="235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37" y="14721"/>
                      </a:moveTo>
                      <a:arcTo wR="10800" hR="10800" stAng="9522718" swAng="62421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37" y="14721"/>
                      </a:moveTo>
                      <a:arcTo wR="10800" hR="10800" stAng="9522718" swAng="6242119"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188520" y="2073600"/>
                  <a:ext cx="2155320" cy="235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437" y="86"/>
                      </a:moveTo>
                      <a:arcTo wR="10800" hR="10800" stAng="-5835163" swAng="409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437" y="86"/>
                      </a:moveTo>
                      <a:arcTo wR="10800" hR="10800" stAng="-5835163" swAng="409354"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29480" y="1983960"/>
                  <a:ext cx="663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20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382000" y="2917080"/>
                  <a:ext cx="5616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5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71120" y="3793320"/>
                  <a:ext cx="663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15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303360" y="4494600"/>
                  <a:ext cx="663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29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11440" y="2428560"/>
                  <a:ext cx="663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29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838680" y="1749240"/>
                  <a:ext cx="5616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Interstate-Regular"/>
                    </a:rPr>
                    <a:t>20.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3795480" y="1172880"/>
                <a:ext cx="122904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80080" y="1234080"/>
                <a:ext cx="425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Exist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46200" y="1989720"/>
                <a:ext cx="177552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24320" y="2047680"/>
                <a:ext cx="76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R&amp;D-sub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24320" y="2313000"/>
                <a:ext cx="61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85880" y="2313000"/>
                <a:ext cx="62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Länder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28840" y="2313000"/>
                <a:ext cx="73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867720" y="2313000"/>
                <a:ext cx="74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federaal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17960" y="2313000"/>
                <a:ext cx="61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886640" y="2286720"/>
                <a:ext cx="885240" cy="380520"/>
                <a:chOff x="4886640" y="2286720"/>
                <a:chExt cx="885240" cy="380520"/>
              </a:xfrm>
            </p:grpSpPr>
            <p:sp>
              <p:nvSpPr>
                <p:cNvPr id="372" name=""/>
                <p:cNvSpPr/>
                <p:nvPr/>
              </p:nvSpPr>
              <p:spPr>
                <a:xfrm flipH="1">
                  <a:off x="4965840" y="2286720"/>
                  <a:ext cx="806040" cy="337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886640" y="2577960"/>
                  <a:ext cx="99000" cy="89280"/>
                </a:xfrm>
                <a:custGeom>
                  <a:avLst/>
                  <a:gdLst/>
                  <a:ahLst/>
                  <a:rect l="l" t="t" r="r" b="b"/>
                  <a:pathLst>
                    <a:path w="121" h="104">
                      <a:moveTo>
                        <a:pt x="83" y="0"/>
                      </a:moveTo>
                      <a:lnTo>
                        <a:pt x="0" y="92"/>
                      </a:lnTo>
                      <a:lnTo>
                        <a:pt x="121" y="10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159440" y="1543680"/>
                <a:ext cx="88920" cy="595080"/>
                <a:chOff x="4159440" y="1543680"/>
                <a:chExt cx="88920" cy="5950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204800" y="1543680"/>
                  <a:ext cx="1440" cy="502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59440" y="2042280"/>
                  <a:ext cx="88920" cy="96480"/>
                </a:xfrm>
                <a:custGeom>
                  <a:avLst/>
                  <a:gdLst/>
                  <a:ahLst/>
                  <a:rect l="l" t="t" r="r" b="b"/>
                  <a:pathLst>
                    <a:path w="110" h="109">
                      <a:moveTo>
                        <a:pt x="0" y="0"/>
                      </a:moveTo>
                      <a:lnTo>
                        <a:pt x="56" y="109"/>
                      </a:lnTo>
                      <a:lnTo>
                        <a:pt x="1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6387840" y="3029400"/>
                <a:ext cx="14338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64160" y="3085560"/>
                <a:ext cx="334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DtA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36400" y="3085560"/>
                <a:ext cx="5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870600" y="3085560"/>
                <a:ext cx="828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Startgeld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4955040" y="3128040"/>
                <a:ext cx="1158840" cy="96120"/>
                <a:chOff x="4955040" y="3128040"/>
                <a:chExt cx="1158840" cy="96120"/>
              </a:xfrm>
            </p:grpSpPr>
            <p:sp>
              <p:nvSpPr>
                <p:cNvPr id="382" name=""/>
                <p:cNvSpPr/>
                <p:nvPr/>
              </p:nvSpPr>
              <p:spPr>
                <a:xfrm flipH="1">
                  <a:off x="5041080" y="3177000"/>
                  <a:ext cx="107280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55040" y="3128040"/>
                  <a:ext cx="87480" cy="96120"/>
                </a:xfrm>
                <a:custGeom>
                  <a:avLst/>
                  <a:gdLst/>
                  <a:ahLst/>
                  <a:rect l="l" t="t" r="r" b="b"/>
                  <a:pathLst>
                    <a:path w="109" h="111">
                      <a:moveTo>
                        <a:pt x="109" y="0"/>
                      </a:moveTo>
                      <a:lnTo>
                        <a:pt x="0" y="56"/>
                      </a:lnTo>
                      <a:lnTo>
                        <a:pt x="109" y="11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6251040" y="3697200"/>
                <a:ext cx="1502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36720" y="3751920"/>
                <a:ext cx="41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BTU-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307560" y="4022280"/>
                <a:ext cx="106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Frühphasen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4955040" y="3647880"/>
                <a:ext cx="1090440" cy="96120"/>
                <a:chOff x="4955040" y="3647880"/>
                <a:chExt cx="1090440" cy="96120"/>
              </a:xfrm>
            </p:grpSpPr>
            <p:sp>
              <p:nvSpPr>
                <p:cNvPr id="388" name=""/>
                <p:cNvSpPr/>
                <p:nvPr/>
              </p:nvSpPr>
              <p:spPr>
                <a:xfrm flipH="1">
                  <a:off x="5040720" y="3696840"/>
                  <a:ext cx="100476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955040" y="3647880"/>
                  <a:ext cx="87480" cy="96120"/>
                </a:xfrm>
                <a:custGeom>
                  <a:avLst/>
                  <a:gdLst/>
                  <a:ahLst/>
                  <a:rect l="l" t="t" r="r" b="b"/>
                  <a:pathLst>
                    <a:path w="109" h="111">
                      <a:moveTo>
                        <a:pt x="109" y="0"/>
                      </a:moveTo>
                      <a:lnTo>
                        <a:pt x="0" y="57"/>
                      </a:lnTo>
                      <a:lnTo>
                        <a:pt x="109" y="11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2228040" y="4141800"/>
                <a:ext cx="115920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314440" y="419616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Interstate-Regular"/>
                  </a:rPr>
                  <a:t>TbG</a:t>
                </a:r>
                <a:endParaRPr b="0" lang="en-US" sz="1400" spc="-1" strike="noStrike">
                  <a:solidFill>
                    <a:srgbClr val="000000"/>
                  </a:solidFill>
                  <a:latin typeface="Interstate-Regular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3114000" y="3843000"/>
                <a:ext cx="885600" cy="446760"/>
                <a:chOff x="3114000" y="3843000"/>
                <a:chExt cx="885600" cy="446760"/>
              </a:xfrm>
            </p:grpSpPr>
            <p:sp>
              <p:nvSpPr>
                <p:cNvPr id="393" name=""/>
                <p:cNvSpPr/>
                <p:nvPr/>
              </p:nvSpPr>
              <p:spPr>
                <a:xfrm flipV="1">
                  <a:off x="3114000" y="3884760"/>
                  <a:ext cx="809280" cy="405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902400" y="3843000"/>
                  <a:ext cx="97200" cy="87480"/>
                </a:xfrm>
                <a:custGeom>
                  <a:avLst/>
                  <a:gdLst/>
                  <a:ahLst/>
                  <a:rect l="l" t="t" r="r" b="b"/>
                  <a:pathLst>
                    <a:path w="121" h="101">
                      <a:moveTo>
                        <a:pt x="46" y="101"/>
                      </a:moveTo>
                      <a:lnTo>
                        <a:pt x="121" y="4"/>
                      </a:lnTo>
                      <a:lnTo>
                        <a:pt x="0" y="0"/>
                      </a:lnTo>
                      <a:lnTo>
                        <a:pt x="4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nterstate-Regular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1531800" y="1153440"/>
              <a:ext cx="11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1800" y="115344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1800" y="1153440"/>
              <a:ext cx="1800" cy="1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31800" y="1153440"/>
              <a:ext cx="11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31800" y="115344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31800" y="1153440"/>
              <a:ext cx="1800" cy="1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43320" y="1153440"/>
              <a:ext cx="6280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43320" y="1153440"/>
              <a:ext cx="628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24240" y="1153440"/>
              <a:ext cx="93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24240" y="11534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24240" y="1153440"/>
              <a:ext cx="1440" cy="1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24240" y="1153440"/>
              <a:ext cx="93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24240" y="11534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24240" y="1153440"/>
              <a:ext cx="1440" cy="1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31800" y="1163880"/>
              <a:ext cx="11160" cy="407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31800" y="1163880"/>
              <a:ext cx="1800" cy="407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24240" y="1163880"/>
              <a:ext cx="9360" cy="407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24240" y="1163880"/>
              <a:ext cx="1440" cy="407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31800" y="5234400"/>
              <a:ext cx="11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31800" y="5234400"/>
              <a:ext cx="11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1800" y="523440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31800" y="5234400"/>
              <a:ext cx="11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31800" y="5234400"/>
              <a:ext cx="11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31800" y="523440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43320" y="5234400"/>
              <a:ext cx="62809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43320" y="5234400"/>
              <a:ext cx="628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24240" y="5234400"/>
              <a:ext cx="9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24240" y="523440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24240" y="5234400"/>
              <a:ext cx="144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24240" y="5234400"/>
              <a:ext cx="9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24240" y="523440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4240" y="5234400"/>
              <a:ext cx="144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23880" y="1143000"/>
              <a:ext cx="6324480" cy="4114440"/>
            </a:xfrm>
            <a:prstGeom prst="rect">
              <a:avLst/>
            </a:prstGeom>
            <a:noFill/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828800" y="1468440"/>
          <a:ext cx="502920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68440"/>
                    <a:ext cx="5029200" cy="3603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3808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c6"/>
                </a:solidFill>
                <a:latin typeface="Verdana"/>
              </a:rPr>
              <a:t>-Incubator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-Supportive Model</a:t>
            </a: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a04"/>
                </a:solidFill>
                <a:latin typeface="Verdana"/>
              </a:rPr>
              <a:t>-Self Selective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432" name=""/>
          <p:cNvSpPr/>
          <p:nvPr/>
        </p:nvSpPr>
        <p:spPr>
          <a:xfrm>
            <a:off x="383760" y="228600"/>
            <a:ext cx="9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Three reference models were distinguished...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ternative Forms of Financing for Spin-out Compan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Spin outs in the universe of Innovative Start-ups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Match between Research Institute and Spin-out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incubator model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protective model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self selective model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Conclusions + Results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21480" y="30492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Self Selective Model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1752480"/>
            <a:ext cx="769644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Mostly transitional start-ups (see previous), some product start-ups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Service &amp; consulting companies; not high returns;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RIs small in relation to no. of researchers but have skills to stimulate entrepreneurial climate (396 researchers per TTO)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Large no. SOs (20-30 pa.)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Low capitalization; life-style; less developed management; local markets; low growth but high job creation in TOTA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s + Resul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3600" y="22860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Overview of the activitie of TTOs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85800" y="1176480"/>
          <a:ext cx="7696080" cy="446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76480"/>
                    <a:ext cx="7696080" cy="44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0" name="paint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04920" y="9907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Growth of Innovative Starters in Terms of Employmen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042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 in Comparison with expectations?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676520" y="1389240"/>
          <a:ext cx="6172200" cy="38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89240"/>
                    <a:ext cx="61722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380880"/>
            <a:ext cx="9144000" cy="5715000"/>
            <a:chOff x="0" y="380880"/>
            <a:chExt cx="9144000" cy="5715000"/>
          </a:xfrm>
        </p:grpSpPr>
        <p:sp>
          <p:nvSpPr>
            <p:cNvPr id="88" name=""/>
            <p:cNvSpPr/>
            <p:nvPr/>
          </p:nvSpPr>
          <p:spPr>
            <a:xfrm>
              <a:off x="7315200" y="52207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86400" y="52207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/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52207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52207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2207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Hired Guns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20984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20984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20984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20984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0984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0" y="34956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34956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7600" y="34956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8800" y="34956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4956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56581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608720"/>
              <a:ext cx="18288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Management Experience 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244400"/>
              <a:ext cx="182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Sector Exper.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844800"/>
              <a:ext cx="1828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Founders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31464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Risk Capital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7972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Debt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4764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17492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Innovativity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39968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05012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NPD-Fase 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80880"/>
              <a:ext cx="182880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56581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56581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56581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5658120"/>
              <a:ext cx="18288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4608720"/>
              <a:ext cx="18288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4608720"/>
              <a:ext cx="18288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57600" y="4608720"/>
              <a:ext cx="18288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4608720"/>
              <a:ext cx="18288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/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15200" y="4244400"/>
              <a:ext cx="182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4244400"/>
              <a:ext cx="182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4244400"/>
              <a:ext cx="182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4244400"/>
              <a:ext cx="182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/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5200" y="3844800"/>
              <a:ext cx="1828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1 – 2</a:t>
              </a:r>
              <a:r>
                <a:rPr b="0" lang="en-US" sz="1800" spc="-1" strike="noStrike">
                  <a:solidFill>
                    <a:srgbClr val="f00a04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3844800"/>
              <a:ext cx="1828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1 - 2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3844800"/>
              <a:ext cx="1828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2-3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8800" y="3844800"/>
              <a:ext cx="1828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3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31464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86400" y="31464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/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31464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8800" y="31464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27972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400" y="27972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Medium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27972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Medium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8800" y="279720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244764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Minimum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86400" y="244764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Medium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244764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Little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244764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Much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17492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17492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17492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+/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8800" y="174924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39968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39968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139968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- / 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399680"/>
              <a:ext cx="1828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105012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105012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a04"/>
                  </a:solidFill>
                  <a:latin typeface="Verdana"/>
                </a:rPr>
                <a:t>Late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7600" y="105012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Early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1050120"/>
              <a:ext cx="18288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374"/>
                  </a:solidFill>
                  <a:latin typeface="Verdana"/>
                </a:rPr>
                <a:t>Early</a:t>
              </a:r>
              <a:endParaRPr b="0" lang="en-US" sz="18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80880"/>
              <a:ext cx="182880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Transitionele Start-Ups</a:t>
              </a:r>
              <a:endParaRPr b="0" lang="en-US" sz="20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6400" y="380880"/>
              <a:ext cx="182880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Product Start-Ups</a:t>
              </a:r>
              <a:endParaRPr b="0" lang="en-US" sz="20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7600" y="380880"/>
              <a:ext cx="182880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Prospectors</a:t>
              </a:r>
              <a:endParaRPr b="0" lang="en-US" sz="20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380880"/>
              <a:ext cx="182880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VC-Backed Start-ups</a:t>
              </a:r>
              <a:endParaRPr b="0" lang="en-US" sz="20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808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10501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13996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7492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0984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27972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146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4956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244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4608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220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8088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57600" y="38088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6400" y="38088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38088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0" y="380880"/>
              <a:ext cx="0" cy="571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3808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800" y="380880"/>
              <a:ext cx="0" cy="571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38448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24476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6581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nterstate-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306360" y="1066680"/>
            <a:ext cx="8837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214280"/>
            <a:ext cx="7950240" cy="3962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3" name=""/>
          <p:cNvSpPr/>
          <p:nvPr/>
        </p:nvSpPr>
        <p:spPr>
          <a:xfrm>
            <a:off x="1090440" y="1511280"/>
            <a:ext cx="4954680" cy="308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4" name=""/>
          <p:cNvSpPr/>
          <p:nvPr/>
        </p:nvSpPr>
        <p:spPr>
          <a:xfrm>
            <a:off x="1090440" y="421488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5" name=""/>
          <p:cNvSpPr/>
          <p:nvPr/>
        </p:nvSpPr>
        <p:spPr>
          <a:xfrm>
            <a:off x="1090440" y="383220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343548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7" name=""/>
          <p:cNvSpPr/>
          <p:nvPr/>
        </p:nvSpPr>
        <p:spPr>
          <a:xfrm>
            <a:off x="1090440" y="3054240"/>
            <a:ext cx="495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8" name=""/>
          <p:cNvSpPr/>
          <p:nvPr/>
        </p:nvSpPr>
        <p:spPr>
          <a:xfrm>
            <a:off x="1090440" y="267192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89" name=""/>
          <p:cNvSpPr/>
          <p:nvPr/>
        </p:nvSpPr>
        <p:spPr>
          <a:xfrm>
            <a:off x="1090440" y="228924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0" name=""/>
          <p:cNvSpPr/>
          <p:nvPr/>
        </p:nvSpPr>
        <p:spPr>
          <a:xfrm>
            <a:off x="1090440" y="189396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1" name=""/>
          <p:cNvSpPr/>
          <p:nvPr/>
        </p:nvSpPr>
        <p:spPr>
          <a:xfrm>
            <a:off x="1090440" y="1511280"/>
            <a:ext cx="495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2" name=""/>
          <p:cNvSpPr/>
          <p:nvPr/>
        </p:nvSpPr>
        <p:spPr>
          <a:xfrm>
            <a:off x="1090440" y="1511280"/>
            <a:ext cx="4954680" cy="3084480"/>
          </a:xfrm>
          <a:prstGeom prst="rect">
            <a:avLst/>
          </a:prstGeom>
          <a:noFill/>
          <a:ln cap="rnd" w="176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3" name=""/>
          <p:cNvSpPr/>
          <p:nvPr/>
        </p:nvSpPr>
        <p:spPr>
          <a:xfrm>
            <a:off x="1438200" y="4327560"/>
            <a:ext cx="466920" cy="268200"/>
          </a:xfrm>
          <a:prstGeom prst="rect">
            <a:avLst/>
          </a:prstGeom>
          <a:solidFill>
            <a:srgbClr val="9999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4" name=""/>
          <p:cNvSpPr/>
          <p:nvPr/>
        </p:nvSpPr>
        <p:spPr>
          <a:xfrm>
            <a:off x="3083040" y="4016520"/>
            <a:ext cx="485640" cy="579240"/>
          </a:xfrm>
          <a:prstGeom prst="rect">
            <a:avLst/>
          </a:prstGeom>
          <a:solidFill>
            <a:srgbClr val="9999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5" name=""/>
          <p:cNvSpPr/>
          <p:nvPr/>
        </p:nvSpPr>
        <p:spPr>
          <a:xfrm>
            <a:off x="4746600" y="3746520"/>
            <a:ext cx="466920" cy="849240"/>
          </a:xfrm>
          <a:prstGeom prst="rect">
            <a:avLst/>
          </a:prstGeom>
          <a:solidFill>
            <a:srgbClr val="9999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2898720"/>
            <a:ext cx="468360" cy="1697040"/>
          </a:xfrm>
          <a:prstGeom prst="rect">
            <a:avLst/>
          </a:prstGeom>
          <a:solidFill>
            <a:srgbClr val="993366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7" name=""/>
          <p:cNvSpPr/>
          <p:nvPr/>
        </p:nvSpPr>
        <p:spPr>
          <a:xfrm>
            <a:off x="3568680" y="3789360"/>
            <a:ext cx="466920" cy="806400"/>
          </a:xfrm>
          <a:prstGeom prst="rect">
            <a:avLst/>
          </a:prstGeom>
          <a:solidFill>
            <a:srgbClr val="993366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8" name=""/>
          <p:cNvSpPr/>
          <p:nvPr/>
        </p:nvSpPr>
        <p:spPr>
          <a:xfrm>
            <a:off x="5213520" y="1978200"/>
            <a:ext cx="468000" cy="2617560"/>
          </a:xfrm>
          <a:prstGeom prst="rect">
            <a:avLst/>
          </a:prstGeom>
          <a:solidFill>
            <a:srgbClr val="993366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199" name=""/>
          <p:cNvSpPr/>
          <p:nvPr/>
        </p:nvSpPr>
        <p:spPr>
          <a:xfrm>
            <a:off x="1090440" y="1511280"/>
            <a:ext cx="1800" cy="308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0" name=""/>
          <p:cNvSpPr/>
          <p:nvPr/>
        </p:nvSpPr>
        <p:spPr>
          <a:xfrm>
            <a:off x="1022400" y="459576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4214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2" name=""/>
          <p:cNvSpPr/>
          <p:nvPr/>
        </p:nvSpPr>
        <p:spPr>
          <a:xfrm>
            <a:off x="1022400" y="3832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3" name=""/>
          <p:cNvSpPr/>
          <p:nvPr/>
        </p:nvSpPr>
        <p:spPr>
          <a:xfrm>
            <a:off x="1022400" y="34354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4" name=""/>
          <p:cNvSpPr/>
          <p:nvPr/>
        </p:nvSpPr>
        <p:spPr>
          <a:xfrm>
            <a:off x="1022400" y="305424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5" name=""/>
          <p:cNvSpPr/>
          <p:nvPr/>
        </p:nvSpPr>
        <p:spPr>
          <a:xfrm>
            <a:off x="1022400" y="26719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6" name=""/>
          <p:cNvSpPr/>
          <p:nvPr/>
        </p:nvSpPr>
        <p:spPr>
          <a:xfrm>
            <a:off x="1022400" y="228924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7" name=""/>
          <p:cNvSpPr/>
          <p:nvPr/>
        </p:nvSpPr>
        <p:spPr>
          <a:xfrm>
            <a:off x="1022400" y="189396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8" name=""/>
          <p:cNvSpPr/>
          <p:nvPr/>
        </p:nvSpPr>
        <p:spPr>
          <a:xfrm>
            <a:off x="1022400" y="15112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09" name=""/>
          <p:cNvSpPr/>
          <p:nvPr/>
        </p:nvSpPr>
        <p:spPr>
          <a:xfrm>
            <a:off x="1090440" y="4595760"/>
            <a:ext cx="495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090440" y="45954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36720" y="45954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98840" y="45954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45120" y="45954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4" name=""/>
          <p:cNvSpPr/>
          <p:nvPr/>
        </p:nvSpPr>
        <p:spPr>
          <a:xfrm>
            <a:off x="1670400" y="4016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5" name=""/>
          <p:cNvSpPr/>
          <p:nvPr/>
        </p:nvSpPr>
        <p:spPr>
          <a:xfrm>
            <a:off x="3270960" y="3705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6" name=""/>
          <p:cNvSpPr/>
          <p:nvPr/>
        </p:nvSpPr>
        <p:spPr>
          <a:xfrm>
            <a:off x="4915800" y="3435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7" name=""/>
          <p:cNvSpPr/>
          <p:nvPr/>
        </p:nvSpPr>
        <p:spPr>
          <a:xfrm>
            <a:off x="2075760" y="2585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8" name=""/>
          <p:cNvSpPr/>
          <p:nvPr/>
        </p:nvSpPr>
        <p:spPr>
          <a:xfrm>
            <a:off x="3737880" y="3478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19" name=""/>
          <p:cNvSpPr/>
          <p:nvPr/>
        </p:nvSpPr>
        <p:spPr>
          <a:xfrm>
            <a:off x="5384160" y="16668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0" name=""/>
          <p:cNvSpPr/>
          <p:nvPr/>
        </p:nvSpPr>
        <p:spPr>
          <a:xfrm>
            <a:off x="856080" y="4483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1" name=""/>
          <p:cNvSpPr/>
          <p:nvPr/>
        </p:nvSpPr>
        <p:spPr>
          <a:xfrm>
            <a:off x="742320" y="41004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2" name=""/>
          <p:cNvSpPr/>
          <p:nvPr/>
        </p:nvSpPr>
        <p:spPr>
          <a:xfrm>
            <a:off x="742320" y="3719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3" name=""/>
          <p:cNvSpPr/>
          <p:nvPr/>
        </p:nvSpPr>
        <p:spPr>
          <a:xfrm>
            <a:off x="742320" y="33228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4" name=""/>
          <p:cNvSpPr/>
          <p:nvPr/>
        </p:nvSpPr>
        <p:spPr>
          <a:xfrm>
            <a:off x="742320" y="2940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5" name=""/>
          <p:cNvSpPr/>
          <p:nvPr/>
        </p:nvSpPr>
        <p:spPr>
          <a:xfrm>
            <a:off x="742320" y="2558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6" name=""/>
          <p:cNvSpPr/>
          <p:nvPr/>
        </p:nvSpPr>
        <p:spPr>
          <a:xfrm>
            <a:off x="742320" y="2176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7" name=""/>
          <p:cNvSpPr/>
          <p:nvPr/>
        </p:nvSpPr>
        <p:spPr>
          <a:xfrm>
            <a:off x="742320" y="1779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8" name=""/>
          <p:cNvSpPr/>
          <p:nvPr/>
        </p:nvSpPr>
        <p:spPr>
          <a:xfrm>
            <a:off x="742320" y="1398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29" name=""/>
          <p:cNvSpPr/>
          <p:nvPr/>
        </p:nvSpPr>
        <p:spPr>
          <a:xfrm>
            <a:off x="1667160" y="475128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 off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0" name=""/>
          <p:cNvSpPr/>
          <p:nvPr/>
        </p:nvSpPr>
        <p:spPr>
          <a:xfrm>
            <a:off x="3276360" y="475128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up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1" name=""/>
          <p:cNvSpPr/>
          <p:nvPr/>
        </p:nvSpPr>
        <p:spPr>
          <a:xfrm>
            <a:off x="5062320" y="4751280"/>
            <a:ext cx="42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514600"/>
            <a:ext cx="2112840" cy="1046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3" name=""/>
          <p:cNvSpPr/>
          <p:nvPr/>
        </p:nvSpPr>
        <p:spPr>
          <a:xfrm>
            <a:off x="6323040" y="2643120"/>
            <a:ext cx="120600" cy="98640"/>
          </a:xfrm>
          <a:prstGeom prst="rect">
            <a:avLst/>
          </a:prstGeom>
          <a:solidFill>
            <a:srgbClr val="9999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4" name=""/>
          <p:cNvSpPr/>
          <p:nvPr/>
        </p:nvSpPr>
        <p:spPr>
          <a:xfrm>
            <a:off x="6508800" y="2571840"/>
            <a:ext cx="18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 Innovative Startup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5" name=""/>
          <p:cNvSpPr/>
          <p:nvPr/>
        </p:nvSpPr>
        <p:spPr>
          <a:xfrm>
            <a:off x="6323040" y="3166920"/>
            <a:ext cx="120600" cy="98640"/>
          </a:xfrm>
          <a:prstGeom prst="rect">
            <a:avLst/>
          </a:prstGeom>
          <a:solidFill>
            <a:srgbClr val="993366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0" y="3095640"/>
            <a:ext cx="154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novative Startup</a:t>
            </a:r>
            <a:endParaRPr b="0" lang="en-US" sz="15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214280"/>
            <a:ext cx="7950240" cy="3962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in-offs and Innovative Start-up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sequenc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3720" y="1143000"/>
            <a:ext cx="883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These start-ups have completely different needs in terms of financing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debt vs equity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different forms of equity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The complementary resources they need to get started are quite different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technology requirements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-345960">
              <a:spcBef>
                <a:spcPts val="675"/>
              </a:spcBef>
              <a:buClr>
                <a:srgbClr val="f35205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74"/>
                </a:solidFill>
                <a:latin typeface="Verdana"/>
              </a:rPr>
              <a:t>human resources</a:t>
            </a: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The support infrastructure for the TTO is related (to this) different as well</a:t>
            </a:r>
            <a:endParaRPr b="0" lang="en-US" sz="2000" spc="-1" strike="noStrike">
              <a:solidFill>
                <a:srgbClr val="006374"/>
              </a:solidFill>
              <a:latin typeface="Verdana"/>
            </a:endParaRPr>
          </a:p>
          <a:p>
            <a:pPr lvl="1" marL="91764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-Incubator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-Self Selective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-Supportive Model 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2" name=""/>
          <p:cNvSpPr/>
          <p:nvPr/>
        </p:nvSpPr>
        <p:spPr>
          <a:xfrm>
            <a:off x="383760" y="228600"/>
            <a:ext cx="9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Three reference models were distinguished...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800280" y="4781160"/>
            <a:ext cx="2011320" cy="816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4" name=""/>
          <p:cNvSpPr/>
          <p:nvPr/>
        </p:nvSpPr>
        <p:spPr>
          <a:xfrm>
            <a:off x="800280" y="1854360"/>
            <a:ext cx="2011320" cy="815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5" name=""/>
          <p:cNvSpPr/>
          <p:nvPr/>
        </p:nvSpPr>
        <p:spPr>
          <a:xfrm>
            <a:off x="6470640" y="1676520"/>
            <a:ext cx="0" cy="411480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6" name=""/>
          <p:cNvSpPr/>
          <p:nvPr/>
        </p:nvSpPr>
        <p:spPr>
          <a:xfrm>
            <a:off x="2813040" y="1676520"/>
            <a:ext cx="0" cy="411480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06200" y="4039200"/>
            <a:ext cx="5665320" cy="749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8" name=""/>
          <p:cNvSpPr/>
          <p:nvPr/>
        </p:nvSpPr>
        <p:spPr>
          <a:xfrm>
            <a:off x="2799720" y="2658240"/>
            <a:ext cx="5665320" cy="749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676520"/>
            <a:ext cx="0" cy="411480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0" name=""/>
          <p:cNvSpPr/>
          <p:nvPr/>
        </p:nvSpPr>
        <p:spPr>
          <a:xfrm>
            <a:off x="1395720" y="12603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1" name=""/>
          <p:cNvSpPr/>
          <p:nvPr/>
        </p:nvSpPr>
        <p:spPr>
          <a:xfrm>
            <a:off x="3060000" y="141300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Validation of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2" name=""/>
          <p:cNvSpPr/>
          <p:nvPr/>
        </p:nvSpPr>
        <p:spPr>
          <a:xfrm>
            <a:off x="4849200" y="141300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Validation of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business plan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3" name=""/>
          <p:cNvSpPr/>
          <p:nvPr/>
        </p:nvSpPr>
        <p:spPr>
          <a:xfrm>
            <a:off x="6711480" y="142560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Validation of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Interstate-Regular"/>
              </a:rPr>
              <a:t>growth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4" name=""/>
          <p:cNvSpPr/>
          <p:nvPr/>
        </p:nvSpPr>
        <p:spPr>
          <a:xfrm>
            <a:off x="1778040" y="1930320"/>
            <a:ext cx="0" cy="411480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5" name=""/>
          <p:cNvSpPr/>
          <p:nvPr/>
        </p:nvSpPr>
        <p:spPr>
          <a:xfrm>
            <a:off x="1930320" y="1600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Interstate-Regular"/>
              </a:rPr>
              <a:t>Applied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6" name=""/>
          <p:cNvSpPr/>
          <p:nvPr/>
        </p:nvSpPr>
        <p:spPr>
          <a:xfrm>
            <a:off x="635040" y="158760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Interstate-Regular"/>
              </a:rPr>
              <a:t>Fundamental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7" name=""/>
          <p:cNvSpPr/>
          <p:nvPr/>
        </p:nvSpPr>
        <p:spPr>
          <a:xfrm>
            <a:off x="584280" y="4152960"/>
            <a:ext cx="20448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nterstate-Regular"/>
              </a:rPr>
              <a:t>Opportunity search/ Awareness creation</a:t>
            </a:r>
            <a:endParaRPr b="0" lang="en-US" sz="16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8" name=""/>
          <p:cNvSpPr/>
          <p:nvPr/>
        </p:nvSpPr>
        <p:spPr>
          <a:xfrm>
            <a:off x="1308240" y="3733920"/>
            <a:ext cx="3975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nterstate-Regular"/>
              </a:rPr>
              <a:t>IP assessment and protection</a:t>
            </a:r>
            <a:endParaRPr b="0" lang="en-US" sz="16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895480"/>
            <a:ext cx="1930320" cy="106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nterstate-Regular"/>
              </a:rPr>
              <a:t>Strategic choice how to commercialize R&amp;D</a:t>
            </a:r>
            <a:endParaRPr b="0" lang="en-US" sz="16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0" name=""/>
          <p:cNvSpPr/>
          <p:nvPr/>
        </p:nvSpPr>
        <p:spPr>
          <a:xfrm>
            <a:off x="4673520" y="4229280"/>
            <a:ext cx="1778040" cy="8240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nterstate-Regular"/>
              </a:rPr>
              <a:t>Incubation and business plan development</a:t>
            </a:r>
            <a:endParaRPr b="0" lang="en-US" sz="16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1" name=""/>
          <p:cNvSpPr/>
          <p:nvPr/>
        </p:nvSpPr>
        <p:spPr>
          <a:xfrm>
            <a:off x="2844720" y="5219640"/>
            <a:ext cx="5778720" cy="337320"/>
          </a:xfrm>
          <a:prstGeom prst="rect">
            <a:avLst/>
          </a:prstGeom>
          <a:solidFill>
            <a:srgbClr val="f352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nterstate-Regular"/>
              </a:rPr>
              <a:t>Funding process</a:t>
            </a:r>
            <a:endParaRPr b="0" lang="en-US" sz="16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2" name=""/>
          <p:cNvSpPr/>
          <p:nvPr/>
        </p:nvSpPr>
        <p:spPr>
          <a:xfrm>
            <a:off x="6527880" y="3378240"/>
            <a:ext cx="2616120" cy="733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nterstate-Regular"/>
              </a:rPr>
              <a:t>Control over the spin-out process after start-up of the spin-out company</a:t>
            </a:r>
            <a:endParaRPr b="0" lang="en-US" sz="1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52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Six activities in spinning out start-ups 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3808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0a04"/>
                </a:solidFill>
                <a:latin typeface="Verdana"/>
              </a:rPr>
              <a:t>-Incubator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-Self Selective Model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374"/>
                </a:solidFill>
                <a:latin typeface="Verdana"/>
              </a:rPr>
              <a:t>-Supportive Model 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3520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5" name=""/>
          <p:cNvSpPr/>
          <p:nvPr/>
        </p:nvSpPr>
        <p:spPr>
          <a:xfrm>
            <a:off x="383760" y="228600"/>
            <a:ext cx="9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Three reference models were distinguished...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228600"/>
            <a:ext cx="71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nterstate-Regular"/>
              </a:rPr>
              <a:t>Incubator</a:t>
            </a:r>
            <a:endParaRPr b="0" lang="en-US" sz="32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terstate-Regular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990720"/>
            <a:ext cx="7696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Early and proactive opportunity seeking; Significant in-house expertise at all stages; highly selective of projects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Venture remains in RI until all resources in place and ready for private VCs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TTO coincides with business development division of RI with commercial people proactively looking for clients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TT activity may manage own early stage fund or close contacts with VC and close contacts with international advisors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RI typically specialized in one technology with large number of researchers (44 researchers per TTO)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terstate-Regular"/>
              </a:rPr>
              <a:t>Small no. VC backed, but highly capitalized and leading edge companies spun-out at later stage with balanced team and market focused</a:t>
            </a: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terstate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09:43:35Z</dcterms:created>
  <dc:creator>Sim D'Hertefelt</dc:creator>
  <dc:description/>
  <dc:language>en-US</dc:language>
  <cp:lastModifiedBy>bart clarysse</cp:lastModifiedBy>
  <dcterms:modified xsi:type="dcterms:W3CDTF">2004-06-08T07:55:55Z</dcterms:modified>
  <cp:revision>1776</cp:revision>
  <dc:subject/>
  <dc:title>Projectgroep databankinventaris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24219407</vt:r8>
  </property>
  <property fmtid="{D5CDD505-2E9C-101B-9397-08002B2CF9AE}" pid="3" name="_AuthorEmail">
    <vt:lpwstr>Frederike.Deceunynck@vlerick.be</vt:lpwstr>
  </property>
  <property fmtid="{D5CDD505-2E9C-101B-9397-08002B2CF9AE}" pid="4" name="_AuthorEmailDisplayName">
    <vt:lpwstr>Frederike Deceunynck</vt:lpwstr>
  </property>
  <property fmtid="{D5CDD505-2E9C-101B-9397-08002B2CF9AE}" pid="5" name="_EmailSubject">
    <vt:lpwstr>ERIK Conference - June 9th, 10th, 11th 2004</vt:lpwstr>
  </property>
  <property fmtid="{D5CDD505-2E9C-101B-9397-08002B2CF9AE}" pid="6" name="_PreviousAdHocReviewCycleID">
    <vt:r8>1669836317</vt:r8>
  </property>
</Properties>
</file>