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5C114-3299-4313-9819-E3FA01B44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4B8E-C5C9-4B11-BF61-CD8C2FAB8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6B65-7958-44B1-866F-9067B16DD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46150-7EA2-458A-B89B-9DAEAF6A6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7A997-41BA-47FB-B38E-49ED84ED66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130C7-4659-4918-BC7B-A1BD1D3D4F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FDCDB-11E1-4207-8E4C-D518F4C3A8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7E67D-BFBF-49AA-941B-E6395C1CFC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16719-D37E-4704-A68C-78583D24D3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7CBB2-FA05-48BD-88EF-63531F666F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0848C-46CB-4838-81CB-B88EA54E0B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4AF51-11D0-484D-B7B5-1DBB6C4E0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E0E76-80D0-4097-A768-C8494F7F1F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D5677-7144-412E-AB67-70B16F2887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DC5E0-EBF7-4643-B207-A912980327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0F682-3D58-4B8F-8933-14E11F728F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CFCFA-2A79-4141-A29E-C29113F431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AC86-643F-48DC-9F40-935DFDF1D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E8A53-8BDE-4B3B-A888-61D2AE0FF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E278C-F989-4858-8DD3-C7209AB28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57F4-4A38-44CF-998F-C76D33121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41A25-0405-4C8A-80BB-84AE3BB5C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E7D32-9976-4481-9556-93F14AF9C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063B-BF31-444A-AD79-F51CAE149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827C-CE86-49AD-A2A8-B48139C898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ECOTEC" descr=""/>
          <p:cNvPicPr/>
          <p:nvPr/>
        </p:nvPicPr>
        <p:blipFill>
          <a:blip r:embed="rId2"/>
          <a:stretch/>
        </p:blipFill>
        <p:spPr>
          <a:xfrm>
            <a:off x="6858000" y="5856120"/>
            <a:ext cx="1812960" cy="696960"/>
          </a:xfrm>
          <a:prstGeom prst="rect">
            <a:avLst/>
          </a:prstGeom>
          <a:ln w="0">
            <a:noFill/>
          </a:ln>
        </p:spPr>
      </p:pic>
      <p:pic>
        <p:nvPicPr>
          <p:cNvPr id="7" name="ecostripe_b&amp;w" descr=""/>
          <p:cNvPicPr/>
          <p:nvPr/>
        </p:nvPicPr>
        <p:blipFill>
          <a:blip r:embed="rId3"/>
          <a:stretch/>
        </p:blipFill>
        <p:spPr>
          <a:xfrm>
            <a:off x="0" y="5637240"/>
            <a:ext cx="6402240" cy="122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D0AE-C406-4807-B11A-6DE3432D60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COTEC" descr=""/>
          <p:cNvPicPr/>
          <p:nvPr/>
        </p:nvPicPr>
        <p:blipFill>
          <a:blip r:embed="rId2"/>
          <a:stretch/>
        </p:blipFill>
        <p:spPr>
          <a:xfrm>
            <a:off x="6858000" y="5856120"/>
            <a:ext cx="1812960" cy="696960"/>
          </a:xfrm>
          <a:prstGeom prst="rect">
            <a:avLst/>
          </a:prstGeom>
          <a:ln w="0">
            <a:noFill/>
          </a:ln>
        </p:spPr>
      </p:pic>
      <p:pic>
        <p:nvPicPr>
          <p:cNvPr id="49" name="12b&amp;w" descr=""/>
          <p:cNvPicPr/>
          <p:nvPr/>
        </p:nvPicPr>
        <p:blipFill>
          <a:blip r:embed="rId3"/>
          <a:stretch/>
        </p:blipFill>
        <p:spPr>
          <a:xfrm>
            <a:off x="0" y="5641920"/>
            <a:ext cx="6397560" cy="121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RIK CONFERENCE</a:t>
            </a:r>
            <a:br>
              <a:rPr sz="4400"/>
            </a:br>
            <a:br>
              <a:rPr sz="44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ACTORS IN SUCCESSFUL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USTE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ris Ralph, Dir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COT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9 Jun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ecostripe_b&amp;w" descr=""/>
          <p:cNvPicPr/>
          <p:nvPr/>
        </p:nvPicPr>
        <p:blipFill>
          <a:blip r:embed="rId1"/>
          <a:stretch/>
        </p:blipFill>
        <p:spPr>
          <a:xfrm>
            <a:off x="0" y="5637240"/>
            <a:ext cx="640224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TRIBUTING SUCCESS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physical infra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ce of large fi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ong entrepreneurial cul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 to sources of fin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nge of other fa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iness support ac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ups, 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uster con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dership, competition, market proxim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enviro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or n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help individual businesses but not necessarily cluster focus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solidFill>
            <a:srgbClr val="a4b8f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DOES THIS MEAN FOR STRATEGY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clusters are differ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have a lifecyc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one size won’t fit 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there are some common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32280" y="1143000"/>
            <a:ext cx="5211720" cy="4297320"/>
            <a:chOff x="3932280" y="1143000"/>
            <a:chExt cx="5211720" cy="4297320"/>
          </a:xfrm>
        </p:grpSpPr>
        <p:sp>
          <p:nvSpPr>
            <p:cNvPr id="117" name=""/>
            <p:cNvSpPr/>
            <p:nvPr/>
          </p:nvSpPr>
          <p:spPr>
            <a:xfrm flipV="1" rot="19829400">
              <a:off x="6948000" y="2696760"/>
              <a:ext cx="1189080" cy="1828800"/>
            </a:xfrm>
            <a:custGeom>
              <a:avLst/>
              <a:gdLst/>
              <a:ahLst/>
              <a:rect l="l" t="t" r="r" b="b"/>
              <a:pathLst>
                <a:path w="2510" h="3158">
                  <a:moveTo>
                    <a:pt x="956" y="415"/>
                  </a:moveTo>
                  <a:lnTo>
                    <a:pt x="991" y="420"/>
                  </a:lnTo>
                  <a:lnTo>
                    <a:pt x="1037" y="428"/>
                  </a:lnTo>
                  <a:lnTo>
                    <a:pt x="1082" y="440"/>
                  </a:lnTo>
                  <a:lnTo>
                    <a:pt x="1115" y="447"/>
                  </a:lnTo>
                  <a:lnTo>
                    <a:pt x="1153" y="457"/>
                  </a:lnTo>
                  <a:lnTo>
                    <a:pt x="1189" y="468"/>
                  </a:lnTo>
                  <a:lnTo>
                    <a:pt x="1227" y="480"/>
                  </a:lnTo>
                  <a:lnTo>
                    <a:pt x="1262" y="489"/>
                  </a:lnTo>
                  <a:lnTo>
                    <a:pt x="1302" y="504"/>
                  </a:lnTo>
                  <a:lnTo>
                    <a:pt x="1348" y="524"/>
                  </a:lnTo>
                  <a:lnTo>
                    <a:pt x="1388" y="539"/>
                  </a:lnTo>
                  <a:lnTo>
                    <a:pt x="1426" y="556"/>
                  </a:lnTo>
                  <a:lnTo>
                    <a:pt x="1470" y="575"/>
                  </a:lnTo>
                  <a:lnTo>
                    <a:pt x="1512" y="596"/>
                  </a:lnTo>
                  <a:lnTo>
                    <a:pt x="1550" y="615"/>
                  </a:lnTo>
                  <a:lnTo>
                    <a:pt x="1586" y="638"/>
                  </a:lnTo>
                  <a:lnTo>
                    <a:pt x="1619" y="657"/>
                  </a:lnTo>
                  <a:lnTo>
                    <a:pt x="1651" y="680"/>
                  </a:lnTo>
                  <a:lnTo>
                    <a:pt x="1687" y="701"/>
                  </a:lnTo>
                  <a:lnTo>
                    <a:pt x="1728" y="730"/>
                  </a:lnTo>
                  <a:lnTo>
                    <a:pt x="1764" y="757"/>
                  </a:lnTo>
                  <a:lnTo>
                    <a:pt x="1798" y="783"/>
                  </a:lnTo>
                  <a:lnTo>
                    <a:pt x="1831" y="806"/>
                  </a:lnTo>
                  <a:lnTo>
                    <a:pt x="1882" y="850"/>
                  </a:lnTo>
                  <a:lnTo>
                    <a:pt x="1936" y="900"/>
                  </a:lnTo>
                  <a:lnTo>
                    <a:pt x="1978" y="938"/>
                  </a:lnTo>
                  <a:lnTo>
                    <a:pt x="2027" y="993"/>
                  </a:lnTo>
                  <a:lnTo>
                    <a:pt x="2062" y="1034"/>
                  </a:lnTo>
                  <a:lnTo>
                    <a:pt x="2100" y="1079"/>
                  </a:lnTo>
                  <a:lnTo>
                    <a:pt x="2142" y="1131"/>
                  </a:lnTo>
                  <a:lnTo>
                    <a:pt x="2176" y="1181"/>
                  </a:lnTo>
                  <a:lnTo>
                    <a:pt x="2211" y="1236"/>
                  </a:lnTo>
                  <a:lnTo>
                    <a:pt x="2247" y="1290"/>
                  </a:lnTo>
                  <a:lnTo>
                    <a:pt x="2277" y="1347"/>
                  </a:lnTo>
                  <a:lnTo>
                    <a:pt x="2308" y="1396"/>
                  </a:lnTo>
                  <a:lnTo>
                    <a:pt x="2337" y="1458"/>
                  </a:lnTo>
                  <a:lnTo>
                    <a:pt x="2363" y="1517"/>
                  </a:lnTo>
                  <a:lnTo>
                    <a:pt x="2386" y="1578"/>
                  </a:lnTo>
                  <a:lnTo>
                    <a:pt x="2409" y="1645"/>
                  </a:lnTo>
                  <a:lnTo>
                    <a:pt x="2438" y="1727"/>
                  </a:lnTo>
                  <a:lnTo>
                    <a:pt x="2457" y="1803"/>
                  </a:lnTo>
                  <a:lnTo>
                    <a:pt x="2476" y="1882"/>
                  </a:lnTo>
                  <a:lnTo>
                    <a:pt x="2485" y="1958"/>
                  </a:lnTo>
                  <a:lnTo>
                    <a:pt x="2499" y="2048"/>
                  </a:lnTo>
                  <a:lnTo>
                    <a:pt x="2508" y="2161"/>
                  </a:lnTo>
                  <a:lnTo>
                    <a:pt x="2510" y="2246"/>
                  </a:lnTo>
                  <a:lnTo>
                    <a:pt x="2508" y="2332"/>
                  </a:lnTo>
                  <a:lnTo>
                    <a:pt x="2501" y="2413"/>
                  </a:lnTo>
                  <a:lnTo>
                    <a:pt x="2491" y="2489"/>
                  </a:lnTo>
                  <a:lnTo>
                    <a:pt x="2482" y="2569"/>
                  </a:lnTo>
                  <a:lnTo>
                    <a:pt x="2464" y="2651"/>
                  </a:lnTo>
                  <a:lnTo>
                    <a:pt x="2442" y="2739"/>
                  </a:lnTo>
                  <a:lnTo>
                    <a:pt x="2413" y="2831"/>
                  </a:lnTo>
                  <a:lnTo>
                    <a:pt x="2384" y="2915"/>
                  </a:lnTo>
                  <a:lnTo>
                    <a:pt x="2352" y="2997"/>
                  </a:lnTo>
                  <a:lnTo>
                    <a:pt x="2304" y="3077"/>
                  </a:lnTo>
                  <a:lnTo>
                    <a:pt x="2256" y="3158"/>
                  </a:lnTo>
                  <a:lnTo>
                    <a:pt x="1518" y="2730"/>
                  </a:lnTo>
                  <a:lnTo>
                    <a:pt x="1558" y="2650"/>
                  </a:lnTo>
                  <a:lnTo>
                    <a:pt x="1584" y="2588"/>
                  </a:lnTo>
                  <a:lnTo>
                    <a:pt x="1604" y="2522"/>
                  </a:lnTo>
                  <a:lnTo>
                    <a:pt x="1621" y="2457"/>
                  </a:lnTo>
                  <a:lnTo>
                    <a:pt x="1632" y="2397"/>
                  </a:lnTo>
                  <a:lnTo>
                    <a:pt x="1636" y="2338"/>
                  </a:lnTo>
                  <a:lnTo>
                    <a:pt x="1642" y="2281"/>
                  </a:lnTo>
                  <a:lnTo>
                    <a:pt x="1642" y="2220"/>
                  </a:lnTo>
                  <a:lnTo>
                    <a:pt x="1638" y="2149"/>
                  </a:lnTo>
                  <a:lnTo>
                    <a:pt x="1628" y="2080"/>
                  </a:lnTo>
                  <a:lnTo>
                    <a:pt x="1615" y="2004"/>
                  </a:lnTo>
                  <a:lnTo>
                    <a:pt x="1598" y="1943"/>
                  </a:lnTo>
                  <a:lnTo>
                    <a:pt x="1571" y="1874"/>
                  </a:lnTo>
                  <a:lnTo>
                    <a:pt x="1546" y="1815"/>
                  </a:lnTo>
                  <a:lnTo>
                    <a:pt x="1516" y="1757"/>
                  </a:lnTo>
                  <a:lnTo>
                    <a:pt x="1489" y="1714"/>
                  </a:lnTo>
                  <a:lnTo>
                    <a:pt x="1462" y="1677"/>
                  </a:lnTo>
                  <a:lnTo>
                    <a:pt x="1436" y="1641"/>
                  </a:lnTo>
                  <a:lnTo>
                    <a:pt x="1405" y="1605"/>
                  </a:lnTo>
                  <a:lnTo>
                    <a:pt x="1371" y="1566"/>
                  </a:lnTo>
                  <a:lnTo>
                    <a:pt x="1342" y="1540"/>
                  </a:lnTo>
                  <a:lnTo>
                    <a:pt x="1310" y="1507"/>
                  </a:lnTo>
                  <a:lnTo>
                    <a:pt x="1277" y="1479"/>
                  </a:lnTo>
                  <a:lnTo>
                    <a:pt x="1239" y="1450"/>
                  </a:lnTo>
                  <a:lnTo>
                    <a:pt x="1193" y="1421"/>
                  </a:lnTo>
                  <a:lnTo>
                    <a:pt x="1155" y="1395"/>
                  </a:lnTo>
                  <a:lnTo>
                    <a:pt x="1122" y="1377"/>
                  </a:lnTo>
                  <a:lnTo>
                    <a:pt x="1075" y="1349"/>
                  </a:lnTo>
                  <a:lnTo>
                    <a:pt x="1033" y="1333"/>
                  </a:lnTo>
                  <a:lnTo>
                    <a:pt x="996" y="1320"/>
                  </a:lnTo>
                  <a:lnTo>
                    <a:pt x="958" y="1307"/>
                  </a:lnTo>
                  <a:lnTo>
                    <a:pt x="901" y="1293"/>
                  </a:lnTo>
                  <a:lnTo>
                    <a:pt x="848" y="1284"/>
                  </a:lnTo>
                  <a:lnTo>
                    <a:pt x="792" y="1278"/>
                  </a:lnTo>
                  <a:lnTo>
                    <a:pt x="737" y="1274"/>
                  </a:lnTo>
                  <a:lnTo>
                    <a:pt x="706" y="1272"/>
                  </a:lnTo>
                  <a:lnTo>
                    <a:pt x="706" y="1733"/>
                  </a:lnTo>
                  <a:lnTo>
                    <a:pt x="0" y="879"/>
                  </a:lnTo>
                  <a:lnTo>
                    <a:pt x="704" y="0"/>
                  </a:lnTo>
                  <a:lnTo>
                    <a:pt x="704" y="396"/>
                  </a:lnTo>
                  <a:lnTo>
                    <a:pt x="743" y="397"/>
                  </a:lnTo>
                  <a:lnTo>
                    <a:pt x="798" y="399"/>
                  </a:lnTo>
                  <a:lnTo>
                    <a:pt x="855" y="403"/>
                  </a:lnTo>
                  <a:lnTo>
                    <a:pt x="911" y="409"/>
                  </a:lnTo>
                  <a:lnTo>
                    <a:pt x="956" y="415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10194600">
              <a:off x="5668560" y="4159800"/>
              <a:ext cx="1809720" cy="723960"/>
            </a:xfrm>
            <a:custGeom>
              <a:avLst/>
              <a:gdLst/>
              <a:ahLst/>
              <a:rect l="l" t="t" r="r" b="b"/>
              <a:pathLst>
                <a:path w="3331" h="1753">
                  <a:moveTo>
                    <a:pt x="1674" y="1732"/>
                  </a:moveTo>
                  <a:lnTo>
                    <a:pt x="1708" y="1727"/>
                  </a:lnTo>
                  <a:lnTo>
                    <a:pt x="1754" y="1719"/>
                  </a:lnTo>
                  <a:lnTo>
                    <a:pt x="1800" y="1709"/>
                  </a:lnTo>
                  <a:lnTo>
                    <a:pt x="1832" y="1702"/>
                  </a:lnTo>
                  <a:lnTo>
                    <a:pt x="1871" y="1692"/>
                  </a:lnTo>
                  <a:lnTo>
                    <a:pt x="1909" y="1681"/>
                  </a:lnTo>
                  <a:lnTo>
                    <a:pt x="1947" y="1671"/>
                  </a:lnTo>
                  <a:lnTo>
                    <a:pt x="1981" y="1660"/>
                  </a:lnTo>
                  <a:lnTo>
                    <a:pt x="2019" y="1644"/>
                  </a:lnTo>
                  <a:lnTo>
                    <a:pt x="2067" y="1627"/>
                  </a:lnTo>
                  <a:lnTo>
                    <a:pt x="2107" y="1610"/>
                  </a:lnTo>
                  <a:lnTo>
                    <a:pt x="2145" y="1593"/>
                  </a:lnTo>
                  <a:lnTo>
                    <a:pt x="2189" y="1574"/>
                  </a:lnTo>
                  <a:lnTo>
                    <a:pt x="2231" y="1553"/>
                  </a:lnTo>
                  <a:lnTo>
                    <a:pt x="2270" y="1534"/>
                  </a:lnTo>
                  <a:lnTo>
                    <a:pt x="2304" y="1511"/>
                  </a:lnTo>
                  <a:lnTo>
                    <a:pt x="2336" y="1492"/>
                  </a:lnTo>
                  <a:lnTo>
                    <a:pt x="2369" y="1469"/>
                  </a:lnTo>
                  <a:lnTo>
                    <a:pt x="2405" y="1448"/>
                  </a:lnTo>
                  <a:lnTo>
                    <a:pt x="2445" y="1421"/>
                  </a:lnTo>
                  <a:lnTo>
                    <a:pt x="2481" y="1394"/>
                  </a:lnTo>
                  <a:lnTo>
                    <a:pt x="2516" y="1368"/>
                  </a:lnTo>
                  <a:lnTo>
                    <a:pt x="2546" y="1345"/>
                  </a:lnTo>
                  <a:lnTo>
                    <a:pt x="2600" y="1303"/>
                  </a:lnTo>
                  <a:lnTo>
                    <a:pt x="2647" y="1261"/>
                  </a:lnTo>
                  <a:lnTo>
                    <a:pt x="2695" y="1213"/>
                  </a:lnTo>
                  <a:lnTo>
                    <a:pt x="2745" y="1157"/>
                  </a:lnTo>
                  <a:lnTo>
                    <a:pt x="2779" y="1117"/>
                  </a:lnTo>
                  <a:lnTo>
                    <a:pt x="2817" y="1071"/>
                  </a:lnTo>
                  <a:lnTo>
                    <a:pt x="2859" y="1022"/>
                  </a:lnTo>
                  <a:lnTo>
                    <a:pt x="2896" y="972"/>
                  </a:lnTo>
                  <a:lnTo>
                    <a:pt x="2930" y="919"/>
                  </a:lnTo>
                  <a:lnTo>
                    <a:pt x="2972" y="858"/>
                  </a:lnTo>
                  <a:lnTo>
                    <a:pt x="3331" y="1068"/>
                  </a:lnTo>
                  <a:lnTo>
                    <a:pt x="2980" y="0"/>
                  </a:lnTo>
                  <a:lnTo>
                    <a:pt x="1840" y="202"/>
                  </a:lnTo>
                  <a:lnTo>
                    <a:pt x="2224" y="420"/>
                  </a:lnTo>
                  <a:lnTo>
                    <a:pt x="2191" y="466"/>
                  </a:lnTo>
                  <a:lnTo>
                    <a:pt x="2157" y="506"/>
                  </a:lnTo>
                  <a:lnTo>
                    <a:pt x="2123" y="546"/>
                  </a:lnTo>
                  <a:lnTo>
                    <a:pt x="2088" y="584"/>
                  </a:lnTo>
                  <a:lnTo>
                    <a:pt x="2060" y="613"/>
                  </a:lnTo>
                  <a:lnTo>
                    <a:pt x="2029" y="645"/>
                  </a:lnTo>
                  <a:lnTo>
                    <a:pt x="1995" y="672"/>
                  </a:lnTo>
                  <a:lnTo>
                    <a:pt x="1956" y="701"/>
                  </a:lnTo>
                  <a:lnTo>
                    <a:pt x="1911" y="731"/>
                  </a:lnTo>
                  <a:lnTo>
                    <a:pt x="1872" y="756"/>
                  </a:lnTo>
                  <a:lnTo>
                    <a:pt x="1840" y="775"/>
                  </a:lnTo>
                  <a:lnTo>
                    <a:pt x="1792" y="802"/>
                  </a:lnTo>
                  <a:lnTo>
                    <a:pt x="1750" y="819"/>
                  </a:lnTo>
                  <a:lnTo>
                    <a:pt x="1714" y="831"/>
                  </a:lnTo>
                  <a:lnTo>
                    <a:pt x="1676" y="844"/>
                  </a:lnTo>
                  <a:lnTo>
                    <a:pt x="1620" y="859"/>
                  </a:lnTo>
                  <a:lnTo>
                    <a:pt x="1565" y="867"/>
                  </a:lnTo>
                  <a:lnTo>
                    <a:pt x="1510" y="873"/>
                  </a:lnTo>
                  <a:lnTo>
                    <a:pt x="1428" y="877"/>
                  </a:lnTo>
                  <a:lnTo>
                    <a:pt x="1321" y="879"/>
                  </a:lnTo>
                  <a:lnTo>
                    <a:pt x="1239" y="867"/>
                  </a:lnTo>
                  <a:lnTo>
                    <a:pt x="1164" y="850"/>
                  </a:lnTo>
                  <a:lnTo>
                    <a:pt x="1078" y="825"/>
                  </a:lnTo>
                  <a:lnTo>
                    <a:pt x="1002" y="793"/>
                  </a:lnTo>
                  <a:lnTo>
                    <a:pt x="926" y="754"/>
                  </a:lnTo>
                  <a:lnTo>
                    <a:pt x="857" y="710"/>
                  </a:lnTo>
                  <a:lnTo>
                    <a:pt x="790" y="651"/>
                  </a:lnTo>
                  <a:lnTo>
                    <a:pt x="0" y="1108"/>
                  </a:lnTo>
                  <a:lnTo>
                    <a:pt x="32" y="1146"/>
                  </a:lnTo>
                  <a:lnTo>
                    <a:pt x="78" y="1190"/>
                  </a:lnTo>
                  <a:lnTo>
                    <a:pt x="116" y="1228"/>
                  </a:lnTo>
                  <a:lnTo>
                    <a:pt x="154" y="1264"/>
                  </a:lnTo>
                  <a:lnTo>
                    <a:pt x="193" y="1301"/>
                  </a:lnTo>
                  <a:lnTo>
                    <a:pt x="238" y="1339"/>
                  </a:lnTo>
                  <a:lnTo>
                    <a:pt x="280" y="1371"/>
                  </a:lnTo>
                  <a:lnTo>
                    <a:pt x="322" y="1402"/>
                  </a:lnTo>
                  <a:lnTo>
                    <a:pt x="370" y="1432"/>
                  </a:lnTo>
                  <a:lnTo>
                    <a:pt x="416" y="1465"/>
                  </a:lnTo>
                  <a:lnTo>
                    <a:pt x="464" y="1495"/>
                  </a:lnTo>
                  <a:lnTo>
                    <a:pt x="507" y="1520"/>
                  </a:lnTo>
                  <a:lnTo>
                    <a:pt x="551" y="1545"/>
                  </a:lnTo>
                  <a:lnTo>
                    <a:pt x="593" y="1566"/>
                  </a:lnTo>
                  <a:lnTo>
                    <a:pt x="651" y="1593"/>
                  </a:lnTo>
                  <a:lnTo>
                    <a:pt x="704" y="1616"/>
                  </a:lnTo>
                  <a:lnTo>
                    <a:pt x="765" y="1639"/>
                  </a:lnTo>
                  <a:lnTo>
                    <a:pt x="811" y="1656"/>
                  </a:lnTo>
                  <a:lnTo>
                    <a:pt x="855" y="1673"/>
                  </a:lnTo>
                  <a:lnTo>
                    <a:pt x="906" y="1688"/>
                  </a:lnTo>
                  <a:lnTo>
                    <a:pt x="956" y="1702"/>
                  </a:lnTo>
                  <a:lnTo>
                    <a:pt x="1006" y="1713"/>
                  </a:lnTo>
                  <a:lnTo>
                    <a:pt x="1063" y="1725"/>
                  </a:lnTo>
                  <a:lnTo>
                    <a:pt x="1120" y="1734"/>
                  </a:lnTo>
                  <a:lnTo>
                    <a:pt x="1179" y="1742"/>
                  </a:lnTo>
                  <a:lnTo>
                    <a:pt x="1241" y="1748"/>
                  </a:lnTo>
                  <a:lnTo>
                    <a:pt x="1286" y="1750"/>
                  </a:lnTo>
                  <a:lnTo>
                    <a:pt x="1349" y="1753"/>
                  </a:lnTo>
                  <a:lnTo>
                    <a:pt x="1412" y="1753"/>
                  </a:lnTo>
                  <a:lnTo>
                    <a:pt x="1462" y="1751"/>
                  </a:lnTo>
                  <a:lnTo>
                    <a:pt x="1515" y="1750"/>
                  </a:lnTo>
                  <a:lnTo>
                    <a:pt x="1575" y="1746"/>
                  </a:lnTo>
                  <a:lnTo>
                    <a:pt x="1628" y="1738"/>
                  </a:lnTo>
                  <a:lnTo>
                    <a:pt x="1674" y="1732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1035600">
              <a:off x="5029560" y="2605680"/>
              <a:ext cx="914400" cy="1736640"/>
            </a:xfrm>
            <a:custGeom>
              <a:avLst/>
              <a:gdLst/>
              <a:ahLst/>
              <a:rect l="l" t="t" r="r" b="b"/>
              <a:pathLst>
                <a:path w="1690" h="3127">
                  <a:moveTo>
                    <a:pt x="1690" y="0"/>
                  </a:moveTo>
                  <a:lnTo>
                    <a:pt x="1653" y="6"/>
                  </a:lnTo>
                  <a:lnTo>
                    <a:pt x="1617" y="12"/>
                  </a:lnTo>
                  <a:lnTo>
                    <a:pt x="1567" y="23"/>
                  </a:lnTo>
                  <a:lnTo>
                    <a:pt x="1531" y="31"/>
                  </a:lnTo>
                  <a:lnTo>
                    <a:pt x="1493" y="42"/>
                  </a:lnTo>
                  <a:lnTo>
                    <a:pt x="1457" y="54"/>
                  </a:lnTo>
                  <a:lnTo>
                    <a:pt x="1418" y="63"/>
                  </a:lnTo>
                  <a:lnTo>
                    <a:pt x="1382" y="75"/>
                  </a:lnTo>
                  <a:lnTo>
                    <a:pt x="1344" y="90"/>
                  </a:lnTo>
                  <a:lnTo>
                    <a:pt x="1298" y="107"/>
                  </a:lnTo>
                  <a:lnTo>
                    <a:pt x="1260" y="124"/>
                  </a:lnTo>
                  <a:lnTo>
                    <a:pt x="1220" y="142"/>
                  </a:lnTo>
                  <a:lnTo>
                    <a:pt x="1178" y="161"/>
                  </a:lnTo>
                  <a:lnTo>
                    <a:pt x="1136" y="182"/>
                  </a:lnTo>
                  <a:lnTo>
                    <a:pt x="1098" y="201"/>
                  </a:lnTo>
                  <a:lnTo>
                    <a:pt x="1061" y="224"/>
                  </a:lnTo>
                  <a:lnTo>
                    <a:pt x="1029" y="243"/>
                  </a:lnTo>
                  <a:lnTo>
                    <a:pt x="997" y="266"/>
                  </a:lnTo>
                  <a:lnTo>
                    <a:pt x="960" y="287"/>
                  </a:lnTo>
                  <a:lnTo>
                    <a:pt x="920" y="313"/>
                  </a:lnTo>
                  <a:lnTo>
                    <a:pt x="884" y="342"/>
                  </a:lnTo>
                  <a:lnTo>
                    <a:pt x="850" y="369"/>
                  </a:lnTo>
                  <a:lnTo>
                    <a:pt x="817" y="392"/>
                  </a:lnTo>
                  <a:lnTo>
                    <a:pt x="764" y="436"/>
                  </a:lnTo>
                  <a:lnTo>
                    <a:pt x="710" y="487"/>
                  </a:lnTo>
                  <a:lnTo>
                    <a:pt x="668" y="526"/>
                  </a:lnTo>
                  <a:lnTo>
                    <a:pt x="619" y="581"/>
                  </a:lnTo>
                  <a:lnTo>
                    <a:pt x="584" y="621"/>
                  </a:lnTo>
                  <a:lnTo>
                    <a:pt x="546" y="667"/>
                  </a:lnTo>
                  <a:lnTo>
                    <a:pt x="504" y="718"/>
                  </a:lnTo>
                  <a:lnTo>
                    <a:pt x="470" y="766"/>
                  </a:lnTo>
                  <a:lnTo>
                    <a:pt x="435" y="822"/>
                  </a:lnTo>
                  <a:lnTo>
                    <a:pt x="401" y="875"/>
                  </a:lnTo>
                  <a:lnTo>
                    <a:pt x="367" y="932"/>
                  </a:lnTo>
                  <a:lnTo>
                    <a:pt x="338" y="982"/>
                  </a:lnTo>
                  <a:lnTo>
                    <a:pt x="311" y="1043"/>
                  </a:lnTo>
                  <a:lnTo>
                    <a:pt x="285" y="1102"/>
                  </a:lnTo>
                  <a:lnTo>
                    <a:pt x="262" y="1163"/>
                  </a:lnTo>
                  <a:lnTo>
                    <a:pt x="239" y="1230"/>
                  </a:lnTo>
                  <a:lnTo>
                    <a:pt x="210" y="1312"/>
                  </a:lnTo>
                  <a:lnTo>
                    <a:pt x="191" y="1389"/>
                  </a:lnTo>
                  <a:lnTo>
                    <a:pt x="172" y="1467"/>
                  </a:lnTo>
                  <a:lnTo>
                    <a:pt x="162" y="1544"/>
                  </a:lnTo>
                  <a:lnTo>
                    <a:pt x="149" y="1633"/>
                  </a:lnTo>
                  <a:lnTo>
                    <a:pt x="139" y="1744"/>
                  </a:lnTo>
                  <a:lnTo>
                    <a:pt x="138" y="1832"/>
                  </a:lnTo>
                  <a:lnTo>
                    <a:pt x="139" y="1918"/>
                  </a:lnTo>
                  <a:lnTo>
                    <a:pt x="147" y="2000"/>
                  </a:lnTo>
                  <a:lnTo>
                    <a:pt x="157" y="2077"/>
                  </a:lnTo>
                  <a:lnTo>
                    <a:pt x="166" y="2157"/>
                  </a:lnTo>
                  <a:lnTo>
                    <a:pt x="183" y="2239"/>
                  </a:lnTo>
                  <a:lnTo>
                    <a:pt x="206" y="2327"/>
                  </a:lnTo>
                  <a:lnTo>
                    <a:pt x="235" y="2417"/>
                  </a:lnTo>
                  <a:lnTo>
                    <a:pt x="264" y="2501"/>
                  </a:lnTo>
                  <a:lnTo>
                    <a:pt x="296" y="2583"/>
                  </a:lnTo>
                  <a:lnTo>
                    <a:pt x="334" y="2663"/>
                  </a:lnTo>
                  <a:lnTo>
                    <a:pt x="380" y="2739"/>
                  </a:lnTo>
                  <a:lnTo>
                    <a:pt x="0" y="2955"/>
                  </a:lnTo>
                  <a:lnTo>
                    <a:pt x="1159" y="3127"/>
                  </a:lnTo>
                  <a:lnTo>
                    <a:pt x="1585" y="2061"/>
                  </a:lnTo>
                  <a:lnTo>
                    <a:pt x="1140" y="2300"/>
                  </a:lnTo>
                  <a:lnTo>
                    <a:pt x="1096" y="2231"/>
                  </a:lnTo>
                  <a:lnTo>
                    <a:pt x="1069" y="2170"/>
                  </a:lnTo>
                  <a:lnTo>
                    <a:pt x="1044" y="2107"/>
                  </a:lnTo>
                  <a:lnTo>
                    <a:pt x="1027" y="2044"/>
                  </a:lnTo>
                  <a:lnTo>
                    <a:pt x="1016" y="1983"/>
                  </a:lnTo>
                  <a:lnTo>
                    <a:pt x="1012" y="1924"/>
                  </a:lnTo>
                  <a:lnTo>
                    <a:pt x="1006" y="1864"/>
                  </a:lnTo>
                  <a:lnTo>
                    <a:pt x="1006" y="1805"/>
                  </a:lnTo>
                  <a:lnTo>
                    <a:pt x="1010" y="1735"/>
                  </a:lnTo>
                  <a:lnTo>
                    <a:pt x="1018" y="1666"/>
                  </a:lnTo>
                  <a:lnTo>
                    <a:pt x="1033" y="1589"/>
                  </a:lnTo>
                  <a:lnTo>
                    <a:pt x="1050" y="1528"/>
                  </a:lnTo>
                  <a:lnTo>
                    <a:pt x="1077" y="1460"/>
                  </a:lnTo>
                  <a:lnTo>
                    <a:pt x="1100" y="1400"/>
                  </a:lnTo>
                  <a:lnTo>
                    <a:pt x="1132" y="1343"/>
                  </a:lnTo>
                  <a:lnTo>
                    <a:pt x="1159" y="1299"/>
                  </a:lnTo>
                  <a:lnTo>
                    <a:pt x="1186" y="1263"/>
                  </a:lnTo>
                  <a:lnTo>
                    <a:pt x="1212" y="1227"/>
                  </a:lnTo>
                  <a:lnTo>
                    <a:pt x="1243" y="1190"/>
                  </a:lnTo>
                  <a:lnTo>
                    <a:pt x="1275" y="1152"/>
                  </a:lnTo>
                  <a:lnTo>
                    <a:pt x="1304" y="1125"/>
                  </a:lnTo>
                  <a:lnTo>
                    <a:pt x="1336" y="1091"/>
                  </a:lnTo>
                  <a:lnTo>
                    <a:pt x="1369" y="1064"/>
                  </a:lnTo>
                  <a:lnTo>
                    <a:pt x="1407" y="1036"/>
                  </a:lnTo>
                  <a:lnTo>
                    <a:pt x="1453" y="1005"/>
                  </a:lnTo>
                  <a:lnTo>
                    <a:pt x="1491" y="980"/>
                  </a:lnTo>
                  <a:lnTo>
                    <a:pt x="1523" y="961"/>
                  </a:lnTo>
                  <a:lnTo>
                    <a:pt x="1571" y="934"/>
                  </a:lnTo>
                  <a:lnTo>
                    <a:pt x="1617" y="915"/>
                  </a:lnTo>
                  <a:lnTo>
                    <a:pt x="1690" y="894"/>
                  </a:lnTo>
                  <a:lnTo>
                    <a:pt x="169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20941200">
              <a:off x="5668560" y="2057040"/>
              <a:ext cx="1809720" cy="724320"/>
            </a:xfrm>
            <a:custGeom>
              <a:avLst/>
              <a:gdLst/>
              <a:ahLst/>
              <a:rect l="l" t="t" r="r" b="b"/>
              <a:pathLst>
                <a:path w="3331" h="1753">
                  <a:moveTo>
                    <a:pt x="1674" y="1732"/>
                  </a:moveTo>
                  <a:lnTo>
                    <a:pt x="1708" y="1727"/>
                  </a:lnTo>
                  <a:lnTo>
                    <a:pt x="1754" y="1719"/>
                  </a:lnTo>
                  <a:lnTo>
                    <a:pt x="1800" y="1709"/>
                  </a:lnTo>
                  <a:lnTo>
                    <a:pt x="1832" y="1702"/>
                  </a:lnTo>
                  <a:lnTo>
                    <a:pt x="1871" y="1692"/>
                  </a:lnTo>
                  <a:lnTo>
                    <a:pt x="1909" y="1681"/>
                  </a:lnTo>
                  <a:lnTo>
                    <a:pt x="1947" y="1671"/>
                  </a:lnTo>
                  <a:lnTo>
                    <a:pt x="1981" y="1660"/>
                  </a:lnTo>
                  <a:lnTo>
                    <a:pt x="2019" y="1644"/>
                  </a:lnTo>
                  <a:lnTo>
                    <a:pt x="2067" y="1627"/>
                  </a:lnTo>
                  <a:lnTo>
                    <a:pt x="2107" y="1610"/>
                  </a:lnTo>
                  <a:lnTo>
                    <a:pt x="2145" y="1593"/>
                  </a:lnTo>
                  <a:lnTo>
                    <a:pt x="2189" y="1574"/>
                  </a:lnTo>
                  <a:lnTo>
                    <a:pt x="2231" y="1553"/>
                  </a:lnTo>
                  <a:lnTo>
                    <a:pt x="2270" y="1534"/>
                  </a:lnTo>
                  <a:lnTo>
                    <a:pt x="2304" y="1511"/>
                  </a:lnTo>
                  <a:lnTo>
                    <a:pt x="2336" y="1492"/>
                  </a:lnTo>
                  <a:lnTo>
                    <a:pt x="2369" y="1469"/>
                  </a:lnTo>
                  <a:lnTo>
                    <a:pt x="2405" y="1448"/>
                  </a:lnTo>
                  <a:lnTo>
                    <a:pt x="2445" y="1421"/>
                  </a:lnTo>
                  <a:lnTo>
                    <a:pt x="2481" y="1394"/>
                  </a:lnTo>
                  <a:lnTo>
                    <a:pt x="2516" y="1368"/>
                  </a:lnTo>
                  <a:lnTo>
                    <a:pt x="2546" y="1345"/>
                  </a:lnTo>
                  <a:lnTo>
                    <a:pt x="2600" y="1303"/>
                  </a:lnTo>
                  <a:lnTo>
                    <a:pt x="2647" y="1261"/>
                  </a:lnTo>
                  <a:lnTo>
                    <a:pt x="2695" y="1213"/>
                  </a:lnTo>
                  <a:lnTo>
                    <a:pt x="2745" y="1157"/>
                  </a:lnTo>
                  <a:lnTo>
                    <a:pt x="2779" y="1117"/>
                  </a:lnTo>
                  <a:lnTo>
                    <a:pt x="2817" y="1071"/>
                  </a:lnTo>
                  <a:lnTo>
                    <a:pt x="2859" y="1022"/>
                  </a:lnTo>
                  <a:lnTo>
                    <a:pt x="2896" y="972"/>
                  </a:lnTo>
                  <a:lnTo>
                    <a:pt x="2930" y="919"/>
                  </a:lnTo>
                  <a:lnTo>
                    <a:pt x="2972" y="858"/>
                  </a:lnTo>
                  <a:lnTo>
                    <a:pt x="3331" y="1068"/>
                  </a:lnTo>
                  <a:lnTo>
                    <a:pt x="2980" y="0"/>
                  </a:lnTo>
                  <a:lnTo>
                    <a:pt x="1840" y="202"/>
                  </a:lnTo>
                  <a:lnTo>
                    <a:pt x="2224" y="420"/>
                  </a:lnTo>
                  <a:lnTo>
                    <a:pt x="2191" y="466"/>
                  </a:lnTo>
                  <a:lnTo>
                    <a:pt x="2157" y="506"/>
                  </a:lnTo>
                  <a:lnTo>
                    <a:pt x="2123" y="546"/>
                  </a:lnTo>
                  <a:lnTo>
                    <a:pt x="2088" y="584"/>
                  </a:lnTo>
                  <a:lnTo>
                    <a:pt x="2060" y="613"/>
                  </a:lnTo>
                  <a:lnTo>
                    <a:pt x="2029" y="645"/>
                  </a:lnTo>
                  <a:lnTo>
                    <a:pt x="1995" y="672"/>
                  </a:lnTo>
                  <a:lnTo>
                    <a:pt x="1956" y="701"/>
                  </a:lnTo>
                  <a:lnTo>
                    <a:pt x="1911" y="731"/>
                  </a:lnTo>
                  <a:lnTo>
                    <a:pt x="1872" y="756"/>
                  </a:lnTo>
                  <a:lnTo>
                    <a:pt x="1840" y="775"/>
                  </a:lnTo>
                  <a:lnTo>
                    <a:pt x="1792" y="802"/>
                  </a:lnTo>
                  <a:lnTo>
                    <a:pt x="1750" y="819"/>
                  </a:lnTo>
                  <a:lnTo>
                    <a:pt x="1714" y="831"/>
                  </a:lnTo>
                  <a:lnTo>
                    <a:pt x="1676" y="844"/>
                  </a:lnTo>
                  <a:lnTo>
                    <a:pt x="1620" y="859"/>
                  </a:lnTo>
                  <a:lnTo>
                    <a:pt x="1565" y="867"/>
                  </a:lnTo>
                  <a:lnTo>
                    <a:pt x="1510" y="873"/>
                  </a:lnTo>
                  <a:lnTo>
                    <a:pt x="1428" y="877"/>
                  </a:lnTo>
                  <a:lnTo>
                    <a:pt x="1321" y="879"/>
                  </a:lnTo>
                  <a:lnTo>
                    <a:pt x="1239" y="867"/>
                  </a:lnTo>
                  <a:lnTo>
                    <a:pt x="1164" y="850"/>
                  </a:lnTo>
                  <a:lnTo>
                    <a:pt x="1078" y="825"/>
                  </a:lnTo>
                  <a:lnTo>
                    <a:pt x="1002" y="793"/>
                  </a:lnTo>
                  <a:lnTo>
                    <a:pt x="926" y="754"/>
                  </a:lnTo>
                  <a:lnTo>
                    <a:pt x="857" y="710"/>
                  </a:lnTo>
                  <a:lnTo>
                    <a:pt x="790" y="651"/>
                  </a:lnTo>
                  <a:lnTo>
                    <a:pt x="0" y="1108"/>
                  </a:lnTo>
                  <a:lnTo>
                    <a:pt x="32" y="1146"/>
                  </a:lnTo>
                  <a:lnTo>
                    <a:pt x="78" y="1190"/>
                  </a:lnTo>
                  <a:lnTo>
                    <a:pt x="116" y="1228"/>
                  </a:lnTo>
                  <a:lnTo>
                    <a:pt x="154" y="1264"/>
                  </a:lnTo>
                  <a:lnTo>
                    <a:pt x="193" y="1301"/>
                  </a:lnTo>
                  <a:lnTo>
                    <a:pt x="238" y="1339"/>
                  </a:lnTo>
                  <a:lnTo>
                    <a:pt x="280" y="1371"/>
                  </a:lnTo>
                  <a:lnTo>
                    <a:pt x="322" y="1402"/>
                  </a:lnTo>
                  <a:lnTo>
                    <a:pt x="370" y="1432"/>
                  </a:lnTo>
                  <a:lnTo>
                    <a:pt x="416" y="1465"/>
                  </a:lnTo>
                  <a:lnTo>
                    <a:pt x="464" y="1495"/>
                  </a:lnTo>
                  <a:lnTo>
                    <a:pt x="507" y="1520"/>
                  </a:lnTo>
                  <a:lnTo>
                    <a:pt x="551" y="1545"/>
                  </a:lnTo>
                  <a:lnTo>
                    <a:pt x="593" y="1566"/>
                  </a:lnTo>
                  <a:lnTo>
                    <a:pt x="651" y="1593"/>
                  </a:lnTo>
                  <a:lnTo>
                    <a:pt x="704" y="1616"/>
                  </a:lnTo>
                  <a:lnTo>
                    <a:pt x="765" y="1639"/>
                  </a:lnTo>
                  <a:lnTo>
                    <a:pt x="811" y="1656"/>
                  </a:lnTo>
                  <a:lnTo>
                    <a:pt x="855" y="1673"/>
                  </a:lnTo>
                  <a:lnTo>
                    <a:pt x="906" y="1688"/>
                  </a:lnTo>
                  <a:lnTo>
                    <a:pt x="956" y="1702"/>
                  </a:lnTo>
                  <a:lnTo>
                    <a:pt x="1006" y="1713"/>
                  </a:lnTo>
                  <a:lnTo>
                    <a:pt x="1063" y="1725"/>
                  </a:lnTo>
                  <a:lnTo>
                    <a:pt x="1120" y="1734"/>
                  </a:lnTo>
                  <a:lnTo>
                    <a:pt x="1179" y="1742"/>
                  </a:lnTo>
                  <a:lnTo>
                    <a:pt x="1241" y="1748"/>
                  </a:lnTo>
                  <a:lnTo>
                    <a:pt x="1286" y="1750"/>
                  </a:lnTo>
                  <a:lnTo>
                    <a:pt x="1349" y="1753"/>
                  </a:lnTo>
                  <a:lnTo>
                    <a:pt x="1412" y="1753"/>
                  </a:lnTo>
                  <a:lnTo>
                    <a:pt x="1462" y="1751"/>
                  </a:lnTo>
                  <a:lnTo>
                    <a:pt x="1515" y="1750"/>
                  </a:lnTo>
                  <a:lnTo>
                    <a:pt x="1575" y="1746"/>
                  </a:lnTo>
                  <a:lnTo>
                    <a:pt x="1628" y="1738"/>
                  </a:lnTo>
                  <a:lnTo>
                    <a:pt x="1674" y="1732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37040" y="1143000"/>
              <a:ext cx="3110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he Stages of the Cluster Lifecy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51440" y="1692360"/>
              <a:ext cx="13716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ecl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37440" y="3336840"/>
              <a:ext cx="100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mbryon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43600" y="5165640"/>
              <a:ext cx="13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stablish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32280" y="3154320"/>
              <a:ext cx="100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EY ELEMENTS FOR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09480" y="1066680"/>
          <a:ext cx="8001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001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P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039680"/>
          <a:ext cx="8305920" cy="45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39680"/>
                    <a:ext cx="830592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UBLIC POLICY P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ETWORK PROMO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ple player networks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llaborative networks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stitutional support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rokerage and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   physical focus or hu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   international approa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UPPORT INNO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earch institutes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infrastructure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mercialise results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VELOP SKIL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ducation industry lin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ise awaren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kills cent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EING PROVOVATIV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e key issue is to know when to intervene and when to let go.  Sometimes there can be too much administration in cluster development”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ractitioners should not pursue one size fits all policies”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olicy intervention should be minimal and only to protect growth, the market should be the driving force”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Developing a willingness to co-operate among businesses and a profile for the cluster can take years”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ORKSHOP 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S SOME FOOD FOR THOUGHT IN RESPECT OF WORKSHOP SESSIONS FOR LATER THIS MORNING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ecotec_splash" descr=""/>
          <p:cNvPicPr/>
          <p:nvPr/>
        </p:nvPicPr>
        <p:blipFill>
          <a:blip r:embed="rId1"/>
          <a:stretch/>
        </p:blipFill>
        <p:spPr>
          <a:xfrm flipH="1" rot="10800000">
            <a:off x="304920" y="956520"/>
            <a:ext cx="83055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RUCTURE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day’s Foc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Con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ccess Fa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ocative Though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DAY’S FO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identify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actors that contribute to successful cluster develop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grounded 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sive meta analysis to inform “A Practical Guide to Cluster Development” for the DTI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ctical experience of identifying and developing Cluster Action Terms for City Growth St Helen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identify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areas of policy interven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at can facilitate and support success fa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Y ARE WE INTERESTE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guably, the best regional policies identify c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ustries and encourage the clustering of o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ustries around them”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OECD, 199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globolised and technologically advanc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, businesses are increasingly gathe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gether to generate competitive advantage. 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enomenon - clustering - can be seen around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”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DTI, 200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CK TO BA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ographic concentrations of interconnec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nies, specialised suppliers, servic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rs, firms in related industries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ociated institutions (for examples universities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s agencies, and trade associations) 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ular fields that compete but also co-operat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PORTER, 199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INUED/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CK TO BA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3399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ms must be link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6852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ups of linked firms that locate in close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ximity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6852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68520" indent="-257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ages are vertical and horizontal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68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68520" indent="-257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relationships or networks are prevalen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68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68520" indent="-257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operate at different spatial scale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DENTIFYING SUCCESS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clusters are different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a number of common success factors stand out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no one approach will be suitable in all cases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some factors occur more than others and should be stimulated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ve success factors, different clusters, different locations and different time periods…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OKING AT IT VIS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066680"/>
          <a:ext cx="838188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3818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b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RITICAL SUCCESS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ce of strong functioning networks and partner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ong innovation base with supporting  R &amp; D activities where appropri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ong skills bas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1:07:59Z</dcterms:created>
  <dc:creator>ECOTEC</dc:creator>
  <dc:description/>
  <dc:language>en-US</dc:language>
  <cp:lastModifiedBy>fozia sultana</cp:lastModifiedBy>
  <dcterms:modified xsi:type="dcterms:W3CDTF">2004-06-04T15:19:08Z</dcterms:modified>
  <cp:revision>22</cp:revision>
  <dc:subject/>
  <dc:title>Presentation Title</dc:title>
</cp:coreProperties>
</file>