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EB9-04D8-4874-A386-54C05AFD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058-E629-494E-BDCC-13A92183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1E2-F274-4D32-AEA5-B4680988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3A7-1966-458E-992B-FE544158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D7D8-9A90-43DA-AAA5-5A521347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B7E9-F3A8-4998-921D-79BF90D9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8C5D-2E26-4AAD-8CBF-92DEEC27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0D40-634A-4A21-9347-968F342C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5F45-5EE4-4387-8A9F-A75AE543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9B27-0ABD-4206-80E3-3237C1FC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AB01-B826-4CB9-A11C-AA708E12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D85-BC3D-4141-8315-A0F995C8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BA01-39E8-42E8-9E76-2DF941E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EB06-2415-4CD2-BC8A-ADE6C5F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6618-A36E-49EB-8F3C-86A4ECAF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F04A-70A3-4CDC-A7EA-03E1E3E3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EC88-3BDA-4CA6-AAC3-6706027B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9A2-47AD-41F5-931A-85F85AF4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A79-BBAF-49FD-B4C7-9AAF40C0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2C3-2C69-4543-A0C7-1C6A566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60B-1502-4D7D-9AB9-F5CE94B1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D2C-0E14-4608-A50F-CA38FEE9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824-DEE8-4DC6-9044-632C3B1F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A08-2829-46C1-B3EF-A727E784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695720" y="6550560"/>
            <a:ext cx="12193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99840" y="6526800"/>
            <a:ext cx="56386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F7C8-EBF9-401D-B1B7-82B617F84175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3999-CB6D-480D-9EA6-2BD4C27E99EB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  <a:ea typeface="Times New Roman"/>
              </a:rPr>
              <a:t>Policies for high-tech spin-off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1640" y="2927520"/>
            <a:ext cx="43434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abrizio Cesaron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Arial"/>
              </a:rPr>
              <a:t>St. Anna School of Advanced Studies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Piazza Martiri della Libertà, 33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56127 Pisa, Italy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email: cesaroni@sssup.it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Logo_Scuola14" descr=""/>
          <p:cNvPicPr/>
          <p:nvPr/>
        </p:nvPicPr>
        <p:blipFill>
          <a:blip r:embed="rId1"/>
          <a:stretch/>
        </p:blipFill>
        <p:spPr>
          <a:xfrm>
            <a:off x="464832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lements to succeed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2590920"/>
            <a:ext cx="6553440" cy="3200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ood 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ood ide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ood business potent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ood support services and fin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7C9-81AB-441D-82A3-6F29798550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refor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Do we really need a policy intervention (at the regional level) to promote the creation of research-based spin-off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E4B-36F5-4E51-895C-8DF69F9C31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rket and system failures exi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arket failur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gh-tech businesses are more risky than traditional 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ime for break-even is long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(Patient) financial resources are more necess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cientists (running a spin-off) have weaker managerial competen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ystem failur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ifferent actors have to be actively involved in the project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(“socio-technical alignments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rivate investment is lower than socially desi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986-C9BB-4670-8C65-228A87DCBC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1440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Motivations for p</a:t>
            </a:r>
            <a:r>
              <a:rPr b="0" lang="it-IT" sz="2800" spc="-1" strike="noStrike">
                <a:solidFill>
                  <a:srgbClr val="ffa1a1"/>
                </a:solidFill>
                <a:latin typeface="Arial"/>
              </a:rPr>
              <a:t>ublic</a:t>
            </a: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 interven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ools and instr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Agglomeration effects and clusters: polic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98A-F3B3-4E10-A5DC-9645E33FB69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43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First,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financial resources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not always are avail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13120" y="3124080"/>
            <a:ext cx="507348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03" name=""/>
          <p:cNvSpPr/>
          <p:nvPr/>
        </p:nvSpPr>
        <p:spPr>
          <a:xfrm rot="16200000">
            <a:off x="3657600" y="5562000"/>
            <a:ext cx="533160" cy="533520"/>
          </a:xfrm>
          <a:custGeom>
            <a:avLst/>
            <a:gdLst>
              <a:gd name="textAreaLeft" fmla="*/ 0 w 533160"/>
              <a:gd name="textAreaRight" fmla="*/ 533520 w 5331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5791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Lack of adequate resour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5181480"/>
            <a:ext cx="419112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2FF-79CD-4988-8E5D-604296922F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2438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cond, necessary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support services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are often complex and differentiat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8080" y="3836880"/>
            <a:ext cx="507384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09" name=""/>
          <p:cNvSpPr/>
          <p:nvPr/>
        </p:nvSpPr>
        <p:spPr>
          <a:xfrm flipV="1" rot="5400000">
            <a:off x="3124080" y="335268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3200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External consultants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are requir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3886200"/>
            <a:ext cx="228600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AC0-EF83-4BB4-A79C-25D2631CCB2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212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hird,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incubation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ften requires specific infrastruc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507384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6477120" y="364500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Business incubators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are costly and risky invest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76680" y="4691160"/>
            <a:ext cx="1904760" cy="6094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87692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6C3-ACE8-4C11-A2E5-EDA14AFAB83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Fourth, once created, HT SO’s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need to gro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507384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21" name=""/>
          <p:cNvSpPr/>
          <p:nvPr/>
        </p:nvSpPr>
        <p:spPr>
          <a:xfrm flipH="1" rot="16200000">
            <a:off x="6018480" y="3124080"/>
            <a:ext cx="533520" cy="533160"/>
          </a:xfrm>
          <a:custGeom>
            <a:avLst/>
            <a:gdLst>
              <a:gd name="textAreaLeft" fmla="*/ 360 w 533520"/>
              <a:gd name="textAreaRight" fmla="*/ 53424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30481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Policies to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sustain long-term growth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are different from policies to create new compan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91120" y="3657600"/>
            <a:ext cx="381240" cy="1981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384-72BB-4E82-B89D-9D1DCA803B7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286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Fifth,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PRO’s culture and effort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ight be inadequa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765600" y="3836880"/>
            <a:ext cx="507348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27" name=""/>
          <p:cNvSpPr/>
          <p:nvPr/>
        </p:nvSpPr>
        <p:spPr>
          <a:xfrm flipH="1" rot="10800000">
            <a:off x="3047040" y="5181480"/>
            <a:ext cx="533160" cy="53352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8954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Efforts to create the right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 climate and trust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(conferences, meeting, seminars, …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5257800"/>
            <a:ext cx="1600200" cy="6094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5D5-3934-42EF-95C5-EE566975340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pin-offs and HT clu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regional economic development is a key political go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gglomeration of high-tech firm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(and hence of research-based spin-offs) is a desired 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pecially for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less developed reg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F5D-9C34-4641-BC3F-3DF75C5ADF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utline of the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otivations for public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ools and instru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gglomeration effects and clusters: poli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44F-313C-4418-A549-2B37AB07CB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1440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Motivations for p</a:t>
            </a:r>
            <a:r>
              <a:rPr b="0" lang="it-IT" sz="2800" spc="-1" strike="noStrike">
                <a:solidFill>
                  <a:srgbClr val="ffa1a1"/>
                </a:solidFill>
                <a:latin typeface="Arial"/>
              </a:rPr>
              <a:t>ublic</a:t>
            </a: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 interven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Tools and instr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gglomeration effects and clusters: polic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99B-0FAE-447D-995F-556E1230CC7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Four types of HT clusters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 peripheral reg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2362320"/>
            <a:ext cx="80010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University Based Centers</a:t>
            </a: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Non metropolitan areas, often medium-sized university cities, where the public sector has heavily invested in scientific research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1576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Private &amp; Public Synergies</a:t>
            </a: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A significant private investment, and a more effective exploitation of existing local public scientific research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1576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Emerging Entrepreneurship</a:t>
            </a:r>
            <a:br>
              <a:rPr sz="2000"/>
            </a:b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Areas with no relevant entrepreneurial or industrial tradition, but with a previous public investment in research and a more recent private investment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1576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Shumpeterian HT Clusters</a:t>
            </a: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Significant concentration of firms in a new HT sector, no relevant contributions from public research, important role of a Schumpeterian innovator and external resources/firm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DF9-92ED-464C-9733-28E435A4B3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ifferent studies (eg, Bresnahan et al., 2001) have shown tha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Factors that allow a cluster to start are radically different from those that sustain its growth and development, after the st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Later on, things become easie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(“network effects” and “agglomeration economies” come into pla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791-322E-4F99-A499-D7BE291E89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example, if we look at the Silicon Valley during the Sixties (at its sta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actors enabling the beginning of the clus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not only) S&amp;T capabilities in emerging fiel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but also) Managerial and marketing capa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and) Firm building capa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and) Dem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and) Lu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D0D-C73C-4976-9C05-98AC57E302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general, some regulari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Existence of skilled labour not completely (or adequately) employed in existing businesses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Existence of managerial and “firm building capabilities”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bet on the birth of new (successful) firm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Existence of linkages to (fast growing) mark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B6B-925C-438F-BA4E-0690AB5844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rprisingly, often things are easier when clustering firms follow an existing (and growing) technological trajec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chnology followers have both advantages and 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Markets and institutions already ex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argest market segments are already covered by leaders,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but relevant complementary niches may no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D81-93F2-4006-B162-BAE66ADE0E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, in the ICT sect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India, Israel, Ireland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uccessful in complementary markets to mainstream market (despite differences among the three ca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ambridge (UK)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“partial” success (in terms of growth), because competitor of lea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candinavian countri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uccessful, because in a complementary vertical market (wire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Why not in Germany?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because high opportunity costs for skilled labo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86D-84DB-43F7-8E57-ACF8DC8D32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promotion of research-based spin-offs is the result of activities that are partly developed by the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research institutio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themsel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create an internal “entrepreneurial” culture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services and support in the topic of IPR’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other start-up service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facilitate the interaction with other actors (networ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nd that partly remain in the domain of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ublic authoriti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inancing, Infrastructures, and Networ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5CE-0686-4F1C-BC5E-7C13DF6FD5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Policies need to be evalu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arison between goals and results permits to redirect efforts in subsequent s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ed of systems of data collection, to be designed at the begi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ne final 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A20-A9B4-4CC3-A988-C555015FBF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otivations for </a:t>
            </a: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public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interven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Tools and instr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Agglomeration effects and clusters: polic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6DD-35FC-4A14-A354-296D565B93A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search-based (or High-tech) spin-offs are a (rather) recent phenomenon. They contribute t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20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crease the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return on investments in public research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, and to close the gap between University and Industry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(together with other means – patents, licenses, research collaborations, mobility of researchers, 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24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crease the number of NTBF’s, and hence contribute to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(local) economic develo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y are high-tech spin-offs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important</a:t>
            </a: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 (from a policy perspective)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41A-4238-4180-A194-ABE84158E8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1) Spin-offs as a way to exploit results of public resear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wo main ways to exploit research results by PRO’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0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echnological license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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codified knowled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0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Spin-off compani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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tacit knowled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479-5291-4C07-B0FC-5C9617DA5C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2) Spin-offs as a way to stimulate the (local) econo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438280"/>
          <a:ext cx="8001000" cy="3816360"/>
        </p:xfrm>
        <a:graphic>
          <a:graphicData uri="http://schemas.openxmlformats.org/drawingml/2006/table">
            <a:tbl>
              <a:tblPr/>
              <a:tblGrid>
                <a:gridCol w="5592960"/>
                <a:gridCol w="240804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ynamic HT SME’s as a critical link between sources of knowledge creation such as universities, and the industr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io and Yli-Renko (1998), Jones (1992), Arora and Gambardella (1990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T firms are likely to concentrate in metropolitan areas, or in the proximities of public and private R&amp;D centers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rlino (2001), Bade and Nerlinger (200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T sectors grow faster than traditional secto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rey and Tether (1998),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LOT project (2003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T SME’s can give rise to various forms of technological districts and clusters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rter (1990), Bergman &amp; Feser (1999), Markusen (199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D1A-D2B6-49DC-AB8C-500566CE10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erent goals,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erent definitions of spin-o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4382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ording to the goal of the policies, different definitions of spin-off can be use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turn on investments in public researc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n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trict defin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formal transfer of technologies + funded by public sector employe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ntribution to (local) economic develop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n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broad defin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every high-tech start-up, with links with university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224-5C58-46EB-93A2-DE43BB214E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 model of spin-off cre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2362320"/>
            <a:ext cx="8153640" cy="4106880"/>
            <a:chOff x="838080" y="2362320"/>
            <a:chExt cx="8153640" cy="4106880"/>
          </a:xfrm>
        </p:grpSpPr>
        <p:grpSp>
          <p:nvGrpSpPr>
            <p:cNvPr id="110" name=""/>
            <p:cNvGrpSpPr/>
            <p:nvPr/>
          </p:nvGrpSpPr>
          <p:grpSpPr>
            <a:xfrm>
              <a:off x="838080" y="2362320"/>
              <a:ext cx="7467120" cy="3885840"/>
              <a:chOff x="838080" y="2362320"/>
              <a:chExt cx="7467120" cy="3885840"/>
            </a:xfrm>
          </p:grpSpPr>
          <p:sp>
            <p:nvSpPr>
              <p:cNvPr id="111" name=""/>
              <p:cNvSpPr/>
              <p:nvPr/>
            </p:nvSpPr>
            <p:spPr>
              <a:xfrm>
                <a:off x="1020240" y="5207400"/>
                <a:ext cx="1767240" cy="691920"/>
              </a:xfrm>
              <a:custGeom>
                <a:avLst/>
                <a:gdLst/>
                <a:ahLst/>
                <a:rect l="l" t="t" r="r" b="b"/>
                <a:pathLst>
                  <a:path w="960" h="405">
                    <a:moveTo>
                      <a:pt x="0" y="388"/>
                    </a:moveTo>
                    <a:lnTo>
                      <a:pt x="7" y="405"/>
                    </a:lnTo>
                    <a:lnTo>
                      <a:pt x="960" y="17"/>
                    </a:lnTo>
                    <a:lnTo>
                      <a:pt x="954" y="0"/>
                    </a:lnTo>
                    <a:lnTo>
                      <a:pt x="0" y="38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20240" y="2830320"/>
                <a:ext cx="1767240" cy="691920"/>
              </a:xfrm>
              <a:custGeom>
                <a:avLst/>
                <a:gdLst/>
                <a:ahLst/>
                <a:rect l="l" t="t" r="r" b="b"/>
                <a:pathLst>
                  <a:path w="960" h="405">
                    <a:moveTo>
                      <a:pt x="7" y="0"/>
                    </a:moveTo>
                    <a:lnTo>
                      <a:pt x="0" y="17"/>
                    </a:lnTo>
                    <a:lnTo>
                      <a:pt x="954" y="405"/>
                    </a:lnTo>
                    <a:lnTo>
                      <a:pt x="960" y="38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958360" y="2835720"/>
                <a:ext cx="32760" cy="30708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01120" y="2700360"/>
                <a:ext cx="149040" cy="13824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81" y="81"/>
                    </a:moveTo>
                    <a:lnTo>
                      <a:pt x="40" y="0"/>
                    </a:lnTo>
                    <a:lnTo>
                      <a:pt x="0" y="81"/>
                    </a:lnTo>
                    <a:lnTo>
                      <a:pt x="81" y="81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01120" y="5904720"/>
                <a:ext cx="147240" cy="13644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0"/>
                    </a:moveTo>
                    <a:lnTo>
                      <a:pt x="40" y="80"/>
                    </a:lnTo>
                    <a:lnTo>
                      <a:pt x="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65520" y="2835720"/>
                <a:ext cx="33120" cy="30708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08640" y="2700360"/>
                <a:ext cx="149040" cy="13824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81" y="81"/>
                    </a:moveTo>
                    <a:lnTo>
                      <a:pt x="40" y="0"/>
                    </a:lnTo>
                    <a:lnTo>
                      <a:pt x="0" y="81"/>
                    </a:lnTo>
                    <a:lnTo>
                      <a:pt x="81" y="81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08640" y="5904720"/>
                <a:ext cx="146880" cy="13644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0"/>
                    </a:moveTo>
                    <a:lnTo>
                      <a:pt x="40" y="80"/>
                    </a:lnTo>
                    <a:lnTo>
                      <a:pt x="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77040" y="4605840"/>
                <a:ext cx="4947120" cy="637200"/>
              </a:xfrm>
              <a:custGeom>
                <a:avLst/>
                <a:gdLst/>
                <a:ahLst/>
                <a:rect l="l" t="t" r="r" b="b"/>
                <a:pathLst>
                  <a:path w="2687" h="373">
                    <a:moveTo>
                      <a:pt x="0" y="355"/>
                    </a:moveTo>
                    <a:lnTo>
                      <a:pt x="2" y="373"/>
                    </a:lnTo>
                    <a:lnTo>
                      <a:pt x="2687" y="17"/>
                    </a:lnTo>
                    <a:lnTo>
                      <a:pt x="2685" y="0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71280" y="3484800"/>
                <a:ext cx="4947120" cy="635760"/>
              </a:xfrm>
              <a:custGeom>
                <a:avLst/>
                <a:gdLst/>
                <a:ahLst/>
                <a:rect l="l" t="t" r="r" b="b"/>
                <a:pathLst>
                  <a:path w="2687" h="372">
                    <a:moveTo>
                      <a:pt x="2" y="0"/>
                    </a:moveTo>
                    <a:lnTo>
                      <a:pt x="0" y="17"/>
                    </a:lnTo>
                    <a:lnTo>
                      <a:pt x="2685" y="372"/>
                    </a:lnTo>
                    <a:lnTo>
                      <a:pt x="2687" y="35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67520" y="270036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67520" y="291744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67520" y="313452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67520" y="334980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67520" y="356688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67520" y="378396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67520" y="3999600"/>
                <a:ext cx="32760" cy="1242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67520" y="4216320"/>
                <a:ext cx="32760" cy="1242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67520" y="443340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67520" y="465048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67520" y="486576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67520" y="508248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67520" y="529956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67520" y="551664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67520" y="573228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67520" y="5949000"/>
                <a:ext cx="32760" cy="921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92640" y="2362320"/>
                <a:ext cx="771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78320" y="2408400"/>
                <a:ext cx="695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Research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62160" y="2486880"/>
                <a:ext cx="10220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38120" y="2531520"/>
                <a:ext cx="974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Validation of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39720" y="2703960"/>
                <a:ext cx="540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project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45800" y="2486880"/>
                <a:ext cx="10418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32560" y="2531520"/>
                <a:ext cx="974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Validation of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21760" y="2703960"/>
                <a:ext cx="103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business plan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49240" y="2496960"/>
                <a:ext cx="102132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25560" y="2541600"/>
                <a:ext cx="974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Validation of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520320" y="2714040"/>
                <a:ext cx="55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growth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3720" y="290736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3720" y="312264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63720" y="333936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63720" y="355644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63720" y="377352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63720" y="398916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63720" y="420588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63720" y="442296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63720" y="464004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63720" y="485568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863720" y="507240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63720" y="528948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3720" y="550476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63720" y="5722200"/>
                <a:ext cx="32760" cy="1242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63720" y="593892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63720" y="6156000"/>
                <a:ext cx="32760" cy="921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12760" y="2638800"/>
                <a:ext cx="662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68200" y="2684880"/>
                <a:ext cx="54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ahoma"/>
                  </a:rPr>
                  <a:t>Applied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82000" y="2628720"/>
                <a:ext cx="10382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22680" y="2674800"/>
                <a:ext cx="951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ahoma"/>
                  </a:rPr>
                  <a:t>Fundamental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8080" y="4711680"/>
                <a:ext cx="1782360" cy="477000"/>
              </a:xfrm>
              <a:prstGeom prst="rect">
                <a:avLst/>
              </a:prstGeom>
              <a:solidFill>
                <a:srgbClr val="ffff99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69760" y="4764960"/>
                <a:ext cx="1450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portunity search/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75160" y="4964760"/>
                <a:ext cx="140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wareness creation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69520" y="4371840"/>
                <a:ext cx="3466440" cy="278280"/>
              </a:xfrm>
              <a:prstGeom prst="rect">
                <a:avLst/>
              </a:prstGeom>
              <a:solidFill>
                <a:srgbClr val="cc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05280" y="4425120"/>
                <a:ext cx="212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IP assessment and protection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87840" y="3690000"/>
                <a:ext cx="1683000" cy="676800"/>
              </a:xfrm>
              <a:prstGeom prst="rect">
                <a:avLst/>
              </a:prstGeom>
              <a:solidFill>
                <a:srgbClr val="cc99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28160" y="3744360"/>
                <a:ext cx="1480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Strategic choice how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25640" y="3942720"/>
                <a:ext cx="1224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to commerciali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64520" y="4141440"/>
                <a:ext cx="317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R&amp;D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06040" y="4773240"/>
                <a:ext cx="1550160" cy="675000"/>
              </a:xfrm>
              <a:prstGeom prst="rect">
                <a:avLst/>
              </a:prstGeom>
              <a:solidFill>
                <a:srgbClr val="ffcccc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51760" y="4827960"/>
                <a:ext cx="1090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Incubation and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53560" y="5026320"/>
                <a:ext cx="982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usiness plan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51760" y="5224320"/>
                <a:ext cx="94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evelopment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09800" y="5578200"/>
                <a:ext cx="5041080" cy="278280"/>
              </a:xfrm>
              <a:prstGeom prst="rect">
                <a:avLst/>
              </a:prstGeom>
              <a:solidFill>
                <a:srgbClr val="cccc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49400" y="5631480"/>
                <a:ext cx="1186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Funding process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24600" y="4083120"/>
                <a:ext cx="2280600" cy="597960"/>
              </a:xfrm>
              <a:prstGeom prst="rect">
                <a:avLst/>
              </a:prstGeom>
              <a:solidFill>
                <a:srgbClr val="c0c0c0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33600" y="4132440"/>
                <a:ext cx="220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ahoma"/>
                  </a:rPr>
                  <a:t>Control over the spin-out process</a:t>
                </a:r>
                <a:endParaRPr b="0" lang="en-US" sz="11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53760" y="4305240"/>
                <a:ext cx="184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Tahoma"/>
                  </a:rPr>
                  <a:t>after start-up of the spin-o</a:t>
                </a:r>
                <a:r>
                  <a:rPr b="0" lang="it-IT" sz="1100" spc="-1" strike="noStrike">
                    <a:solidFill>
                      <a:srgbClr val="000000"/>
                    </a:solidFill>
                    <a:latin typeface="Tahoma"/>
                  </a:rPr>
                  <a:t>ff</a:t>
                </a:r>
                <a:endParaRPr b="0" lang="en-US" sz="11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82920" y="4477680"/>
                <a:ext cx="608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ahoma"/>
                  </a:rPr>
                  <a:t>company</a:t>
                </a:r>
                <a:endParaRPr b="0" lang="en-US" sz="11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0" y="6100920"/>
              <a:ext cx="2133720" cy="368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Clarysse </a:t>
              </a:r>
              <a:r>
                <a:rPr b="1" i="1" lang="it-IT" sz="1800" spc="-1" strike="noStrike">
                  <a:solidFill>
                    <a:srgbClr val="003366"/>
                  </a:solidFill>
                  <a:latin typeface="Times New Roman"/>
                </a:rPr>
                <a:t>et al.</a:t>
              </a: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, 200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ACE-1096-43AD-9765-31200407C1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pects that PRO’s would have to manag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Activiti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portunity search and awareness cre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rategic choice how to commercialise R&amp;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llectual property assessment and prote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ubation and business plan develop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unding pro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ntrol over the spin-out process after spin-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Resourc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rganisational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uman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chnological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hysical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inancial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etworking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61960" y="6095880"/>
            <a:ext cx="210996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Clarysse </a:t>
            </a:r>
            <a:r>
              <a:rPr b="1" i="1" lang="it-IT" sz="1800" spc="-1" strike="noStrike">
                <a:solidFill>
                  <a:srgbClr val="003366"/>
                </a:solidFill>
                <a:latin typeface="Times New Roman"/>
              </a:rPr>
              <a:t>et al.</a:t>
            </a: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, 200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438280"/>
            <a:ext cx="0" cy="3657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4EF-25FA-47C2-BF05-DE62366E3A27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19:35:53Z</dcterms:created>
  <dc:creator>Fabrizio Cesaroni</dc:creator>
  <dc:description/>
  <dc:language>en-US</dc:language>
  <cp:lastModifiedBy>Fabrizio Cesaroni</cp:lastModifiedBy>
  <dcterms:modified xsi:type="dcterms:W3CDTF">2004-06-08T10:41:23Z</dcterms:modified>
  <cp:revision>31</cp:revision>
  <dc:subject/>
  <dc:title>Policies for high tech spin offs – a comparative assessment </dc:title>
</cp:coreProperties>
</file>