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3CB-4A67-469C-AAE2-73072512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EDA-D654-49C8-A1A8-17DDB59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B25-23F4-4B89-8D42-3EF2AB07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6E6-11A9-4252-A56B-2B93F869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B5F-D61D-43E7-9E62-CCE1666A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2CD0-0D26-4B98-B67A-BC25BD7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DF05-7C2E-4D2C-A264-ECB80449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57C8-8D81-4FAF-8899-39E8878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9E28-2540-4C40-B757-20E9EDB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BFC0-F4EA-4C98-AED8-0E9838E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AB9-403A-4E15-878D-8BF0B63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67E-A793-4A02-8091-06C2C1E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064C-5718-4FBE-BA3B-644040B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1C23-B5F8-4213-9498-AA98254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A56-0012-4E60-B646-69C56460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EC81-0F67-4AA9-9345-D3416351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F6C-6494-49E5-B7B3-0FAD1C45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728-DFC8-4CFB-B74B-AAF5D70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9D2-81C2-4CDE-A146-7788BB25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DFF-6F4B-4576-9B5A-A504A28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294-3B09-46E0-A808-06DFA3A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490-C5EB-43AC-B4FE-28CD2C4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358-6492-4EE5-8B0E-7B219BE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EEB-B4AC-4EC3-93C8-CAFC655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695720" y="6550560"/>
            <a:ext cx="12193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99840" y="6526800"/>
            <a:ext cx="56386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F814-C442-4D30-99BB-29C0ED8E0B95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717C-70E0-46C8-93B1-B9ECA04CD04F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Policies for high-tech spin-off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1640" y="2927520"/>
            <a:ext cx="43434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abrizio Cesaron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St. Anna School of Advanced Studies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Piazza Martiri della Libertà, 33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56127 Pisa, Italy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email: cesaroni@sssup.it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Logo_Scuola14" descr=""/>
          <p:cNvPicPr/>
          <p:nvPr/>
        </p:nvPicPr>
        <p:blipFill>
          <a:blip r:embed="rId1"/>
          <a:stretch/>
        </p:blipFill>
        <p:spPr>
          <a:xfrm>
            <a:off x="46483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lements to succeed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2590920"/>
            <a:ext cx="6553440" cy="3200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re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ide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business potent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ood support services and f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BFF-6820-48F7-9676-AD81B9473B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refor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Do we really need a policy intervention (at the regional level) to promote the creation of research-based spin-off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420-956B-4C0B-A2DD-5DB56DFD09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rket and system failures exi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arket failur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-tech businesses are more risky than traditional 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ime for break-even is lon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(Patient) financial resources are more necess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cientists (running a spin-off) have weaker managerial compet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ystem failur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erent actors have to be actively involved in the projec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(“socio-technical alignment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rivate investment is lower than socially desi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BEF-0C6F-4157-8625-DE7124263F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Motivations for p</a:t>
            </a:r>
            <a:r>
              <a:rPr b="0" lang="it-IT" sz="2800" spc="-1" strike="noStrike">
                <a:solidFill>
                  <a:srgbClr val="ffa1a1"/>
                </a:solidFill>
                <a:latin typeface="Arial"/>
              </a:rPr>
              <a:t>ublic</a:t>
            </a: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2FF-9475-47CD-8393-A26C29124AE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irst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financial resource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not always are availabl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13120" y="3124080"/>
            <a:ext cx="507348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03" name=""/>
          <p:cNvSpPr/>
          <p:nvPr/>
        </p:nvSpPr>
        <p:spPr>
          <a:xfrm rot="16200000">
            <a:off x="3657600" y="556200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5791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Lack of adequate resour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181480"/>
            <a:ext cx="419112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635-252F-4B8D-93E4-4680050640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2438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cond, necessary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upport service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are often complex and differentiat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38368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09" name=""/>
          <p:cNvSpPr/>
          <p:nvPr/>
        </p:nvSpPr>
        <p:spPr>
          <a:xfrm flipV="1" rot="5400000">
            <a:off x="3124080" y="33526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3200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External consultants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requi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3886200"/>
            <a:ext cx="228600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213-CF19-45E2-97B6-3A9BC07BE9E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hird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ncubation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ften requires specific infrastructu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6477120" y="36450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Business incubators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costly and risky investm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6680" y="4691160"/>
            <a:ext cx="1904760" cy="6094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87692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52E-B976-4811-963C-95E57B100EC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ourth, once created, HT SO’s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eed to gr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507384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 rot="16200000">
            <a:off x="6018480" y="3124080"/>
            <a:ext cx="533520" cy="5331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0481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Policies to 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sustain long-term growth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are different from policies to create new compan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91120" y="3657600"/>
            <a:ext cx="381240" cy="1981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1FE-C5B0-4473-A1AC-9078756E542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ritical asp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286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ifth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RO’s culture and effort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ight be inadequ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765600" y="3836880"/>
            <a:ext cx="5073480" cy="2640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27" name=""/>
          <p:cNvSpPr/>
          <p:nvPr/>
        </p:nvSpPr>
        <p:spPr>
          <a:xfrm flipH="1" rot="10800000">
            <a:off x="3047040" y="5181480"/>
            <a:ext cx="533160" cy="53352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8954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Efforts to create the right</a:t>
            </a:r>
            <a:r>
              <a:rPr b="0" lang="it-IT" sz="2400" spc="-1" strike="noStrike">
                <a:solidFill>
                  <a:srgbClr val="ff3300"/>
                </a:solidFill>
                <a:latin typeface="Tahoma"/>
              </a:rPr>
              <a:t> climate and trust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(conferences, meeting, seminars, …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5257800"/>
            <a:ext cx="1600200" cy="6094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B16-4FD8-4F6B-9F18-58D0DB430D8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pin-offs and HT clu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regional economic development is a key political go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gglomeration of high-tech fir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(and hence of research-based spin-offs) is a desired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pecially for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less developed reg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DF5-1A6C-4F90-8C5C-31DBC5CE34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otivations for public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002-4E21-474F-B0D4-1F9AB45777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Motivations for p</a:t>
            </a:r>
            <a:r>
              <a:rPr b="0" lang="it-IT" sz="2800" spc="-1" strike="noStrike">
                <a:solidFill>
                  <a:srgbClr val="ffa1a1"/>
                </a:solidFill>
                <a:latin typeface="Arial"/>
              </a:rPr>
              <a:t>ublic</a:t>
            </a: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6FE-5F19-4E4A-82D5-4FDE73D6433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Four types of HT clusters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 peripheral reg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362320"/>
            <a:ext cx="80010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University Based Center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Non metropolitan areas, often medium-sized university cities, where the public sector has heavily invested in scientific research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Private &amp; Public Synergie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A significant private investment, and a more effective exploitation of existing local public scientific research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Emerging Entrepreneurship</a:t>
            </a:r>
            <a:br>
              <a:rPr sz="2000"/>
            </a:b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Areas with no relevant entrepreneurial or industrial tradition, but with a previous public investment in research and a more recent private investment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1576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Shumpeterian HT Clusters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Significant concentration of firms in a new HT sector, no relevant contributions from public research, important role of a Schumpeterian innovator and external resources/firm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F2B-6D6F-4460-925E-5DD36D1985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erent studies (eg, Bresnahan et al., 2001) have shown th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Factors that allow a cluster to start are radically different from those that sustain its growth and development, after the st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Later on, things become easier</a:t>
            </a:r>
            <a:br>
              <a:rPr sz="2800"/>
            </a:b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(“network effects” and “agglomeration economies” come into pla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4A1-7E85-4936-9916-7B599DA110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 example, if we look at the Silicon Valley during the Sixties (at its star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ctors enabling the beginning of the clus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not only) S&amp;T capabilities in emerging fiel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but also) Managerial and marketing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Firm building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Dem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(and) Lu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47C-F2CA-4A55-B78F-7D36BE48E6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general, some regulari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skilled labour not completely (or adequately) employed in existing businesses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managerial and “firm building capabilities”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t on the birth of new (successful) firm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Existence of linkages to (fast growing) mark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DA4-734A-4AAC-9BC8-C8B61EF7B1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rprisingly, often things are easier when clustering firms follow an existing (and growing) technological trajec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chnology followers have both advantages and 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arkets and institutions already ex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rgest market segments are already covered by leaders,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but relevant complementary niches may no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FB2-BAF7-4507-94A7-5826D89F06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, in the ICT sect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India, Israel, Ireland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uccessful in complementary markets to mainstream market (despite differences among the three cas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ambridge (UK)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“partial” success (in terms of growth), because competitor of lea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candinavian countr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uccessful, because in a complementary vertical market (wire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Why not in Germany?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ecause high opportunity costs for skilled lab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reation of HT clusters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F22-D3F8-46E3-9583-CF8DC9A363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promotion of research-based spin-offs is the result of activities that are partly developed by the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research institutio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hemsel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create an internal “entrepreneurial” culture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services and support in the topic of IPR’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other start-up service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facilitate the interaction with other actors (networ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nd that partly remain in the domain of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ublic authorit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inancing, Infrastructures, and Networ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797-29D2-4A78-AF71-A54AC9798E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Policies need to be evalu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arison between goals and results permits to redirect efforts in subsequent s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ed of systems of data collection, to be designed at the begi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ne final iss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094-DDEC-449F-ABCC-324E5BE8B5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otivations for 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public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interven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Tools and instrume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a1a1"/>
                </a:solidFill>
                <a:latin typeface="Arial"/>
              </a:rPr>
              <a:t>Agglomeration effects and clusters: polic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052-B1AC-448D-913F-5682C59FFBD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search-based (or High-tech) spin-offs are a (rather) recent phenomenon. They contribute t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crease the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return on investments in public research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, and to close the gap between University and Industry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(together with other means – patents, licenses, research collaborations, mobility of researchers,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crease the number of NTBF’s, and hence contribute t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(local) economic develop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y are high-tech spin-offs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important</a:t>
            </a: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(from a policy perspective)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A57-11BE-45DF-ACCA-6447805DEE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1) Spin-offs as a way to exploit results of public resea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wo main ways to exploit research results by PRO’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echnological licens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codified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01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Spin-off companie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acit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7F6-6790-493B-9999-2BDB191E2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2) Spin-offs as a way to stimulate the (local) econom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438280"/>
          <a:ext cx="8001000" cy="3816360"/>
        </p:xfrm>
        <a:graphic>
          <a:graphicData uri="http://schemas.openxmlformats.org/drawingml/2006/table">
            <a:tbl>
              <a:tblPr/>
              <a:tblGrid>
                <a:gridCol w="5592960"/>
                <a:gridCol w="240804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ynamic HT SME’s as a critical link between sources of knowledge creation such as universities, and the industr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io and Yli-Renko (1998), Jones (1992), Arora and Gambardella (1990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firms are likely to concentrate in metropolitan areas, or in the proximities of public and private R&amp;D center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rlino (2001), Bade and Nerlinger (200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sectors grow faster than traditional secto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orey and Tether (1998),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LOT project (2003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 SME’s can give rise to various forms of technological districts and cluster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er (1990), Bergman &amp; Feser (1999), Markusen (199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5D-49B3-417C-9B94-1CC933D5BE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erent goals,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erent definitions of spin-o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ording to the goal of the policies, different definitions of spin-off can be use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turn on investments in public researc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trict defin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formal transfer of technologies + funded by public sector employe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tribution to (local) economic develop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broad defini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very high-tech start-up, with links with university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467-DF2A-4A08-AE2E-5BA59B7BED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 model of spin-off cre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2362320"/>
            <a:ext cx="8153640" cy="4106880"/>
            <a:chOff x="838080" y="2362320"/>
            <a:chExt cx="8153640" cy="4106880"/>
          </a:xfrm>
        </p:grpSpPr>
        <p:grpSp>
          <p:nvGrpSpPr>
            <p:cNvPr id="110" name=""/>
            <p:cNvGrpSpPr/>
            <p:nvPr/>
          </p:nvGrpSpPr>
          <p:grpSpPr>
            <a:xfrm>
              <a:off x="838080" y="2362320"/>
              <a:ext cx="7467120" cy="3885840"/>
              <a:chOff x="838080" y="2362320"/>
              <a:chExt cx="7467120" cy="3885840"/>
            </a:xfrm>
          </p:grpSpPr>
          <p:sp>
            <p:nvSpPr>
              <p:cNvPr id="111" name=""/>
              <p:cNvSpPr/>
              <p:nvPr/>
            </p:nvSpPr>
            <p:spPr>
              <a:xfrm>
                <a:off x="1020240" y="5207400"/>
                <a:ext cx="1767240" cy="691920"/>
              </a:xfrm>
              <a:custGeom>
                <a:avLst/>
                <a:gdLst/>
                <a:ahLst/>
                <a:rect l="l" t="t" r="r" b="b"/>
                <a:pathLst>
                  <a:path w="960" h="405">
                    <a:moveTo>
                      <a:pt x="0" y="388"/>
                    </a:moveTo>
                    <a:lnTo>
                      <a:pt x="7" y="405"/>
                    </a:lnTo>
                    <a:lnTo>
                      <a:pt x="960" y="17"/>
                    </a:lnTo>
                    <a:lnTo>
                      <a:pt x="954" y="0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20240" y="2830320"/>
                <a:ext cx="1767240" cy="691920"/>
              </a:xfrm>
              <a:custGeom>
                <a:avLst/>
                <a:gdLst/>
                <a:ahLst/>
                <a:rect l="l" t="t" r="r" b="b"/>
                <a:pathLst>
                  <a:path w="960" h="405">
                    <a:moveTo>
                      <a:pt x="7" y="0"/>
                    </a:moveTo>
                    <a:lnTo>
                      <a:pt x="0" y="17"/>
                    </a:lnTo>
                    <a:lnTo>
                      <a:pt x="954" y="405"/>
                    </a:lnTo>
                    <a:lnTo>
                      <a:pt x="960" y="38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958360" y="2835720"/>
                <a:ext cx="32760" cy="30708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01120" y="2700360"/>
                <a:ext cx="149040" cy="1382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81" y="81"/>
                    </a:moveTo>
                    <a:lnTo>
                      <a:pt x="40" y="0"/>
                    </a:lnTo>
                    <a:lnTo>
                      <a:pt x="0" y="81"/>
                    </a:lnTo>
                    <a:lnTo>
                      <a:pt x="81" y="8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01120" y="5904720"/>
                <a:ext cx="147240" cy="13644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0"/>
                    </a:moveTo>
                    <a:lnTo>
                      <a:pt x="40" y="8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65520" y="2835720"/>
                <a:ext cx="33120" cy="30708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08640" y="2700360"/>
                <a:ext cx="149040" cy="1382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81" y="81"/>
                    </a:moveTo>
                    <a:lnTo>
                      <a:pt x="40" y="0"/>
                    </a:lnTo>
                    <a:lnTo>
                      <a:pt x="0" y="81"/>
                    </a:lnTo>
                    <a:lnTo>
                      <a:pt x="81" y="81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08640" y="5904720"/>
                <a:ext cx="146880" cy="13644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0"/>
                    </a:moveTo>
                    <a:lnTo>
                      <a:pt x="40" y="8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77040" y="4605840"/>
                <a:ext cx="4947120" cy="637200"/>
              </a:xfrm>
              <a:custGeom>
                <a:avLst/>
                <a:gdLst/>
                <a:ahLst/>
                <a:rect l="l" t="t" r="r" b="b"/>
                <a:pathLst>
                  <a:path w="2687" h="373">
                    <a:moveTo>
                      <a:pt x="0" y="355"/>
                    </a:moveTo>
                    <a:lnTo>
                      <a:pt x="2" y="373"/>
                    </a:lnTo>
                    <a:lnTo>
                      <a:pt x="2687" y="17"/>
                    </a:lnTo>
                    <a:lnTo>
                      <a:pt x="2685" y="0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71280" y="3484800"/>
                <a:ext cx="4947120" cy="635760"/>
              </a:xfrm>
              <a:custGeom>
                <a:avLst/>
                <a:gdLst/>
                <a:ahLst/>
                <a:rect l="l" t="t" r="r" b="b"/>
                <a:pathLst>
                  <a:path w="2687" h="372">
                    <a:moveTo>
                      <a:pt x="2" y="0"/>
                    </a:moveTo>
                    <a:lnTo>
                      <a:pt x="0" y="17"/>
                    </a:lnTo>
                    <a:lnTo>
                      <a:pt x="2685" y="372"/>
                    </a:lnTo>
                    <a:lnTo>
                      <a:pt x="2687" y="35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67520" y="27003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67520" y="29174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67520" y="313452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67520" y="334980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67520" y="35668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67520" y="378396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7520" y="399960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7520" y="421632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67520" y="443340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67520" y="46504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67520" y="48657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67520" y="508248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7520" y="52995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67520" y="55166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67520" y="57322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67520" y="5949000"/>
                <a:ext cx="32760" cy="921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92640" y="2362320"/>
                <a:ext cx="771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8320" y="2408400"/>
                <a:ext cx="695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Research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62160" y="2486880"/>
                <a:ext cx="10220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38120" y="253152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39720" y="2703960"/>
                <a:ext cx="540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project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45800" y="2486880"/>
                <a:ext cx="10418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32560" y="253152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1760" y="2703960"/>
                <a:ext cx="103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business pla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49240" y="2496960"/>
                <a:ext cx="102132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25560" y="254160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Validation of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20320" y="271404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ahoma"/>
                  </a:rPr>
                  <a:t>growth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3720" y="290736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3720" y="312264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3720" y="33393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3720" y="35564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63720" y="377352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63720" y="39891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63720" y="42058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63720" y="442296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63720" y="4640040"/>
                <a:ext cx="32760" cy="123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63720" y="485568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863720" y="507240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63720" y="528948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3720" y="5504760"/>
                <a:ext cx="32760" cy="1245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63720" y="5722200"/>
                <a:ext cx="32760" cy="1242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63720" y="5938920"/>
                <a:ext cx="32760" cy="1227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63720" y="6156000"/>
                <a:ext cx="32760" cy="921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12760" y="2638800"/>
                <a:ext cx="662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68200" y="2684880"/>
                <a:ext cx="54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ahoma"/>
                  </a:rPr>
                  <a:t>Applie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82000" y="2628720"/>
                <a:ext cx="10382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22680" y="2674800"/>
                <a:ext cx="95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ahoma"/>
                  </a:rPr>
                  <a:t>Fundamental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8080" y="4711680"/>
                <a:ext cx="1782360" cy="477000"/>
              </a:xfrm>
              <a:prstGeom prst="rect">
                <a:avLst/>
              </a:prstGeom>
              <a:solidFill>
                <a:srgbClr val="ffff99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9760" y="4764960"/>
                <a:ext cx="1450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portunity search/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5160" y="4964760"/>
                <a:ext cx="140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wareness creatio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9520" y="4371840"/>
                <a:ext cx="3466440" cy="278280"/>
              </a:xfrm>
              <a:prstGeom prst="rect">
                <a:avLst/>
              </a:prstGeom>
              <a:solidFill>
                <a:srgbClr val="cc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5280" y="4425120"/>
                <a:ext cx="212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IP assessment and protectio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87840" y="3690000"/>
                <a:ext cx="1683000" cy="676800"/>
              </a:xfrm>
              <a:prstGeom prst="rect">
                <a:avLst/>
              </a:prstGeom>
              <a:solidFill>
                <a:srgbClr val="cc99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28160" y="3744360"/>
                <a:ext cx="1480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Strategic choice how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25640" y="3942720"/>
                <a:ext cx="1224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to commerciali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64520" y="4141440"/>
                <a:ext cx="317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R&amp;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06040" y="4773240"/>
                <a:ext cx="1550160" cy="675000"/>
              </a:xfrm>
              <a:prstGeom prst="rect">
                <a:avLst/>
              </a:prstGeom>
              <a:solidFill>
                <a:srgbClr val="ffcccc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51760" y="4827960"/>
                <a:ext cx="109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Incubation an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53560" y="5026320"/>
                <a:ext cx="982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usiness pla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51760" y="5224320"/>
                <a:ext cx="94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evelopment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09800" y="5578200"/>
                <a:ext cx="5041080" cy="278280"/>
              </a:xfrm>
              <a:prstGeom prst="rect">
                <a:avLst/>
              </a:prstGeom>
              <a:solidFill>
                <a:srgbClr val="cccc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49400" y="5631480"/>
                <a:ext cx="1186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Funding process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24600" y="4083120"/>
                <a:ext cx="2280600" cy="597960"/>
              </a:xfrm>
              <a:prstGeom prst="rect">
                <a:avLst/>
              </a:prstGeom>
              <a:solidFill>
                <a:srgbClr val="c0c0c0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3600" y="4132440"/>
                <a:ext cx="220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ahoma"/>
                  </a:rPr>
                  <a:t>Control over the spin-out process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53760" y="4305240"/>
                <a:ext cx="184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Tahoma"/>
                  </a:rPr>
                  <a:t>after start-up of the spin-o</a:t>
                </a:r>
                <a:r>
                  <a:rPr b="0" lang="it-IT" sz="1100" spc="-1" strike="noStrike">
                    <a:solidFill>
                      <a:srgbClr val="000000"/>
                    </a:solidFill>
                    <a:latin typeface="Tahoma"/>
                  </a:rPr>
                  <a:t>ff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82920" y="447768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ahoma"/>
                  </a:rPr>
                  <a:t>company</a:t>
                </a:r>
                <a:endParaRPr b="0" lang="en-US" sz="11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0" y="6100920"/>
              <a:ext cx="2133720" cy="3682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Clarysse </a:t>
              </a:r>
              <a:r>
                <a:rPr b="1" i="1" lang="it-IT" sz="1800" spc="-1" strike="noStrike">
                  <a:solidFill>
                    <a:srgbClr val="003366"/>
                  </a:solidFill>
                  <a:latin typeface="Times New Roman"/>
                </a:rPr>
                <a:t>et al.</a:t>
              </a:r>
              <a:r>
                <a:rPr b="1" lang="it-IT" sz="1800" spc="-1" strike="noStrike">
                  <a:solidFill>
                    <a:srgbClr val="003366"/>
                  </a:solidFill>
                  <a:latin typeface="Times New Roman"/>
                </a:rPr>
                <a:t>, 200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85D-F59D-4813-B76F-E7C0CA186B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pects that PRO’s would have to manag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portunity search and awareness cre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rategic choice how to commercialise R&amp;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llectual property assessment and prot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ubation and business plan develop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unding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ntrol over the spin-out process after spin-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esourc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rganisation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chnologic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hysic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inancial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tworking resour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61960" y="6095880"/>
            <a:ext cx="21099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Clarysse </a:t>
            </a:r>
            <a:r>
              <a:rPr b="1" i="1" lang="it-IT" sz="1800" spc="-1" strike="noStrike">
                <a:solidFill>
                  <a:srgbClr val="003366"/>
                </a:solidFill>
                <a:latin typeface="Times New Roman"/>
              </a:rPr>
              <a:t>et al.</a:t>
            </a: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, 200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438280"/>
            <a:ext cx="0" cy="3657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rizio Cesaroni - Policies for high-tech spin-off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39E-39D6-42A5-A078-027047BC142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9:35:53Z</dcterms:created>
  <dc:creator>Fabrizio Cesaroni</dc:creator>
  <dc:description/>
  <dc:language>en-US</dc:language>
  <cp:lastModifiedBy>Fabrizio Cesaroni</cp:lastModifiedBy>
  <dcterms:modified xsi:type="dcterms:W3CDTF">2004-06-08T10:41:23Z</dcterms:modified>
  <cp:revision>31</cp:revision>
  <dc:subject/>
  <dc:title>Policies for high tech spin offs – a comparative assessment </dc:title>
</cp:coreProperties>
</file>