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png" ContentType="image/png"/>
  <Override PartName="/ppt/media/image14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13.wmf" ContentType="image/x-wmf"/>
  <Override PartName="/ppt/media/image5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33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6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8ABC-FFEE-4AC9-8B95-77F6F2B82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WM runs a huge range of projects – many of which are support programs and this is where we pull in all the favours on your beha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although we don’t claim to know it all we do claim to know someone who does and will point you in the right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EC4-3A8A-45CC-B728-F1481459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3E1-5D6B-43C0-BB08-EADD768E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2A1-2EB0-48A9-A80E-C9DA5BB9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F3E-0FC1-4983-9C44-E69C826F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9F70-A991-4853-94FA-6B36E207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9233-99C6-4322-8C85-D312A83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0898-25DD-450D-B8CC-7F4518E2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F9A0-5235-480E-BD1A-A4C85BEA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EEBD-D8F7-4302-9987-93C104CC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23E2-7A7C-4597-9D3C-71B097DF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01EE-9096-4F3B-9B90-8415965C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434-0279-4015-8BCB-20C2666F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8621-BD7A-403E-8F95-F613EF19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281A-BA88-4735-8244-76EB1CEF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E075-0D6F-4241-96AA-9BE60FAD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B937-E27F-49C5-97DA-558FFEB7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08F4-F21C-44BC-ACD5-EDA6C0C8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289-2103-4015-B265-5D8DED7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D04-2A5E-4B5C-9854-101DFBF0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6B5-373C-4642-9985-16D53201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8FF-797C-4FBC-AEA9-C12E0F98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504-D817-42F4-BE19-D64BB9A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3BC-2CAB-4C74-BAB0-A53D7F0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7AF-1925-42A5-8689-A004CDD0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C18B-4FD2-4AE0-B064-7DD86CDA1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DDF0-161B-4FBB-8214-13BA369CD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awmintranet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azon.co.uk/exec/obidos/tg/browse/-/468294/202-5140654-0108663" TargetMode="External"/><Relationship Id="rId2" Type="http://schemas.openxmlformats.org/officeDocument/2006/relationships/hyperlink" Target="http://www.amazon.co.uk/exec/obidos/tg/browse/-/471044/ref=cs_nav_top_hlp/202-5140654-0108663" TargetMode="External"/><Relationship Id="rId3" Type="http://schemas.openxmlformats.org/officeDocument/2006/relationships/hyperlink" Target="http://www.amazon.co.uk/exec/obidos/account-access-login/ref=cs_nav_top_ya/202-5140654-0108663" TargetMode="External"/><Relationship Id="rId4" Type="http://schemas.openxmlformats.org/officeDocument/2006/relationships/hyperlink" Target="http://www.amazon.co.uk/exec/obidos/subst/wishlist/wishlist-portal.html/ref=cs_nav_top_wl/202-5140654-0108663" TargetMode="External"/><Relationship Id="rId5" Type="http://schemas.openxmlformats.org/officeDocument/2006/relationships/hyperlink" Target="http://www.amazon.co.uk/exec/obidos/shopping-basket/ref=cs_nav_top_sb/202-5140654-0108663" TargetMode="External"/><Relationship Id="rId6" Type="http://schemas.openxmlformats.org/officeDocument/2006/relationships/hyperlink" Target="http://www.amazon.co.uk/exec/obidos/ASIN/B0000B0A4G/ref=ed_ec_h_cs_2_1/202-5140654-0108663" TargetMode="External"/><Relationship Id="rId7" Type="http://schemas.openxmlformats.org/officeDocument/2006/relationships/hyperlink" Target="http://www.amazon.co.uk/exec/obidos/ASIN/B00009LW6K/ref=ed_ec_h_cs_4_1/202-5140654-0108663" TargetMode="External"/><Relationship Id="rId8" Type="http://schemas.openxmlformats.org/officeDocument/2006/relationships/hyperlink" Target="http://www.amazon.co.uk/exec/obidos/ASIN/0385603401/ref=ed_ec_h_cs_6_1/202-5140654-0108663" TargetMode="External"/><Relationship Id="rId9" Type="http://schemas.openxmlformats.org/officeDocument/2006/relationships/hyperlink" Target="http://www.amazon.co.uk/exec/obidos/tg/new-for-you/new-for-you/-/main/ref=pd_nfy_gw_n/202-5140654-0108663" TargetMode="External"/><Relationship Id="rId10" Type="http://schemas.openxmlformats.org/officeDocument/2006/relationships/hyperlink" Target="http://www.amazon.co.uk/exec/obidos/shopping-basket/ref=ref=pd_nfy_gw_sc/202-5140654-0108663" TargetMode="External"/><Relationship Id="rId11" Type="http://schemas.openxmlformats.org/officeDocument/2006/relationships/hyperlink" Target="http://www.amazon.co.uk/exec/obidos/tg/browse/-/468294/202-5140654-0108663" TargetMode="External"/><Relationship Id="rId12" Type="http://schemas.openxmlformats.org/officeDocument/2006/relationships/hyperlink" Target="http://www.amazon.co.uk/exec/obidos/flex-sign-in/ref=cs_sig_h_1_1/202-5140654-0108663?opt=o&amp;page=help/hp-sign-in-secure.html&amp;response=subst/instant-recs/instant-recs-home.html" TargetMode="External"/><Relationship Id="rId13" Type="http://schemas.openxmlformats.org/officeDocument/2006/relationships/hyperlink" Target="http://www.amazon.co.uk/exec/obidos/ASIN/B000062V91/ref=mk_pro2_h_1_1/202-5140654-0108663" TargetMode="External"/><Relationship Id="rId14" Type="http://schemas.openxmlformats.org/officeDocument/2006/relationships/hyperlink" Target="http://www.amazon.co.uk/exec/obidos/tg/browse/-/1204872/ref=mk_pro_h_1_1/202-5140654-0108663" TargetMode="External"/><Relationship Id="rId15" Type="http://schemas.openxmlformats.org/officeDocument/2006/relationships/hyperlink" Target="http://www.amazon.co.uk/exec/obidos/tg/browse/-/1204872/ref=mk_pro_h_1_1/202-5140654-0108663" TargetMode="External"/><Relationship Id="rId16" Type="http://schemas.openxmlformats.org/officeDocument/2006/relationships/hyperlink" Target="http://www.amazon.co.uk/exec/obidos/tg/browse/-/1204872/ref=mk_pro_h_1_2/202-5140654-0108663" TargetMode="External"/><Relationship Id="rId17" Type="http://schemas.openxmlformats.org/officeDocument/2006/relationships/hyperlink" Target="http://www.amazon.co.uk/exec/obidos/ASIN/B0000AJ595/ref=mk_pro_h_2_1/202-5140654-0108663" TargetMode="External"/><Relationship Id="rId18" Type="http://schemas.openxmlformats.org/officeDocument/2006/relationships/hyperlink" Target="http://www.amazon.co.uk/exec/obidos/tg/new-for-you/new-for-you/-/main/ref=pd_nfy_gw_n/202-5140654-0108663" TargetMode="External"/><Relationship Id="rId19" Type="http://schemas.openxmlformats.org/officeDocument/2006/relationships/hyperlink" Target="http://www.amazon.co.uk/exec/obidos/shopping-basket/ref=ref=pd_nfy_gw_sc/202-5140654-0108663" TargetMode="External"/><Relationship Id="rId20" Type="http://schemas.openxmlformats.org/officeDocument/2006/relationships/hyperlink" Target="http://www.amazon.co.uk/exec/obidos/ASIN/B0000AJ595/ref=pd_nfy_gw_anr_a_m_h_/202-5140654-0108663" TargetMode="External"/><Relationship Id="rId21" Type="http://schemas.openxmlformats.org/officeDocument/2006/relationships/hyperlink" Target="http://www.amazon.co.uk/exec/obidos/tg/stores/static/-/books/amazon-bestsellers/ref=ed_best_h_b_1/202-5140654-0108663" TargetMode="External"/><Relationship Id="rId22" Type="http://schemas.openxmlformats.org/officeDocument/2006/relationships/hyperlink" Target="http://www.amazon.co.uk/exec/obidos/tg/browse/-/512186/ref=cs_faq_h_3_1/202-5140654-0108663" TargetMode="External"/><Relationship Id="rId23" Type="http://schemas.openxmlformats.org/officeDocument/2006/relationships/hyperlink" Target="http://www.amazon.co.uk/exec/obidos/tg/browse/-/502582/ref=cs_faq_h_3_2/202-5140654-0108663" TargetMode="External"/><Relationship Id="rId24" Type="http://schemas.openxmlformats.org/officeDocument/2006/relationships/hyperlink" Target="http://www.amazon.co.uk/exec/obidos/tg/browse/-/502482/ref=cs_faq_h_3_3/202-5140654-0108663" TargetMode="External"/><Relationship Id="rId25" Type="http://schemas.openxmlformats.org/officeDocument/2006/relationships/hyperlink" Target="http://www.amazon.co.uk/exec/obidos/tg/browse/-/502522/ref=cs_faq_h_3_4/202-5140654-0108663" TargetMode="External"/><Relationship Id="rId26" Type="http://schemas.openxmlformats.org/officeDocument/2006/relationships/hyperlink" Target="http://www.amazon.co.uk/exec/obidos/tg/browse/-/561338/ref=cs_faq_h_3_5/202-5140654-0108663" TargetMode="External"/><Relationship Id="rId27" Type="http://schemas.openxmlformats.org/officeDocument/2006/relationships/hyperlink" Target="http://www.amazon.co.uk/exec/obidos/flex-sign-in/ref=cs_h_bn_ro_1_1/202-5140654-0108663?page=help/ya-sign-in-secure.html&amp;response=order-history-filtered&amp;method=POST&amp;opt=ab&amp;return-url=order-history-filtered&amp;ss-order-filter=days-30" TargetMode="External"/><Relationship Id="rId28" Type="http://schemas.openxmlformats.org/officeDocument/2006/relationships/hyperlink" Target="http://www.amazon.co.uk/exec/obidos/account-access-login/ref=cs_h_bn_ya_1_2/202-5140654-0108663" TargetMode="External"/><Relationship Id="rId29" Type="http://schemas.openxmlformats.org/officeDocument/2006/relationships/hyperlink" Target="http://www.amazon.co.uk/exec/obidos/tg/browse/-/492868/ref=cs_h_bn_dr_1_3/202-5140654-0108663" TargetMode="External"/><Relationship Id="rId30" Type="http://schemas.openxmlformats.org/officeDocument/2006/relationships/hyperlink" Target="http://www.amazon.co.uk/exec/obidos/tg/browse/-/502480/ref=cs_h_bn_rp_1_4/202-5140654-0108663" TargetMode="External"/><Relationship Id="rId31" Type="http://schemas.openxmlformats.org/officeDocument/2006/relationships/hyperlink" Target="http://www.amazon.co.uk/exec/obidos/tg/browse/-/502480/ref=cs_h_bn_re_1_5/202-5140654-0108663" TargetMode="External"/><Relationship Id="rId32" Type="http://schemas.openxmlformats.org/officeDocument/2006/relationships/hyperlink" Target="http://www.amazon.co.uk/exec/obidos/self-service-forgot-password-get-email/ref=cs_h_bn_rp_1_6/202-5140654-0108663?return-url-code=3" TargetMode="External"/><Relationship Id="rId33" Type="http://schemas.openxmlformats.org/officeDocument/2006/relationships/hyperlink" Target="http://www.amazon.co.uk/exec/obidos/subst/help/payment.html/ref=cs_h_bn_gb_1_7/202-5140654-0108663#redeem" TargetMode="External"/><Relationship Id="rId34" Type="http://schemas.openxmlformats.org/officeDocument/2006/relationships/hyperlink" Target="http://www.amazon.co.uk/exec/obidos/subst/gifts/gift-certificates/gift-certificates.html/ref=cs_h_bn_gb_1_8/202-5140654-0108663" TargetMode="External"/><Relationship Id="rId35" Type="http://schemas.openxmlformats.org/officeDocument/2006/relationships/hyperlink" Target="http://www.amazon.co.uk/exec/obidos/tg/browse/-/471044/ref=cs_h_bn_x1_1_9/202-5140654-0108663" TargetMode="External"/><Relationship Id="rId36" Type="http://schemas.openxmlformats.org/officeDocument/2006/relationships/hyperlink" Target="http://www.amazon.co.uk/exec/obidos/tg/browse/-/468294/ref=cs_nav_tab_gw/202-5140654-0108663" TargetMode="External"/><Relationship Id="rId37" Type="http://schemas.openxmlformats.org/officeDocument/2006/relationships/hyperlink" Target="http://www.amazon.co.uk/exec/obidos/tg/stores/your/store-home/-/0/ref=cs_nav_tab_ys/202-5140654-0108663" TargetMode="External"/><Relationship Id="rId38" Type="http://schemas.openxmlformats.org/officeDocument/2006/relationships/hyperlink" Target="http://www.amazon.co.uk/exec/obidos/tg/browse/-/266239/ref=cs_nav_tab_b/202-5140654-0108663" TargetMode="External"/><Relationship Id="rId39" Type="http://schemas.openxmlformats.org/officeDocument/2006/relationships/hyperlink" Target="http://www.amazon.co.uk/exec/obidos/tg/browse/-/560798/ref=cs_nav_tab_ce/202-5140654-0108663" TargetMode="External"/><Relationship Id="rId40" Type="http://schemas.openxmlformats.org/officeDocument/2006/relationships/hyperlink" Target="http://www.amazon.co.uk/exec/obidos/tg/browse/-/229816/ref=cs_nav_tab_m/202-5140654-0108663" TargetMode="External"/><Relationship Id="rId41" Type="http://schemas.openxmlformats.org/officeDocument/2006/relationships/hyperlink" Target="http://www.amazon.co.uk/exec/obidos/tg/browse/-/283926/ref=cs_nav_tab_dvd/202-5140654-0108663" TargetMode="External"/><Relationship Id="rId42" Type="http://schemas.openxmlformats.org/officeDocument/2006/relationships/hyperlink" Target="http://www.amazon.co.uk/exec/obidos/tg/browse/-/573398/ref=cs_nav_tab_v/202-5140654-0108663" TargetMode="External"/><Relationship Id="rId43" Type="http://schemas.openxmlformats.org/officeDocument/2006/relationships/hyperlink" Target="http://www.amazon.co.uk/exec/obidos/tg/browse/-/300435/ref=cs_nav_tab_sw/202-5140654-0108663" TargetMode="External"/><Relationship Id="rId44" Type="http://schemas.openxmlformats.org/officeDocument/2006/relationships/hyperlink" Target="http://www.amazon.co.uk/exec/obidos/tg/browse/-/300703/ref=cs_nav_tab_pcvg/202-5140654-0108663" TargetMode="External"/><Relationship Id="rId45" Type="http://schemas.openxmlformats.org/officeDocument/2006/relationships/hyperlink" Target="http://www.amazon.co.uk/exec/obidos/tg/browse/-/3146281/ref=cs_nav_tab_kh/202-5140654-0108663" TargetMode="External"/><Relationship Id="rId46" Type="http://schemas.openxmlformats.org/officeDocument/2006/relationships/hyperlink" Target="http://www.amazon.co.uk/exec/obidos/tg/browse/-/468292/ref=cs_nav_tab_k/202-5140654-0108663" TargetMode="External"/><Relationship Id="rId47" Type="http://schemas.openxmlformats.org/officeDocument/2006/relationships/hyperlink" Target="http://www.amazon.co.uk/exec/obidos/acn-redirect-to-partner/202-5140654-0108663?partner-name=expedia&amp;partner-url=pubspec/scripts/eap.asp%3Feapid%3D659-3%26rfrr%3D-2114/202-5140654-0108663" TargetMode="External"/><Relationship Id="rId48" Type="http://schemas.openxmlformats.org/officeDocument/2006/relationships/hyperlink" Target="http://www.amazon.co.uk/exec/obidos/tg/browse/-/498742/ref=cs_nav_tab_g/202-5140654-0108663" TargetMode="External"/><Relationship Id="rId49" Type="http://schemas.openxmlformats.org/officeDocument/2006/relationships/hyperlink" Target="http://www.amazon.co.uk/exec/obidos/flex-sign-in/ref=pd_fr_gw_fav_edt/202-5140654-0108663?page=instant-recs/flex-sign-in-secure.html&amp;response=favorites-edit/stores/personalization/favorites/edit-favorites.html&amp;pass_through=product-group-id..hp&amp;method=GET" TargetMode="External"/><Relationship Id="rId50" Type="http://schemas.openxmlformats.org/officeDocument/2006/relationships/hyperlink" Target="http://www.amazon.co.uk/exec/obidos/ASIN/B0000CFWZ7/ref=mk_wpban_1/202-5140654-0108663" TargetMode="External"/><Relationship Id="rId51" Type="http://schemas.openxmlformats.org/officeDocument/2006/relationships/hyperlink" Target="http://www.amazon.co.uk/exec/obidos/ASIN/B0000B0A4G/ref=ed_ec_h_cs_2_2/026-3932045-8340446" TargetMode="External"/><Relationship Id="rId52" Type="http://schemas.openxmlformats.org/officeDocument/2006/relationships/hyperlink" Target="http://www.amazon.co.uk/exec/obidos/tg/browse/-/560798/ref=ed_ec_h_cs_2_3/026-3932045-8340446" TargetMode="External"/><Relationship Id="rId53" Type="http://schemas.openxmlformats.org/officeDocument/2006/relationships/hyperlink" Target="http://www.amazon.co.uk/exec/obidos/ASIN/0385603401/ref=ed_ec_h_cs_6_2/026-3932045-8340446" TargetMode="External"/><Relationship Id="rId54" Type="http://schemas.openxmlformats.org/officeDocument/2006/relationships/hyperlink" Target="http://www.amazon.co.uk/exec/obidos/tg/browse/-/301728/ref=ed_ec_h_cs_6_3/026-3932045-8340446" TargetMode="External"/><Relationship Id="rId55" Type="http://schemas.openxmlformats.org/officeDocument/2006/relationships/hyperlink" Target="http://www.amazon.co.uk/exec/obidos/tg/browse/-/266239/ref=ed_ec_h_cs_6_4/026-3932045-8340446" TargetMode="External"/><Relationship Id="rId56" Type="http://schemas.openxmlformats.org/officeDocument/2006/relationships/hyperlink" Target="http://www.amazon.co.uk/exec/obidos/ASIN/B00009LW6K/ref=ed_ec_h_cs_4_2/026-3932045-8340446" TargetMode="External"/><Relationship Id="rId57" Type="http://schemas.openxmlformats.org/officeDocument/2006/relationships/hyperlink" Target="http://www.amazon.co.uk/exec/obidos/tg/browse/-/300703/ref=ed_ec_h_cs_4_3/026-3932045-8340446" TargetMode="External"/><Relationship Id="rId5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fernuni-hagen.de/FTB/telemate/demo-crs/fund/pics/fu-10-25.gif&amp;imgrefurl=http://www.fernuni-hagen.de/FTB/telemate/demo-crs/fund/fw-10-01.htm&amp;h=380&amp;w=328&amp;sz=26&amp;tbnid=OxR1QvCdEM8J:&amp;tbnh=118&amp;tbnw=102&amp;prev=/images%3Fq%3Dpicture%2Bof%2Bold%2Bperson%26start%3D40%26hl%3Den%26lr%3D%26ie%3DUTF-8%26oe%3DUTF-8%26sa%3DN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the.honoluluadvertiser.com/2000/Feb/27/images/leg4_b.jpg&amp;imgrefurl=http://the.honoluluadvertiser.com/2000/Feb/27/legislature2000.html&amp;h=212&amp;w=320&amp;sz=51&amp;tbnid=y9WXlLD1SvcJ:&amp;tbnh=74&amp;tbnw=111&amp;prev=/images%3Fq%3Dstricter%2Blegislation%2B%26hl%3Den%26lr%3D%26ie%3DUTF-8%26oe%3DUTF-8%26sa%3D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transporteglobal.com/euro.gif&amp;imgrefurl=http://www.transporteglobal.com/temas.htm&amp;h=190&amp;w=190&amp;sz=8&amp;tbnid=oRxQ7hNgpjMJ:&amp;tbnh=96&amp;tbnw=96&amp;prev=/images%3Fq%3Deuro%26hl%3Den%26lr%3D%26ie%3DUTF-8%26oe%3DUTF-8%26sa%3D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google.co.uk/imgres?imgurl=www.farzone.net/PortFolio/Euro.jpg&amp;imgrefurl=http://www.farzone.net/PortFolio/&amp;h=477&amp;w=594&amp;sz=114&amp;tbnid=mxq7jlTbwmgJ:&amp;tbnh=106&amp;tbnw=132&amp;prev=/images%3Fq%3Deuro%26start%3D60%26hl%3Den%26lr%3D%26ie%3DUTF-8%26oe%3DUTF-8%26sa%3DN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9933"/>
                </a:solidFill>
                <a:latin typeface="Arial"/>
              </a:rPr>
              <a:t>Foresight for Business</a:t>
            </a:r>
            <a:br>
              <a:rPr sz="5400"/>
            </a:br>
            <a:r>
              <a:rPr b="0" lang="en-GB" sz="3600" spc="-1" strike="noStrike">
                <a:solidFill>
                  <a:srgbClr val="ff9933"/>
                </a:solidFill>
                <a:latin typeface="Arial"/>
              </a:rPr>
              <a:t>The need for Innova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dira Sark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o Wilk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5487840"/>
          <a:ext cx="201744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87840"/>
                    <a:ext cx="20174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Advantage West Midlands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5514840"/>
            <a:ext cx="30067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Arial"/>
              </a:rPr>
              <a:t>30% of ABB’s products have been introduced in the last three year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1003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3780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9933"/>
                </a:solidFill>
                <a:latin typeface="Arial"/>
              </a:rPr>
              <a:t>Reason </a:t>
            </a:r>
            <a:br>
              <a:rPr sz="8000"/>
            </a:br>
            <a:r>
              <a:rPr b="0" lang="en-GB" sz="25200" spc="-1" strike="noStrike">
                <a:solidFill>
                  <a:srgbClr val="ff9933"/>
                </a:solidFill>
                <a:latin typeface="Arial"/>
              </a:rPr>
              <a:t>2</a:t>
            </a:r>
            <a:endParaRPr b="0" lang="en-US" sz="25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8000" y="1773360"/>
            <a:ext cx="3467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tter isn’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oug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etter 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ifferent i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smile-amazon-logo-notag-new-200x45" descr="Amazon.co.uk">
            <a:hlinkClick r:id="rId1"/>
          </p:cNvPr>
          <p:cNvPicPr/>
          <p:nvPr/>
        </p:nvPicPr>
        <p:blipFill>
          <a:blip r:embed=""/>
          <a:stretch/>
        </p:blipFill>
        <p:spPr>
          <a:xfrm>
            <a:off x="673200" y="609480"/>
            <a:ext cx="3533760" cy="77148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5257800" y="717480"/>
            <a:ext cx="2857680" cy="203400"/>
            <a:chOff x="5257800" y="717480"/>
            <a:chExt cx="2857680" cy="203400"/>
          </a:xfrm>
        </p:grpSpPr>
        <p:pic>
          <p:nvPicPr>
            <p:cNvPr id="257" name="helpnav-general-300x22" descr=""/>
            <p:cNvPicPr/>
            <p:nvPr/>
          </p:nvPicPr>
          <p:blipFill>
            <a:blip r:embed=""/>
            <a:stretch/>
          </p:blipFill>
          <p:spPr>
            <a:xfrm>
              <a:off x="5257800" y="717480"/>
              <a:ext cx="285768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>
              <a:hlinkClick r:id="rId2"/>
            </p:cNvPr>
            <p:cNvSpPr/>
            <p:nvPr/>
          </p:nvSpPr>
          <p:spPr>
            <a:xfrm>
              <a:off x="7763040" y="717480"/>
              <a:ext cx="3524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>
              <a:hlinkClick r:id="rId3"/>
            </p:cNvPr>
            <p:cNvSpPr/>
            <p:nvPr/>
          </p:nvSpPr>
          <p:spPr>
            <a:xfrm>
              <a:off x="6800760" y="717480"/>
              <a:ext cx="9619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>
              <a:hlinkClick r:id="rId4"/>
            </p:cNvPr>
            <p:cNvSpPr/>
            <p:nvPr/>
          </p:nvSpPr>
          <p:spPr>
            <a:xfrm>
              <a:off x="6200640" y="717480"/>
              <a:ext cx="6001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>
              <a:hlinkClick r:id="rId5"/>
            </p:cNvPr>
            <p:cNvSpPr/>
            <p:nvPr/>
          </p:nvSpPr>
          <p:spPr>
            <a:xfrm>
              <a:off x="5257800" y="717480"/>
              <a:ext cx="9428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2" name="B0000B0A4G.02._OU02_PIuk-r-fd-0,BottomRight,10,10_SCTZZZZZZZ_" descr="">
            <a:hlinkClick r:id="rId6"/>
          </p:cNvPr>
          <p:cNvPicPr/>
          <p:nvPr/>
        </p:nvPicPr>
        <p:blipFill>
          <a:blip r:embed=""/>
          <a:stretch/>
        </p:blipFill>
        <p:spPr>
          <a:xfrm>
            <a:off x="3456000" y="3767040"/>
            <a:ext cx="942840" cy="258840"/>
          </a:xfrm>
          <a:prstGeom prst="rect">
            <a:avLst/>
          </a:prstGeom>
          <a:ln w="0">
            <a:noFill/>
          </a:ln>
        </p:spPr>
      </p:pic>
      <p:pic>
        <p:nvPicPr>
          <p:cNvPr id="263" name="B00009LW6K.02._OU02_PIuk-r-fp-2999,BottomRight,10,10_SCTZZZZZZZ_" descr="">
            <a:hlinkClick r:id="rId7"/>
          </p:cNvPr>
          <p:cNvPicPr/>
          <p:nvPr/>
        </p:nvPicPr>
        <p:blipFill>
          <a:blip r:embed=""/>
          <a:stretch/>
        </p:blipFill>
        <p:spPr>
          <a:xfrm>
            <a:off x="6589800" y="4044960"/>
            <a:ext cx="60948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0385603401.02._PE50_SCTZZZZZZZ_" descr="">
            <a:hlinkClick r:id="rId8"/>
          </p:cNvPr>
          <p:cNvPicPr/>
          <p:nvPr/>
        </p:nvPicPr>
        <p:blipFill>
          <a:blip r:embed=""/>
          <a:stretch/>
        </p:blipFill>
        <p:spPr>
          <a:xfrm>
            <a:off x="3414600" y="4540320"/>
            <a:ext cx="638280" cy="914400"/>
          </a:xfrm>
          <a:prstGeom prst="rect">
            <a:avLst/>
          </a:prstGeom>
          <a:ln w="0">
            <a:noFill/>
          </a:ln>
        </p:spPr>
      </p:pic>
      <p:pic>
        <p:nvPicPr>
          <p:cNvPr id="265" name="gateway-header-unrecognized" descr="New at Amazon.co.uk">
            <a:hlinkClick r:id="rId9"/>
          </p:cNvPr>
          <p:cNvPicPr/>
          <p:nvPr/>
        </p:nvPicPr>
        <p:blipFill>
          <a:blip r:embed=""/>
          <a:stretch/>
        </p:blipFill>
        <p:spPr>
          <a:xfrm>
            <a:off x="6576840" y="3695760"/>
            <a:ext cx="1714680" cy="174600"/>
          </a:xfrm>
          <a:prstGeom prst="rect">
            <a:avLst/>
          </a:prstGeom>
          <a:ln w="0">
            <a:noFill/>
          </a:ln>
        </p:spPr>
      </p:pic>
      <p:pic>
        <p:nvPicPr>
          <p:cNvPr id="266" name="shopping-cart-small" descr="Your Shopping Basket">
            <a:hlinkClick r:id="rId10"/>
          </p:cNvPr>
          <p:cNvPicPr/>
          <p:nvPr/>
        </p:nvPicPr>
        <p:blipFill>
          <a:blip r:embed=""/>
          <a:stretch/>
        </p:blipFill>
        <p:spPr>
          <a:xfrm>
            <a:off x="6372360" y="260280"/>
            <a:ext cx="237960" cy="231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rId11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3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08160" y="2004840"/>
          <a:ext cx="4824360" cy="357120"/>
        </p:xfrm>
        <a:graphic>
          <a:graphicData uri="http://schemas.openxmlformats.org/drawingml/2006/table">
            <a:tbl>
              <a:tblPr/>
              <a:tblGrid>
                <a:gridCol w="48243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6600"/>
                          </a:solidFill>
                          <a:latin typeface="Verdana"/>
                          <a:ea typeface="Times New Roman"/>
                        </a:rPr>
                        <a:t>Hello!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lready a customer? </a:t>
                      </a:r>
                      <a:r>
                        <a:rPr b="1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12"/>
                        </a:rPr>
                        <a:t>Sign in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 to get Instant Recommendations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e"/>
                    </a:solidFill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1589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13"/>
          </p:cNvPr>
          <p:cNvSpPr/>
          <p:nvPr/>
        </p:nvSpPr>
        <p:spPr>
          <a:xfrm>
            <a:off x="0" y="0"/>
            <a:ext cx="1589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1589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1589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1589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589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589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>
            <a:hlinkClick r:id="rId14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>
            <a:hlinkClick r:id="rId15"/>
          </p:cNvPr>
          <p:cNvSpPr/>
          <p:nvPr/>
        </p:nvSpPr>
        <p:spPr>
          <a:xfrm>
            <a:off x="6602400" y="2460240"/>
            <a:ext cx="1619280" cy="10274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Free UK delivery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on orders over £25, using Super Saver Delivery. See </a:t>
            </a:r>
            <a:r>
              <a:rPr b="0" lang="en-US" sz="1000" spc="-1" strike="noStrike" u="sng">
                <a:solidFill>
                  <a:srgbClr val="99ff99"/>
                </a:solidFill>
                <a:uFillTx/>
                <a:latin typeface="Verdana"/>
                <a:ea typeface="Times New Roman"/>
                <a:hlinkClick r:id="rId16"/>
              </a:rPr>
              <a:t>details and condition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rId17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>
            <a:hlinkClick r:id="rId18"/>
          </p:cNvPr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19"/>
          </p:cNvPr>
          <p:cNvSpPr/>
          <p:nvPr/>
        </p:nvSpPr>
        <p:spPr>
          <a:xfrm>
            <a:off x="0" y="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rId20"/>
          </p:cNvPr>
          <p:cNvSpPr/>
          <p:nvPr/>
        </p:nvSpPr>
        <p:spPr>
          <a:xfrm>
            <a:off x="0" y="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1695600" cy="3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1589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28880" y="3626640"/>
            <a:ext cx="1224000" cy="57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6600"/>
                </a:solidFill>
                <a:latin typeface="Verdana"/>
                <a:ea typeface="Times New Roman"/>
              </a:rPr>
              <a:t>Amazon.co.uk</a:t>
            </a:r>
            <a:br>
              <a:rPr sz="1000"/>
            </a:br>
            <a:r>
              <a:rPr b="0" lang="en-US" sz="1000" spc="-1" strike="noStrike" u="sng">
                <a:solidFill>
                  <a:srgbClr val="99ff99"/>
                </a:solidFill>
                <a:uFillTx/>
                <a:latin typeface="Verdana"/>
                <a:ea typeface="Times New Roman"/>
                <a:hlinkClick r:id="rId21"/>
              </a:rPr>
              <a:t>Hot 100 Boo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695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695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eee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7211880"/>
          <a:ext cx="4078440" cy="533520"/>
        </p:xfrm>
        <a:graphic>
          <a:graphicData uri="http://schemas.openxmlformats.org/drawingml/2006/table">
            <a:tbl>
              <a:tblPr/>
              <a:tblGrid>
                <a:gridCol w="40784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0" y="774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9360" y="501480"/>
          <a:ext cx="365400" cy="10353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79440" y="1711440"/>
          <a:ext cx="1908360" cy="242640"/>
        </p:xfrm>
        <a:graphic>
          <a:graphicData uri="http://schemas.openxmlformats.org/drawingml/2006/table">
            <a:tbl>
              <a:tblPr/>
              <a:tblGrid>
                <a:gridCol w="19083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                                   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955800" y="3521160"/>
          <a:ext cx="2200320" cy="1976400"/>
        </p:xfrm>
        <a:graphic>
          <a:graphicData uri="http://schemas.openxmlformats.org/drawingml/2006/table">
            <a:tbl>
              <a:tblPr/>
              <a:tblGrid>
                <a:gridCol w="243720"/>
                <a:gridCol w="19566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22"/>
                        </a:rPr>
                        <a:t>How do I order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23"/>
                        </a:rPr>
                        <a:t>Our Security Guarante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24"/>
                        </a:rPr>
                        <a:t>How much will postage and packing cost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25"/>
                        </a:rPr>
                        <a:t>Using a gift certific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26"/>
                        </a:rPr>
                        <a:t>Making changes to my ord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808200" y="5599080"/>
          <a:ext cx="7866000" cy="852480"/>
        </p:xfrm>
        <a:graphic>
          <a:graphicData uri="http://schemas.openxmlformats.org/drawingml/2006/table">
            <a:tbl>
              <a:tblPr/>
              <a:tblGrid>
                <a:gridCol w="2621160"/>
                <a:gridCol w="2622960"/>
                <a:gridCol w="2621880"/>
              </a:tblGrid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re's My Stuff?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• track your </a:t>
                      </a: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27"/>
                        </a:rPr>
                        <a:t>recent orders</a:t>
                      </a:r>
                      <a:br>
                        <a:rPr sz="1000"/>
                      </a:b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• view or change your orders in </a:t>
                      </a: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28"/>
                        </a:rPr>
                        <a:t>Your Accoun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y and Return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• </a:t>
                      </a: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29"/>
                        </a:rPr>
                        <a:t>delivery rates and policie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000"/>
                      </a:b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• </a:t>
                      </a: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30"/>
                        </a:rPr>
                        <a:t>return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 an item (see our </a:t>
                      </a: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31"/>
                        </a:rPr>
                        <a:t>Returns Policy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ed Help?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• forgot your password? </a:t>
                      </a: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32"/>
                        </a:rPr>
                        <a:t>Click here</a:t>
                      </a:r>
                      <a:br>
                        <a:rPr sz="1000"/>
                      </a:b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• </a:t>
                      </a: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33"/>
                        </a:rPr>
                        <a:t>redeem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34"/>
                        </a:rPr>
                        <a:t>buy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 a gift certificate </a:t>
                      </a:r>
                      <a:br>
                        <a:rPr sz="1000"/>
                      </a:b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• Still have questions? </a:t>
                      </a:r>
                      <a:r>
                        <a:rPr b="0" lang="en-US" sz="1000" spc="-1" strike="noStrike" u="sng">
                          <a:solidFill>
                            <a:srgbClr val="99ff99"/>
                          </a:solidFill>
                          <a:uFillTx/>
                          <a:latin typeface="Verdana"/>
                          <a:ea typeface="Times New Roman"/>
                          <a:hlinkClick r:id="rId35"/>
                        </a:rPr>
                        <a:t>Visit our Help Page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10" name="welcome-on-1" descr="">
            <a:hlinkClick r:id="rId36"/>
          </p:cNvPr>
          <p:cNvPicPr/>
          <p:nvPr/>
        </p:nvPicPr>
        <p:blipFill>
          <a:blip r:embed=""/>
          <a:stretch/>
        </p:blipFill>
        <p:spPr>
          <a:xfrm>
            <a:off x="1338120" y="1397160"/>
            <a:ext cx="571680" cy="239400"/>
          </a:xfrm>
          <a:prstGeom prst="rect">
            <a:avLst/>
          </a:prstGeom>
          <a:ln w="0">
            <a:noFill/>
          </a:ln>
        </p:spPr>
      </p:pic>
      <p:pic>
        <p:nvPicPr>
          <p:cNvPr id="311" name="yourstore-unrec-off-sliced" descr="">
            <a:hlinkClick r:id="rId37"/>
          </p:cNvPr>
          <p:cNvPicPr/>
          <p:nvPr/>
        </p:nvPicPr>
        <p:blipFill>
          <a:blip r:embed=""/>
          <a:stretch/>
        </p:blipFill>
        <p:spPr>
          <a:xfrm>
            <a:off x="1920960" y="1401840"/>
            <a:ext cx="447480" cy="239760"/>
          </a:xfrm>
          <a:prstGeom prst="rect">
            <a:avLst/>
          </a:prstGeom>
          <a:ln w="0">
            <a:noFill/>
          </a:ln>
        </p:spPr>
      </p:pic>
      <p:pic>
        <p:nvPicPr>
          <p:cNvPr id="312" name="books-off-1" descr="">
            <a:hlinkClick r:id="rId38"/>
          </p:cNvPr>
          <p:cNvPicPr/>
          <p:nvPr/>
        </p:nvPicPr>
        <p:blipFill>
          <a:blip r:embed=""/>
          <a:stretch/>
        </p:blipFill>
        <p:spPr>
          <a:xfrm>
            <a:off x="2365200" y="1401840"/>
            <a:ext cx="371520" cy="239760"/>
          </a:xfrm>
          <a:prstGeom prst="rect">
            <a:avLst/>
          </a:prstGeom>
          <a:ln w="0">
            <a:noFill/>
          </a:ln>
        </p:spPr>
      </p:pic>
      <p:pic>
        <p:nvPicPr>
          <p:cNvPr id="313" name="electronics-off-3" descr="">
            <a:hlinkClick r:id="rId39"/>
          </p:cNvPr>
          <p:cNvPicPr/>
          <p:nvPr/>
        </p:nvPicPr>
        <p:blipFill>
          <a:blip r:embed=""/>
          <a:stretch/>
        </p:blipFill>
        <p:spPr>
          <a:xfrm>
            <a:off x="2743200" y="1392120"/>
            <a:ext cx="704880" cy="239760"/>
          </a:xfrm>
          <a:prstGeom prst="rect">
            <a:avLst/>
          </a:prstGeom>
          <a:ln w="0">
            <a:noFill/>
          </a:ln>
        </p:spPr>
      </p:pic>
      <p:pic>
        <p:nvPicPr>
          <p:cNvPr id="314" name="music-off-1" descr="">
            <a:hlinkClick r:id="rId40"/>
          </p:cNvPr>
          <p:cNvPicPr/>
          <p:nvPr/>
        </p:nvPicPr>
        <p:blipFill>
          <a:blip r:embed=""/>
          <a:stretch/>
        </p:blipFill>
        <p:spPr>
          <a:xfrm>
            <a:off x="3454560" y="1392120"/>
            <a:ext cx="371160" cy="239760"/>
          </a:xfrm>
          <a:prstGeom prst="rect">
            <a:avLst/>
          </a:prstGeom>
          <a:ln w="0">
            <a:noFill/>
          </a:ln>
        </p:spPr>
      </p:pic>
      <p:pic>
        <p:nvPicPr>
          <p:cNvPr id="315" name="dvd-off-1" descr="">
            <a:hlinkClick r:id="rId41"/>
          </p:cNvPr>
          <p:cNvPicPr/>
          <p:nvPr/>
        </p:nvPicPr>
        <p:blipFill>
          <a:blip r:embed=""/>
          <a:stretch/>
        </p:blipFill>
        <p:spPr>
          <a:xfrm>
            <a:off x="3833640" y="1392120"/>
            <a:ext cx="333720" cy="239760"/>
          </a:xfrm>
          <a:prstGeom prst="rect">
            <a:avLst/>
          </a:prstGeom>
          <a:ln w="0">
            <a:noFill/>
          </a:ln>
        </p:spPr>
      </p:pic>
      <p:pic>
        <p:nvPicPr>
          <p:cNvPr id="316" name="video-off-1" descr="">
            <a:hlinkClick r:id="rId42"/>
          </p:cNvPr>
          <p:cNvPicPr/>
          <p:nvPr/>
        </p:nvPicPr>
        <p:blipFill>
          <a:blip r:embed=""/>
          <a:stretch/>
        </p:blipFill>
        <p:spPr>
          <a:xfrm>
            <a:off x="4175280" y="1392120"/>
            <a:ext cx="409320" cy="239760"/>
          </a:xfrm>
          <a:prstGeom prst="rect">
            <a:avLst/>
          </a:prstGeom>
          <a:ln w="0">
            <a:noFill/>
          </a:ln>
        </p:spPr>
      </p:pic>
      <p:pic>
        <p:nvPicPr>
          <p:cNvPr id="317" name="software-off-1" descr="">
            <a:hlinkClick r:id="rId43"/>
          </p:cNvPr>
          <p:cNvPicPr/>
          <p:nvPr/>
        </p:nvPicPr>
        <p:blipFill>
          <a:blip r:embed=""/>
          <a:stretch/>
        </p:blipFill>
        <p:spPr>
          <a:xfrm>
            <a:off x="4589640" y="1387440"/>
            <a:ext cx="552240" cy="239760"/>
          </a:xfrm>
          <a:prstGeom prst="rect">
            <a:avLst/>
          </a:prstGeom>
          <a:ln w="0">
            <a:noFill/>
          </a:ln>
        </p:spPr>
      </p:pic>
      <p:pic>
        <p:nvPicPr>
          <p:cNvPr id="318" name="videogames-off-1" descr="">
            <a:hlinkClick r:id="rId44"/>
          </p:cNvPr>
          <p:cNvPicPr/>
          <p:nvPr/>
        </p:nvPicPr>
        <p:blipFill>
          <a:blip r:embed=""/>
          <a:stretch/>
        </p:blipFill>
        <p:spPr>
          <a:xfrm>
            <a:off x="5143680" y="1387440"/>
            <a:ext cx="561960" cy="239760"/>
          </a:xfrm>
          <a:prstGeom prst="rect">
            <a:avLst/>
          </a:prstGeom>
          <a:ln w="0">
            <a:noFill/>
          </a:ln>
        </p:spPr>
      </p:pic>
      <p:pic>
        <p:nvPicPr>
          <p:cNvPr id="319" name="kitchen-home-off-1" descr="">
            <a:hlinkClick r:id="rId45"/>
          </p:cNvPr>
          <p:cNvPicPr/>
          <p:nvPr/>
        </p:nvPicPr>
        <p:blipFill>
          <a:blip r:embed=""/>
          <a:stretch/>
        </p:blipFill>
        <p:spPr>
          <a:xfrm>
            <a:off x="5700600" y="1387440"/>
            <a:ext cx="552600" cy="239760"/>
          </a:xfrm>
          <a:prstGeom prst="rect">
            <a:avLst/>
          </a:prstGeom>
          <a:ln w="0">
            <a:noFill/>
          </a:ln>
        </p:spPr>
      </p:pic>
      <p:pic>
        <p:nvPicPr>
          <p:cNvPr id="320" name="kids-off-1" descr="">
            <a:hlinkClick r:id="rId46"/>
          </p:cNvPr>
          <p:cNvPicPr/>
          <p:nvPr/>
        </p:nvPicPr>
        <p:blipFill>
          <a:blip r:embed=""/>
          <a:stretch/>
        </p:blipFill>
        <p:spPr>
          <a:xfrm>
            <a:off x="6249960" y="1392120"/>
            <a:ext cx="447840" cy="239760"/>
          </a:xfrm>
          <a:prstGeom prst="rect">
            <a:avLst/>
          </a:prstGeom>
          <a:ln w="0">
            <a:noFill/>
          </a:ln>
        </p:spPr>
      </p:pic>
      <p:pic>
        <p:nvPicPr>
          <p:cNvPr id="321" name="travel-off-1" descr="">
            <a:hlinkClick r:id="rId47"/>
          </p:cNvPr>
          <p:cNvPicPr/>
          <p:nvPr/>
        </p:nvPicPr>
        <p:blipFill>
          <a:blip r:embed=""/>
          <a:stretch/>
        </p:blipFill>
        <p:spPr>
          <a:xfrm>
            <a:off x="6697800" y="1392120"/>
            <a:ext cx="428400" cy="239760"/>
          </a:xfrm>
          <a:prstGeom prst="rect">
            <a:avLst/>
          </a:prstGeom>
          <a:ln w="0">
            <a:noFill/>
          </a:ln>
        </p:spPr>
      </p:pic>
      <p:pic>
        <p:nvPicPr>
          <p:cNvPr id="322" name="gifts-off-1" descr="">
            <a:hlinkClick r:id="rId48"/>
          </p:cNvPr>
          <p:cNvPicPr/>
          <p:nvPr/>
        </p:nvPicPr>
        <p:blipFill>
          <a:blip r:embed=""/>
          <a:stretch/>
        </p:blipFill>
        <p:spPr>
          <a:xfrm>
            <a:off x="7120080" y="1392120"/>
            <a:ext cx="333360" cy="239760"/>
          </a:xfrm>
          <a:prstGeom prst="rect">
            <a:avLst/>
          </a:prstGeom>
          <a:ln w="0">
            <a:noFill/>
          </a:ln>
        </p:spPr>
      </p:pic>
      <p:pic>
        <p:nvPicPr>
          <p:cNvPr id="323" name="welcome-subnav-search-140x18" descr="Search our Shops"/>
          <p:cNvPicPr/>
          <p:nvPr/>
        </p:nvPicPr>
        <p:blipFill>
          <a:blip r:embed=""/>
          <a:stretch/>
        </p:blipFill>
        <p:spPr>
          <a:xfrm>
            <a:off x="1581120" y="1751040"/>
            <a:ext cx="1333440" cy="166680"/>
          </a:xfrm>
          <a:prstGeom prst="rect">
            <a:avLst/>
          </a:prstGeom>
          <a:ln w="0">
            <a:noFill/>
          </a:ln>
        </p:spPr>
      </p:pic>
      <p:pic>
        <p:nvPicPr>
          <p:cNvPr id="324" name="star-choice-180x20" descr="Star-Choice"/>
          <p:cNvPicPr/>
          <p:nvPr/>
        </p:nvPicPr>
        <p:blipFill>
          <a:blip r:embed=""/>
          <a:stretch/>
        </p:blipFill>
        <p:spPr>
          <a:xfrm>
            <a:off x="1155600" y="2540160"/>
            <a:ext cx="1714680" cy="183960"/>
          </a:xfrm>
          <a:prstGeom prst="rect">
            <a:avLst/>
          </a:prstGeom>
          <a:ln w="0">
            <a:noFill/>
          </a:ln>
        </p:spPr>
      </p:pic>
      <p:pic>
        <p:nvPicPr>
          <p:cNvPr id="325" name="add-favorites" descr="">
            <a:hlinkClick r:id="rId49"/>
          </p:cNvPr>
          <p:cNvPicPr/>
          <p:nvPr/>
        </p:nvPicPr>
        <p:blipFill>
          <a:blip r:embed=""/>
          <a:stretch/>
        </p:blipFill>
        <p:spPr>
          <a:xfrm>
            <a:off x="1216080" y="3021120"/>
            <a:ext cx="762120" cy="137880"/>
          </a:xfrm>
          <a:prstGeom prst="rect">
            <a:avLst/>
          </a:prstGeom>
          <a:ln w="0">
            <a:noFill/>
          </a:ln>
        </p:spPr>
      </p:pic>
      <p:pic>
        <p:nvPicPr>
          <p:cNvPr id="326" name="welcome-sb-r-popular-qs-180x20" descr="Top-5-Questions"/>
          <p:cNvPicPr/>
          <p:nvPr/>
        </p:nvPicPr>
        <p:blipFill>
          <a:blip r:embed=""/>
          <a:stretch/>
        </p:blipFill>
        <p:spPr>
          <a:xfrm>
            <a:off x="1117440" y="3251160"/>
            <a:ext cx="1714680" cy="184320"/>
          </a:xfrm>
          <a:prstGeom prst="rect">
            <a:avLst/>
          </a:prstGeom>
          <a:ln w="0">
            <a:noFill/>
          </a:ln>
        </p:spPr>
      </p:pic>
      <p:pic>
        <p:nvPicPr>
          <p:cNvPr id="327" name="robbie-tcg1-300x100" descr="">
            <a:hlinkClick r:id="rId50"/>
          </p:cNvPr>
          <p:cNvPicPr/>
          <p:nvPr/>
        </p:nvPicPr>
        <p:blipFill>
          <a:blip r:embed=""/>
          <a:stretch/>
        </p:blipFill>
        <p:spPr>
          <a:xfrm>
            <a:off x="3444840" y="2536920"/>
            <a:ext cx="285768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31640" y="1628640"/>
            <a:ext cx="835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32320" y="3683160"/>
            <a:ext cx="200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ick up the slimline, silver </a:t>
            </a:r>
            <a:r>
              <a:rPr b="0" lang="en-US" sz="800" spc="-1" strike="noStrike" u="sng">
                <a:solidFill>
                  <a:srgbClr val="99ff99"/>
                </a:solidFill>
                <a:uFillTx/>
                <a:latin typeface="Arial"/>
                <a:hlinkClick r:id="rId51"/>
              </a:rPr>
              <a:t>Yamada 5520 multi-region DVD player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"/>
              </a:rPr>
              <a:t>--featuring Dolby 5.1 and multi-media playback--at an unbelievably low price. See more in </a:t>
            </a:r>
            <a:r>
              <a:rPr b="0" lang="en-US" sz="800" spc="-1" strike="noStrike" u="sng">
                <a:solidFill>
                  <a:srgbClr val="99ff99"/>
                </a:solidFill>
                <a:uFillTx/>
                <a:latin typeface="Arial"/>
                <a:hlinkClick r:id="rId52"/>
              </a:rPr>
              <a:t>Electronics &amp; Photo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Our Price: £39.9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16320" y="4584600"/>
            <a:ext cx="2349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cworld goes to war in Terry Pratchett's latest book, </a:t>
            </a:r>
            <a:r>
              <a:rPr b="0" lang="en-US" sz="800" spc="-1" strike="noStrike" u="sng">
                <a:solidFill>
                  <a:srgbClr val="99ff99"/>
                </a:solidFill>
                <a:uFillTx/>
                <a:latin typeface="Arial"/>
                <a:hlinkClick r:id="rId53"/>
              </a:rPr>
              <a:t>Monstrous Regimen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 Polly Perks chops off her hair to become a boy and search for her lost brother, but soon finds herself in the thick of battle. See more titles at </a:t>
            </a:r>
            <a:r>
              <a:rPr b="0" lang="en-US" sz="800" spc="-1" strike="noStrike" u="sng">
                <a:solidFill>
                  <a:srgbClr val="99ff99"/>
                </a:solidFill>
                <a:uFillTx/>
                <a:latin typeface="Arial"/>
                <a:hlinkClick r:id="rId54"/>
              </a:rPr>
              <a:t>50% off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"/>
              </a:rPr>
              <a:t> in </a:t>
            </a:r>
            <a:r>
              <a:rPr b="0" lang="en-US" sz="800" spc="-1" strike="noStrike" u="sng">
                <a:solidFill>
                  <a:srgbClr val="99ff99"/>
                </a:solidFill>
                <a:uFillTx/>
                <a:latin typeface="Arial"/>
                <a:hlinkClick r:id="rId55"/>
              </a:rPr>
              <a:t>Books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88120" y="4064040"/>
            <a:ext cx="129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Battle your way through the domestic leagues or go for World Cup glory, in </a:t>
            </a:r>
            <a:r>
              <a:rPr b="0" lang="en-US" sz="800" spc="-1" strike="noStrike" u="sng">
                <a:solidFill>
                  <a:srgbClr val="99ff99"/>
                </a:solidFill>
                <a:uFillTx/>
                <a:latin typeface="Arial"/>
                <a:hlinkClick r:id="rId56"/>
              </a:rPr>
              <a:t>Rugby 2004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 With all-new motion capture, animations and character models, it's in a field of its own. See more in </a:t>
            </a:r>
            <a:r>
              <a:rPr b="0" lang="en-US" sz="800" spc="-1" strike="noStrike" u="sng">
                <a:solidFill>
                  <a:srgbClr val="99ff99"/>
                </a:solidFill>
                <a:uFillTx/>
                <a:latin typeface="Arial"/>
                <a:hlinkClick r:id="rId57"/>
              </a:rPr>
              <a:t>PC &amp; Video Games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720" y="277920"/>
            <a:ext cx="41860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Customers did not ask for a camera on their phones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971800" cy="6093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643280" y="3540240"/>
            <a:ext cx="41482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Arial"/>
              </a:rPr>
              <a:t>Growth of Individualism in a Mass Marke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6" name="" descr="Image"/>
          <p:cNvPicPr/>
          <p:nvPr/>
        </p:nvPicPr>
        <p:blipFill>
          <a:blip r:embed="rId1"/>
          <a:stretch/>
        </p:blipFill>
        <p:spPr>
          <a:xfrm>
            <a:off x="684360" y="2276640"/>
            <a:ext cx="4608360" cy="32176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087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Arial"/>
              </a:rPr>
              <a:t>Massclusivity, Maturialsim and Gravan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4392720" cy="19209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4392720" cy="241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28749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580000" y="1916280"/>
            <a:ext cx="2952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verything changes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44640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9933"/>
                </a:solidFill>
                <a:latin typeface="Arial"/>
              </a:rPr>
              <a:t>Reaso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9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2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Everything 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095640" cy="20714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826920" y="4156200"/>
            <a:ext cx="3097440" cy="1936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500720" y="198900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his is a petrol S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00720" y="4292640"/>
            <a:ext cx="40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his is a Grocery St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1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Arial"/>
              </a:rPr>
              <a:t>Feeder Businesse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097080" cy="2919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44323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332000" y="692280"/>
            <a:ext cx="59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S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-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T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-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Techn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E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-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Environment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E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-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P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-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Polit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The majority of today’s small businesses will not exist in 2016.</a:t>
            </a:r>
            <a:br>
              <a:rPr sz="4000"/>
            </a:b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Will the companies you support survive</a:t>
            </a:r>
            <a:r>
              <a:rPr b="1" lang="en-GB" sz="3600" spc="-1" strike="noStrike">
                <a:solidFill>
                  <a:srgbClr val="ff993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79912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re does that leave today’s organis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do they guarantee surviv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can they anticipate, adapt and prepare for the fut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do they stay ahead of the compet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Social - Aging Pop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276640"/>
            <a:ext cx="2352600" cy="2722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4572000" y="1989000"/>
            <a:ext cx="3816360" cy="3006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411280" y="506844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th of UK elderly population as a percentage of total UK population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Technological - Online Oxyge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1776240" cy="3024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266920" cy="31222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2700360" y="1628640"/>
            <a:ext cx="3384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3743280" cy="24955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716360" y="3516480"/>
            <a:ext cx="3816360" cy="2701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88000" y="260280"/>
            <a:ext cx="885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Environmental - Stricter Legis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Economic - Global 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348000" y="2163600"/>
          <a:ext cx="5796000" cy="38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63600"/>
                    <a:ext cx="5796000" cy="38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352040" y="1890720"/>
            <a:ext cx="38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te of Compensation per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9640" y="2997360"/>
            <a:ext cx="273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eting in a global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Political - The Eu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4005360"/>
            <a:ext cx="2952720" cy="2371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826920" y="4005360"/>
            <a:ext cx="3240360" cy="236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003640" y="1773360"/>
            <a:ext cx="1690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Arial"/>
              </a:rPr>
              <a:t>So what does a Foresight Workshop Offer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eractive sessions in which the Foresight Toolkit can help estab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Vision for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retch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w Strategies and Action Pl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erent thi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ert advice and industry  know-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Drivers for Change that will affect relevant busi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33"/>
                </a:solidFill>
                <a:latin typeface="Arial"/>
              </a:rPr>
              <a:t>Support and Aftercar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7859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programme o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ert Adv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ormation on over 500 sources of fu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elp in following best practice and making Foresight an integral part of the business plann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So what does it cos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se events are completely fre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qualifying busines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anks for listening and we look forward to working with you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0" y="5943600"/>
          <a:ext cx="15908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43600"/>
                    <a:ext cx="1590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4" name="" descr="Advantage West Midlands Logo"/>
          <p:cNvPicPr/>
          <p:nvPr/>
        </p:nvPicPr>
        <p:blipFill>
          <a:blip r:embed="rId3"/>
          <a:stretch/>
        </p:blipFill>
        <p:spPr>
          <a:xfrm>
            <a:off x="6659640" y="5908680"/>
            <a:ext cx="248436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4920" y="277920"/>
            <a:ext cx="8280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Arial"/>
              </a:rPr>
              <a:t>If today’s companies operate in exactly the same manner then…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14880" y="2060640"/>
            <a:ext cx="5829120" cy="4797360"/>
            <a:chOff x="3314880" y="2060640"/>
            <a:chExt cx="5829120" cy="479736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3314880" y="2060640"/>
              <a:ext cx="58291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 txBox="1"/>
            <p:nvPr/>
          </p:nvSpPr>
          <p:spPr>
            <a:xfrm>
              <a:off x="3314880" y="2060640"/>
              <a:ext cx="5829120" cy="4797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Arial"/>
              </a:rPr>
              <a:t>So you think you know what’s coming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83170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tions*lite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yper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ymp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nobmodd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278136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692360" y="5084640"/>
            <a:ext cx="4535280" cy="1657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3181320" cy="2485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3995640" y="2852640"/>
            <a:ext cx="4508640" cy="2127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635280" y="179280"/>
            <a:ext cx="51134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A Vi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287960" cy="52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5472000" cy="4103640"/>
          </a:xfrm>
          <a:custGeom>
            <a:avLst/>
            <a:gdLst>
              <a:gd name="textAreaLeft" fmla="*/ 1249200 w 5472000"/>
              <a:gd name="textAreaRight" fmla="*/ 4222800 w 5472000"/>
              <a:gd name="textAreaTop" fmla="*/ 936720 h 4103640"/>
              <a:gd name="textAreaBottom" fmla="*/ 31669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77080" y="3716280"/>
            <a:ext cx="2266920" cy="3141720"/>
          </a:xfrm>
          <a:prstGeom prst="rect">
            <a:avLst/>
          </a:prstGeom>
          <a:solidFill>
            <a:srgbClr val="969696"/>
          </a:solidFill>
          <a:ln w="2844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609920" cy="1808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7399440" y="386064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059280" y="1844640"/>
            <a:ext cx="1439640" cy="9050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H="1" flipV="1">
            <a:off x="4140000" y="4076640"/>
            <a:ext cx="2592360" cy="1511280"/>
          </a:xfrm>
          <a:prstGeom prst="line">
            <a:avLst/>
          </a:prstGeom>
          <a:ln w="57240">
            <a:solidFill>
              <a:srgbClr val="afe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54936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  <a:ea typeface="Arial"/>
              </a:rPr>
              <a:t>HERE TO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d if that wasn’t enough…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9933"/>
                </a:solidFill>
                <a:latin typeface="Arial"/>
              </a:rPr>
              <a:t>Why Use Foresigh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9933"/>
                </a:solidFill>
                <a:latin typeface="Arial"/>
              </a:rPr>
              <a:t>3 Reasons</a:t>
            </a:r>
            <a:r>
              <a:rPr b="0" lang="en-GB" sz="8800" spc="-1" strike="noStrike">
                <a:solidFill>
                  <a:srgbClr val="ff9933"/>
                </a:solidFill>
                <a:latin typeface="Arial"/>
              </a:rPr>
              <a:t>…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46908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9933"/>
                </a:solidFill>
                <a:latin typeface="Arial"/>
              </a:rPr>
              <a:t>Reason </a:t>
            </a:r>
            <a:br>
              <a:rPr sz="6000"/>
            </a:br>
            <a:br>
              <a:rPr sz="6000"/>
            </a:br>
            <a:r>
              <a:rPr b="0" lang="en-GB" sz="25200" spc="-1" strike="noStrike">
                <a:solidFill>
                  <a:srgbClr val="ff9933"/>
                </a:solidFill>
                <a:latin typeface="Arial"/>
              </a:rPr>
              <a:t>1</a:t>
            </a:r>
            <a:br>
              <a:rPr sz="4000"/>
            </a:br>
            <a:endParaRPr b="0" lang="en-US" sz="25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19280" y="836280"/>
            <a:ext cx="32511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cre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rofits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an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hat innov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re 8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rofitable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9:02:09Z</dcterms:created>
  <dc:creator>mandira sarkar</dc:creator>
  <dc:description/>
  <dc:language>en-US</dc:language>
  <cp:lastModifiedBy>mandira sarkar</cp:lastModifiedBy>
  <dcterms:modified xsi:type="dcterms:W3CDTF">2004-06-08T11:53:47Z</dcterms:modified>
  <cp:revision>102</cp:revision>
  <dc:subject/>
  <dc:title>Foresight for Busi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256228</vt:r8>
  </property>
  <property fmtid="{D5CDD505-2E9C-101B-9397-08002B2CF9AE}" pid="3" name="_AuthorEmail">
    <vt:lpwstr>MandiraSarkar@ADVANTAGEWM.CO.UK</vt:lpwstr>
  </property>
  <property fmtid="{D5CDD505-2E9C-101B-9397-08002B2CF9AE}" pid="4" name="_AuthorEmailDisplayName">
    <vt:lpwstr>Mandira Sarkar</vt:lpwstr>
  </property>
  <property fmtid="{D5CDD505-2E9C-101B-9397-08002B2CF9AE}" pid="5" name="_EmailSubject">
    <vt:lpwstr>Foresight taster WMSE.ppt</vt:lpwstr>
  </property>
</Properties>
</file>