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BD1-9397-4773-9B51-A1166B61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266-B9D6-493F-BA28-5B31998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F11-9B58-4990-AD52-14F8619F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7D4-B132-451B-B3CB-4057BB7A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428-01B7-4A2F-B06C-8B0D5CE4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DDB-AA53-44DB-841D-8C33EDCA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1EF-5D11-40CF-B466-EB0978A7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554-37E0-4AE7-9325-30A5B64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7AB-ADEF-482A-8FFE-4F4884B7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687-396A-4E90-8FC7-DA53A5A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790-97F8-426F-A573-127AB11F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505-E84A-4B87-B510-61D49341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rinno.com/" TargetMode="External"/><Relationship Id="rId5" Type="http://schemas.openxmlformats.org/officeDocument/2006/relationships/hyperlink" Target="http://www.europa.eu.int/comm/regional_policy/innovation/index_en.htm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08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B390-7566-47DA-85FF-549200A4C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55520" y="2149560"/>
            <a:ext cx="6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914400"/>
            <a:ext cx="9144000" cy="761760"/>
            <a:chOff x="0" y="914400"/>
            <a:chExt cx="9144000" cy="761760"/>
          </a:xfrm>
        </p:grpSpPr>
        <p:sp>
          <p:nvSpPr>
            <p:cNvPr id="9" name=""/>
            <p:cNvSpPr/>
            <p:nvPr/>
          </p:nvSpPr>
          <p:spPr>
            <a:xfrm>
              <a:off x="0" y="914400"/>
              <a:ext cx="914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914400"/>
              <a:ext cx="914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-155520" y="2606760"/>
            <a:ext cx="1425600" cy="822240"/>
            <a:chOff x="-155520" y="2606760"/>
            <a:chExt cx="1425600" cy="822240"/>
          </a:xfrm>
        </p:grpSpPr>
        <p:sp>
          <p:nvSpPr>
            <p:cNvPr id="12" name=""/>
            <p:cNvSpPr/>
            <p:nvPr/>
          </p:nvSpPr>
          <p:spPr>
            <a:xfrm>
              <a:off x="-155520" y="2606760"/>
              <a:ext cx="70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552600" y="2606760"/>
              <a:ext cx="717480" cy="459720"/>
              <a:chOff x="552600" y="2606760"/>
              <a:chExt cx="717480" cy="459720"/>
            </a:xfrm>
          </p:grpSpPr>
          <p:sp>
            <p:nvSpPr>
              <p:cNvPr id="14" name=""/>
              <p:cNvSpPr/>
              <p:nvPr/>
            </p:nvSpPr>
            <p:spPr>
              <a:xfrm>
                <a:off x="552600" y="2606760"/>
                <a:ext cx="4287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52600" y="2606760"/>
                <a:ext cx="71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" name=""/>
          <p:cNvGrpSpPr/>
          <p:nvPr/>
        </p:nvGrpSpPr>
        <p:grpSpPr>
          <a:xfrm>
            <a:off x="5315040" y="3429000"/>
            <a:ext cx="3673440" cy="1279440"/>
            <a:chOff x="5315040" y="3429000"/>
            <a:chExt cx="3673440" cy="1279440"/>
          </a:xfrm>
        </p:grpSpPr>
        <p:sp>
          <p:nvSpPr>
            <p:cNvPr id="17" name=""/>
            <p:cNvSpPr/>
            <p:nvPr/>
          </p:nvSpPr>
          <p:spPr>
            <a:xfrm>
              <a:off x="5315040" y="342900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950080" y="3429000"/>
              <a:ext cx="55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505560" y="3429000"/>
              <a:ext cx="70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13680" y="34290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85280" y="3429000"/>
              <a:ext cx="69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79000" y="3429000"/>
              <a:ext cx="58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67960" y="3429000"/>
              <a:ext cx="2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315040" y="3886200"/>
              <a:ext cx="6350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950080" y="3886200"/>
              <a:ext cx="555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505560" y="3886200"/>
              <a:ext cx="70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213680" y="3886200"/>
              <a:ext cx="471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85280" y="3886200"/>
              <a:ext cx="693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79000" y="3886200"/>
              <a:ext cx="58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" name="" descr=""/>
          <p:cNvPicPr/>
          <p:nvPr/>
        </p:nvPicPr>
        <p:blipFill>
          <a:blip r:embed="rId6"/>
          <a:stretch/>
        </p:blipFill>
        <p:spPr>
          <a:xfrm>
            <a:off x="5483160" y="3110040"/>
            <a:ext cx="835200" cy="1116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7"/>
          <a:stretch/>
        </p:blipFill>
        <p:spPr>
          <a:xfrm>
            <a:off x="6118200" y="3110040"/>
            <a:ext cx="696960" cy="1116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8"/>
          <a:stretch/>
        </p:blipFill>
        <p:spPr>
          <a:xfrm>
            <a:off x="6673680" y="3110040"/>
            <a:ext cx="960480" cy="1116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9"/>
          <a:stretch/>
        </p:blipFill>
        <p:spPr>
          <a:xfrm>
            <a:off x="7381800" y="3110040"/>
            <a:ext cx="549360" cy="1116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10"/>
          <a:stretch/>
        </p:blipFill>
        <p:spPr>
          <a:xfrm>
            <a:off x="7853400" y="3110040"/>
            <a:ext cx="914400" cy="1116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11"/>
          <a:stretch/>
        </p:blipFill>
        <p:spPr>
          <a:xfrm>
            <a:off x="8547120" y="3292560"/>
            <a:ext cx="754200" cy="1116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12"/>
          <a:stretch/>
        </p:blipFill>
        <p:spPr>
          <a:xfrm>
            <a:off x="3809880" y="1523880"/>
            <a:ext cx="835200" cy="16056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13"/>
          <a:stretch/>
        </p:blipFill>
        <p:spPr>
          <a:xfrm>
            <a:off x="4648320" y="1523880"/>
            <a:ext cx="696960" cy="16056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14"/>
          <a:stretch/>
        </p:blipFill>
        <p:spPr>
          <a:xfrm>
            <a:off x="5334120" y="1523880"/>
            <a:ext cx="960480" cy="16056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15"/>
          <a:stretch/>
        </p:blipFill>
        <p:spPr>
          <a:xfrm>
            <a:off x="6308640" y="1523880"/>
            <a:ext cx="549360" cy="160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16"/>
          <a:stretch/>
        </p:blipFill>
        <p:spPr>
          <a:xfrm>
            <a:off x="6858000" y="1523880"/>
            <a:ext cx="914400" cy="160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17"/>
          <a:stretch/>
        </p:blipFill>
        <p:spPr>
          <a:xfrm>
            <a:off x="7848720" y="1523880"/>
            <a:ext cx="753840" cy="16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609480"/>
            <a:ext cx="6400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878120"/>
            <a:ext cx="8064360" cy="56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800" spc="-1" strike="noStrike">
                <a:solidFill>
                  <a:srgbClr val="000066"/>
                </a:solidFill>
                <a:latin typeface="Arial Unicode MS"/>
              </a:rPr>
              <a:t>European Regions Knowledge-bas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 Unicode MS"/>
              </a:rPr>
              <a:t>in the laboratory of the ERDF Innovative 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Michal Miedz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RIK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RIK Conference/Workshop &amp; Study 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egional Successes in Creating and Connecting Companies – EU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ventry, 9-11 Jun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4280" y="40464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Tahoma"/>
              </a:rPr>
              <a:t>ERIK Net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3880" y="475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good practice database</a:t>
            </a:r>
            <a:br>
              <a:rPr sz="2800"/>
            </a:br>
            <a:r>
              <a:rPr b="0" lang="en-GB" sz="2800" spc="-1" strike="noStrike">
                <a:solidFill>
                  <a:srgbClr val="cc6600"/>
                </a:solidFill>
                <a:latin typeface="Tahoma"/>
              </a:rPr>
              <a:t>General assumption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2149560"/>
            <a:ext cx="7273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elf-evaluation approac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regions choose what to share – ERIK provides framewor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open and participatory proces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imary and secondary sources of da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urvey on good practice covering member reg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regional RTDI indicators from existing databas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re and thematic indicato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Thematic Working Groups suggest indicators for sub-the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framework condi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level of analysis: programs, actions, pro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54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Regional networking</a:t>
            </a: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RIK -</a:t>
            </a: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olicy learning in practic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197080"/>
            <a:ext cx="640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hange of practical inform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know-what, know-who, know-w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hange of good practi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know-h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cus on specific areas of intere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trategies and specific policy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ctors, technologies and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pecific regional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oint events and other initiativ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rming stable partnerships for futu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211800" y="2276640"/>
            <a:ext cx="304920" cy="4105080"/>
          </a:xfrm>
          <a:custGeom>
            <a:avLst/>
            <a:gdLst>
              <a:gd name="textAreaLeft" fmla="*/ 0 w 304920"/>
              <a:gd name="textAreaRight" fmla="*/ 213840 w 304920"/>
              <a:gd name="textAreaTop" fmla="*/ 171000 h 4105080"/>
              <a:gd name="textAreaBottom" fmla="*/ 393408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3352680"/>
            <a:ext cx="2232000" cy="642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KEY ROLE: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4581360"/>
            <a:ext cx="234000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haping regional, national and European economic development polic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5160" y="4392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6600"/>
                </a:solidFill>
                <a:latin typeface="Tahoma"/>
              </a:rPr>
              <a:t>ERIK Network</a:t>
            </a:r>
            <a:br>
              <a:rPr sz="3200"/>
            </a:br>
            <a:r>
              <a:rPr b="0" lang="it-IT" sz="2800" spc="-1" strike="noStrike">
                <a:solidFill>
                  <a:srgbClr val="cc6600"/>
                </a:solidFill>
                <a:latin typeface="Tahoma"/>
              </a:rPr>
              <a:t>Future events (confirmed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24829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nferen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lorence, final conference, 25-26 Novemb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udy visi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Goteborg, 29 September - 1 October (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tart-ups and Spin-offs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5160" y="294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More informatio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63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http://www.eriknetwork.n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fo@eriknetwork.n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Brussels offic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6 Rond Point Schuman – 6th floor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el. +32 2 235 7366/67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Fax +32 2 235 7368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502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pport to Regional Programs of Innovative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focus on “regional economies based on knowledge and technological innovation” (one of Innovative Actions themes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ustain and further develop inter-regional networking (sharing  information, experience and good practic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nhance regional innovative potential and knowledge-oriented regional policies and strateg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total budget 1,2 million euro (50% ERDF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articipating reg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piloted by Toscana and Emilia-Romagn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13 partn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21 associate reg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open for new associate region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79160" y="4392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ERIK network</a:t>
            </a:r>
            <a:br>
              <a:rPr sz="2800"/>
            </a:br>
            <a:r>
              <a:rPr b="1" lang="en-US" sz="2200" spc="-1" strike="noStrike">
                <a:solidFill>
                  <a:srgbClr val="cc6600"/>
                </a:solidFill>
                <a:latin typeface="Tahoma"/>
              </a:rPr>
              <a:t>Introductio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604360" y="2492280"/>
            <a:ext cx="215640" cy="576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576360"/>
              <a:gd name="textAreaBottom" fmla="*/ 562680 h 576360"/>
            </a:gdLst>
            <a:ahLst/>
            <a:rect l="textAreaLeft" t="textAreaTop" r="textAreaRight" b="textAreaBottom"/>
            <a:pathLst>
              <a:path w="21600" h="57672">
                <a:moveTo>
                  <a:pt x="0" y="0"/>
                </a:moveTo>
                <a:lnTo>
                  <a:pt x="21600" y="0"/>
                </a:lnTo>
                <a:lnTo>
                  <a:pt x="21600" y="57672"/>
                </a:lnTo>
                <a:lnTo>
                  <a:pt x="0" y="57672"/>
                </a:lnTo>
                <a:close/>
              </a:path>
              <a:path fill="lightenLess" w="21600" h="57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7672">
                <a:moveTo>
                  <a:pt x="21600" y="0"/>
                </a:moveTo>
                <a:lnTo>
                  <a:pt x="21600" y="57672"/>
                </a:lnTo>
                <a:lnTo>
                  <a:pt x="20200" y="56272"/>
                </a:lnTo>
                <a:lnTo>
                  <a:pt x="20200" y="1400"/>
                </a:lnTo>
                <a:close/>
              </a:path>
              <a:path fill="darkenLess" w="21600" h="57672">
                <a:moveTo>
                  <a:pt x="21600" y="57672"/>
                </a:moveTo>
                <a:lnTo>
                  <a:pt x="0" y="57672"/>
                </a:lnTo>
                <a:lnTo>
                  <a:pt x="1400" y="56272"/>
                </a:lnTo>
                <a:lnTo>
                  <a:pt x="20200" y="56272"/>
                </a:lnTo>
                <a:close/>
              </a:path>
              <a:path fill="lighten" w="21600" h="57672">
                <a:moveTo>
                  <a:pt x="0" y="57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56272"/>
                </a:lnTo>
                <a:close/>
              </a:path>
              <a:path fill="darken" w="21600" h="57672">
                <a:moveTo>
                  <a:pt x="3794" y="21830"/>
                </a:moveTo>
                <a:lnTo>
                  <a:pt x="17806" y="28836"/>
                </a:lnTo>
                <a:lnTo>
                  <a:pt x="3794" y="35842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604360" y="5229360"/>
            <a:ext cx="215640" cy="1008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1008000"/>
              <a:gd name="textAreaBottom" fmla="*/ 994320 h 1008000"/>
            </a:gdLst>
            <a:ahLst/>
            <a:rect l="textAreaLeft" t="textAreaTop" r="textAreaRight" b="textAreaBottom"/>
            <a:pathLst>
              <a:path w="21600" h="100836">
                <a:moveTo>
                  <a:pt x="0" y="0"/>
                </a:moveTo>
                <a:lnTo>
                  <a:pt x="21600" y="0"/>
                </a:lnTo>
                <a:lnTo>
                  <a:pt x="21600" y="100836"/>
                </a:lnTo>
                <a:lnTo>
                  <a:pt x="0" y="100836"/>
                </a:lnTo>
                <a:close/>
              </a:path>
              <a:path fill="lightenLess" w="21600" h="100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00836">
                <a:moveTo>
                  <a:pt x="21600" y="0"/>
                </a:moveTo>
                <a:lnTo>
                  <a:pt x="21600" y="100836"/>
                </a:lnTo>
                <a:lnTo>
                  <a:pt x="20200" y="99436"/>
                </a:lnTo>
                <a:lnTo>
                  <a:pt x="20200" y="1400"/>
                </a:lnTo>
                <a:close/>
              </a:path>
              <a:path fill="darkenLess" w="21600" h="100836">
                <a:moveTo>
                  <a:pt x="21600" y="100836"/>
                </a:moveTo>
                <a:lnTo>
                  <a:pt x="0" y="100836"/>
                </a:lnTo>
                <a:lnTo>
                  <a:pt x="1400" y="99436"/>
                </a:lnTo>
                <a:lnTo>
                  <a:pt x="20200" y="99436"/>
                </a:lnTo>
                <a:close/>
              </a:path>
              <a:path fill="lighten" w="21600" h="100836">
                <a:moveTo>
                  <a:pt x="0" y="100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99436"/>
                </a:lnTo>
                <a:close/>
              </a:path>
              <a:path fill="darken" w="21600" h="100836">
                <a:moveTo>
                  <a:pt x="3794" y="43412"/>
                </a:moveTo>
                <a:lnTo>
                  <a:pt x="17806" y="50418"/>
                </a:lnTo>
                <a:lnTo>
                  <a:pt x="3794" y="57424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920" y="43920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ERDF Innovative Actions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Main themes (% budget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28200" y="1928880"/>
            <a:ext cx="6371640" cy="4701240"/>
            <a:chOff x="1528200" y="1928880"/>
            <a:chExt cx="6371640" cy="4701240"/>
          </a:xfrm>
        </p:grpSpPr>
        <p:sp>
          <p:nvSpPr>
            <p:cNvPr id="87" name=""/>
            <p:cNvSpPr/>
            <p:nvPr/>
          </p:nvSpPr>
          <p:spPr>
            <a:xfrm>
              <a:off x="3040200" y="3024360"/>
              <a:ext cx="3611160" cy="351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438" swAng="96991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438" swAng="9699123"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39840" y="3024720"/>
              <a:ext cx="3611520" cy="35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49" y="21035"/>
                  </a:moveTo>
                  <a:arcTo wR="10800" hR="10800" stAng="4282685" swAng="80423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49" y="21035"/>
                  </a:moveTo>
                  <a:arcTo wR="10800" hR="10800" stAng="4282685" swAng="8042390"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0200" y="3024720"/>
              <a:ext cx="3611520" cy="351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" y="6164"/>
                  </a:moveTo>
                  <a:arcTo wR="10800" hR="10800" stAng="-9274925" swAng="2657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" y="6164"/>
                  </a:moveTo>
                  <a:arcTo wR="10800" hR="10800" stAng="-9274925" swAng="2657634"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39480" y="3025440"/>
              <a:ext cx="3612600" cy="351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55" y="670"/>
                  </a:moveTo>
                  <a:arcTo wR="10800" hR="10800" stAng="-6617291" swAng="913965"/>
                  <a:lnTo>
                    <a:pt x="10800" y="10800"/>
                  </a:lnTo>
                  <a:close/>
                </a:path>
                <a:path fill="none" w="21600" h="21600">
                  <a:moveTo>
                    <a:pt x="7055" y="670"/>
                  </a:moveTo>
                  <a:arcTo wR="10800" hR="10800" stAng="-6617291" swAng="913965"/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28680" y="3024360"/>
              <a:ext cx="3635280" cy="352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8" y="42"/>
                  </a:moveTo>
                  <a:arcTo wR="10800" hR="10800" stAng="-5703326" swAng="286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8" y="42"/>
                  </a:moveTo>
                  <a:arcTo wR="10800" hR="10800" stAng="-5703326" swAng="286888"/>
                </a:path>
              </a:pathLst>
            </a:cu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15360" y="4336200"/>
              <a:ext cx="129600" cy="128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0400" y="5941080"/>
              <a:ext cx="488160" cy="14724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8"/>
                  </a:moveTo>
                  <a:lnTo>
                    <a:pt x="0" y="2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28120" y="3498120"/>
              <a:ext cx="392760" cy="543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3"/>
                  </a:moveTo>
                  <a:lnTo>
                    <a:pt x="6" y="3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1640" y="2840760"/>
              <a:ext cx="393120" cy="2185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0" y="6"/>
                  </a:lnTo>
                  <a:lnTo>
                    <a:pt x="21" y="1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2280" y="2621880"/>
              <a:ext cx="263520" cy="4024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0"/>
                  </a:moveTo>
                  <a:lnTo>
                    <a:pt x="8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92840" y="4045320"/>
              <a:ext cx="11070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a21b13"/>
                  </a:solidFill>
                  <a:latin typeface="Arial"/>
                </a:rPr>
                <a:t>Technologic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a21b13"/>
                  </a:solidFill>
                  <a:latin typeface="Arial"/>
                </a:rPr>
                <a:t>innov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65360" y="4336200"/>
              <a:ext cx="4669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5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a21b13"/>
                  </a:solidFill>
                  <a:latin typeface="Arial"/>
                </a:rPr>
                <a:t>44,6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6480" y="2183760"/>
              <a:ext cx="1198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accompany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87680" y="247644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measu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85040" y="276732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1,3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4560" y="61430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E-Euro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22320" y="64317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37,2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3259800"/>
              <a:ext cx="127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regional ident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68560" y="355248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12,5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67600" y="1928880"/>
              <a:ext cx="75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technic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54560" y="22215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assist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7000" y="251244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4,3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5160" y="40428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ERDF Innovative Actions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Main themes by country (% budget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82000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1814400"/>
          <a:ext cx="8748720" cy="485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814400"/>
                    <a:ext cx="87487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0" y="1676520"/>
            <a:ext cx="4572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0" y="29484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ERIK Partner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1701720"/>
            <a:ext cx="91440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9600" y="1735200"/>
            <a:ext cx="4611600" cy="5122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48320" y="1828800"/>
            <a:ext cx="3517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1.  Emilia Romagna (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2.  Toscana (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3.</a:t>
            </a:r>
            <a:r>
              <a:rPr b="1" lang="de-DE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Nieder Österreich (Aust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4. 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Wallonie (Belgi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5.  Basse Normandi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6.  Lorrain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7. 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Bremen (German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8.  Lombardia (Italy)</a:t>
            </a:r>
            <a:r>
              <a:rPr b="1" i="1" lang="it-IT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9.  Thessaly (Gree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10. Alentejo (Portug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11.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Aragon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12. Murcia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13. West Midlands (United Kingdom)</a:t>
            </a: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0" y="1703520"/>
            <a:ext cx="4572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63880" y="259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New Associate Region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1887480"/>
            <a:ext cx="327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Balearic Islands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astilla y Leon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ataluny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rete Region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Epirus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Extremadur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Flanders (Belgium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Gelderland (Netherlands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Ionian Islands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Kalmar County (Swede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Liguria (Ital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North-Brabant (the Netherlands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Piemonte (Ital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Rioj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achsen (German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outh Holland (the Netherlands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erea Ellada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ockholm County (Swede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orstrom County (Denmark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Valenci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Vastra Gotaland (Swede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0" y="1700280"/>
            <a:ext cx="91440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9600" y="1735200"/>
            <a:ext cx="46116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8240" y="36648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ERIK action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novative Regions Policy Forum and the conferen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hematic Working Group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orkshops and study visits exchange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RIK Website and Newslet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atabase of good practi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Tahoma"/>
              </a:rPr>
              <a:t>ERIK actions</a:t>
            </a:r>
            <a:br>
              <a:rPr sz="2800"/>
            </a:br>
            <a:r>
              <a:rPr b="0" lang="en-GB" sz="2800" spc="-1" strike="noStrike">
                <a:solidFill>
                  <a:srgbClr val="cc6600"/>
                </a:solidFill>
                <a:latin typeface="Tahoma"/>
              </a:rPr>
              <a:t>Thematic Working Group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80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lusters and business network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ervices and support to start-up and spin-off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cience and industry relationship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egional innovation benchmarking and foresigh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4800" y="43920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ERDF Innovative Actions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Technological Innovation theme by measure</a:t>
            </a:r>
            <a:br>
              <a:rPr sz="22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(</a:t>
            </a:r>
            <a:r>
              <a:rPr b="1" lang="en-GB" sz="2000" spc="-1" strike="noStrike">
                <a:solidFill>
                  <a:srgbClr val="cc6600"/>
                </a:solidFill>
                <a:latin typeface="Tahoma"/>
              </a:rPr>
              <a:t>% budge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96720" y="1432080"/>
          <a:ext cx="1000908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432080"/>
                    <a:ext cx="1000908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4:05:15Z</dcterms:created>
  <dc:creator>elisabetta toschi</dc:creator>
  <dc:description/>
  <dc:language>en-US</dc:language>
  <cp:lastModifiedBy>miedzinski</cp:lastModifiedBy>
  <dcterms:modified xsi:type="dcterms:W3CDTF">2004-06-07T16:18:20Z</dcterms:modified>
  <cp:revision>111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1456818</vt:r8>
  </property>
  <property fmtid="{D5CDD505-2E9C-101B-9397-08002B2CF9AE}" pid="3" name="_AuthorEmail">
    <vt:lpwstr>m.miedzinski@regionicentroitalia.org</vt:lpwstr>
  </property>
  <property fmtid="{D5CDD505-2E9C-101B-9397-08002B2CF9AE}" pid="4" name="_AuthorEmailDisplayName">
    <vt:lpwstr>Michal Miedzinski</vt:lpwstr>
  </property>
  <property fmtid="{D5CDD505-2E9C-101B-9397-08002B2CF9AE}" pid="5" name="_EmailSubject">
    <vt:lpwstr>presentation for Patras</vt:lpwstr>
  </property>
</Properties>
</file>