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8707-CAAA-42F9-8ED2-CE2DEDE5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6F43-6215-4CC6-B7F9-AAC1D95F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F39A-F15E-4619-B2AC-FE8384851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CCA6-00EA-454E-9FC3-5B91843C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5D85-3C26-4C8C-AD32-CC0F3EEC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5BA0-D4EC-4A5D-9979-0ECE0D43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66A8-6560-4CC5-BBAB-2609F64FB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3152-401C-46DD-9A8D-9F1F4B79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447920" y="304560"/>
            <a:ext cx="63244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24FF-0AD5-4BE1-A7EC-FE31D4914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04FC-BD3A-4929-9483-764157AA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EA90-CC6B-4AD2-93EA-EBF96E34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6490-44EF-409C-8430-59CE9CD0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rinno.com/" TargetMode="External"/><Relationship Id="rId5" Type="http://schemas.openxmlformats.org/officeDocument/2006/relationships/hyperlink" Target="http://www.europa.eu.int/comm/regional_policy/innovation/index_en.htm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7.png"/><Relationship Id="rId16" Type="http://schemas.openxmlformats.org/officeDocument/2006/relationships/image" Target="../media/image8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4085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447920"/>
            <a:ext cx="9144000" cy="541008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47920" y="30456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3CE5D-5730-4B4D-A2CE-1BE59A433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155520" y="2149560"/>
            <a:ext cx="608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914400"/>
            <a:ext cx="9144000" cy="761760"/>
            <a:chOff x="0" y="914400"/>
            <a:chExt cx="9144000" cy="761760"/>
          </a:xfrm>
        </p:grpSpPr>
        <p:sp>
          <p:nvSpPr>
            <p:cNvPr id="9" name=""/>
            <p:cNvSpPr/>
            <p:nvPr/>
          </p:nvSpPr>
          <p:spPr>
            <a:xfrm>
              <a:off x="0" y="914400"/>
              <a:ext cx="91440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914400"/>
              <a:ext cx="91440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  </a:t>
              </a:r>
              <a:r>
                <a:rPr b="0" lang="en-US" sz="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-155520" y="2606760"/>
            <a:ext cx="1425600" cy="822240"/>
            <a:chOff x="-155520" y="2606760"/>
            <a:chExt cx="1425600" cy="822240"/>
          </a:xfrm>
        </p:grpSpPr>
        <p:sp>
          <p:nvSpPr>
            <p:cNvPr id="12" name=""/>
            <p:cNvSpPr/>
            <p:nvPr/>
          </p:nvSpPr>
          <p:spPr>
            <a:xfrm>
              <a:off x="-155520" y="2606760"/>
              <a:ext cx="708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ccccff"/>
                  </a:solidFill>
                  <a:uFillTx/>
                  <a:latin typeface="Times New Roman"/>
                  <a:hlinkClick r:id="rId4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552600" y="2606760"/>
              <a:ext cx="717480" cy="459720"/>
              <a:chOff x="552600" y="2606760"/>
              <a:chExt cx="717480" cy="459720"/>
            </a:xfrm>
          </p:grpSpPr>
          <p:sp>
            <p:nvSpPr>
              <p:cNvPr id="14" name=""/>
              <p:cNvSpPr/>
              <p:nvPr/>
            </p:nvSpPr>
            <p:spPr>
              <a:xfrm>
                <a:off x="552600" y="2606760"/>
                <a:ext cx="4287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52600" y="2606760"/>
                <a:ext cx="717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5"/>
                  </a:rPr>
                  <a:t>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" name=""/>
          <p:cNvGrpSpPr/>
          <p:nvPr/>
        </p:nvGrpSpPr>
        <p:grpSpPr>
          <a:xfrm>
            <a:off x="5315040" y="3429000"/>
            <a:ext cx="3673440" cy="1279440"/>
            <a:chOff x="5315040" y="3429000"/>
            <a:chExt cx="3673440" cy="1279440"/>
          </a:xfrm>
        </p:grpSpPr>
        <p:sp>
          <p:nvSpPr>
            <p:cNvPr id="17" name=""/>
            <p:cNvSpPr/>
            <p:nvPr/>
          </p:nvSpPr>
          <p:spPr>
            <a:xfrm>
              <a:off x="5315040" y="3429000"/>
              <a:ext cx="635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950080" y="3429000"/>
              <a:ext cx="55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505560" y="3429000"/>
              <a:ext cx="708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213680" y="3429000"/>
              <a:ext cx="47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685280" y="3429000"/>
              <a:ext cx="69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79000" y="3429000"/>
              <a:ext cx="58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967960" y="3429000"/>
              <a:ext cx="20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315040" y="3886200"/>
              <a:ext cx="6350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950080" y="3886200"/>
              <a:ext cx="55548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505560" y="3886200"/>
              <a:ext cx="7081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7213680" y="3886200"/>
              <a:ext cx="4716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685280" y="3886200"/>
              <a:ext cx="6937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79000" y="3886200"/>
              <a:ext cx="58896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" name="" descr=""/>
          <p:cNvPicPr/>
          <p:nvPr/>
        </p:nvPicPr>
        <p:blipFill>
          <a:blip r:embed="rId6"/>
          <a:stretch/>
        </p:blipFill>
        <p:spPr>
          <a:xfrm>
            <a:off x="5483160" y="3110040"/>
            <a:ext cx="835200" cy="11160"/>
          </a:xfrm>
          <a:prstGeom prst="rect">
            <a:avLst/>
          </a:prstGeom>
          <a:ln w="0">
            <a:noFill/>
          </a:ln>
        </p:spPr>
      </p:pic>
      <p:pic>
        <p:nvPicPr>
          <p:cNvPr id="31" name="" descr=""/>
          <p:cNvPicPr/>
          <p:nvPr/>
        </p:nvPicPr>
        <p:blipFill>
          <a:blip r:embed="rId7"/>
          <a:stretch/>
        </p:blipFill>
        <p:spPr>
          <a:xfrm>
            <a:off x="6118200" y="3110040"/>
            <a:ext cx="696960" cy="11160"/>
          </a:xfrm>
          <a:prstGeom prst="rect">
            <a:avLst/>
          </a:prstGeom>
          <a:ln w="0">
            <a:noFill/>
          </a:ln>
        </p:spPr>
      </p:pic>
      <p:pic>
        <p:nvPicPr>
          <p:cNvPr id="32" name="" descr=""/>
          <p:cNvPicPr/>
          <p:nvPr/>
        </p:nvPicPr>
        <p:blipFill>
          <a:blip r:embed="rId8"/>
          <a:stretch/>
        </p:blipFill>
        <p:spPr>
          <a:xfrm>
            <a:off x="6673680" y="3110040"/>
            <a:ext cx="960480" cy="11160"/>
          </a:xfrm>
          <a:prstGeom prst="rect">
            <a:avLst/>
          </a:prstGeom>
          <a:ln w="0">
            <a:noFill/>
          </a:ln>
        </p:spPr>
      </p:pic>
      <p:pic>
        <p:nvPicPr>
          <p:cNvPr id="33" name="" descr=""/>
          <p:cNvPicPr/>
          <p:nvPr/>
        </p:nvPicPr>
        <p:blipFill>
          <a:blip r:embed="rId9"/>
          <a:stretch/>
        </p:blipFill>
        <p:spPr>
          <a:xfrm>
            <a:off x="7381800" y="3110040"/>
            <a:ext cx="549360" cy="11160"/>
          </a:xfrm>
          <a:prstGeom prst="rect">
            <a:avLst/>
          </a:prstGeom>
          <a:ln w="0">
            <a:noFill/>
          </a:ln>
        </p:spPr>
      </p:pic>
      <p:pic>
        <p:nvPicPr>
          <p:cNvPr id="34" name="" descr=""/>
          <p:cNvPicPr/>
          <p:nvPr/>
        </p:nvPicPr>
        <p:blipFill>
          <a:blip r:embed="rId10"/>
          <a:stretch/>
        </p:blipFill>
        <p:spPr>
          <a:xfrm>
            <a:off x="7853400" y="3110040"/>
            <a:ext cx="914400" cy="11160"/>
          </a:xfrm>
          <a:prstGeom prst="rect">
            <a:avLst/>
          </a:prstGeom>
          <a:ln w="0">
            <a:noFill/>
          </a:ln>
        </p:spPr>
      </p:pic>
      <p:pic>
        <p:nvPicPr>
          <p:cNvPr id="35" name="" descr=""/>
          <p:cNvPicPr/>
          <p:nvPr/>
        </p:nvPicPr>
        <p:blipFill>
          <a:blip r:embed="rId11"/>
          <a:stretch/>
        </p:blipFill>
        <p:spPr>
          <a:xfrm>
            <a:off x="8547120" y="3292560"/>
            <a:ext cx="754200" cy="11160"/>
          </a:xfrm>
          <a:prstGeom prst="rect">
            <a:avLst/>
          </a:prstGeom>
          <a:ln w="0">
            <a:noFill/>
          </a:ln>
        </p:spPr>
      </p:pic>
      <p:pic>
        <p:nvPicPr>
          <p:cNvPr id="36" name="" descr=""/>
          <p:cNvPicPr/>
          <p:nvPr/>
        </p:nvPicPr>
        <p:blipFill>
          <a:blip r:embed="rId12"/>
          <a:stretch/>
        </p:blipFill>
        <p:spPr>
          <a:xfrm>
            <a:off x="3809880" y="1523880"/>
            <a:ext cx="835200" cy="160560"/>
          </a:xfrm>
          <a:prstGeom prst="rect">
            <a:avLst/>
          </a:prstGeom>
          <a:ln w="0">
            <a:noFill/>
          </a:ln>
        </p:spPr>
      </p:pic>
      <p:pic>
        <p:nvPicPr>
          <p:cNvPr id="37" name="" descr=""/>
          <p:cNvPicPr/>
          <p:nvPr/>
        </p:nvPicPr>
        <p:blipFill>
          <a:blip r:embed="rId13"/>
          <a:stretch/>
        </p:blipFill>
        <p:spPr>
          <a:xfrm>
            <a:off x="4648320" y="1523880"/>
            <a:ext cx="696960" cy="160560"/>
          </a:xfrm>
          <a:prstGeom prst="rect">
            <a:avLst/>
          </a:prstGeom>
          <a:ln w="0">
            <a:noFill/>
          </a:ln>
        </p:spPr>
      </p:pic>
      <p:pic>
        <p:nvPicPr>
          <p:cNvPr id="38" name="" descr=""/>
          <p:cNvPicPr/>
          <p:nvPr/>
        </p:nvPicPr>
        <p:blipFill>
          <a:blip r:embed="rId14"/>
          <a:stretch/>
        </p:blipFill>
        <p:spPr>
          <a:xfrm>
            <a:off x="5334120" y="1523880"/>
            <a:ext cx="960480" cy="16056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15"/>
          <a:stretch/>
        </p:blipFill>
        <p:spPr>
          <a:xfrm>
            <a:off x="6308640" y="1523880"/>
            <a:ext cx="549360" cy="16056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16"/>
          <a:stretch/>
        </p:blipFill>
        <p:spPr>
          <a:xfrm>
            <a:off x="6858000" y="1523880"/>
            <a:ext cx="914400" cy="16056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17"/>
          <a:stretch/>
        </p:blipFill>
        <p:spPr>
          <a:xfrm>
            <a:off x="7848720" y="1523880"/>
            <a:ext cx="753840" cy="160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43200" y="609480"/>
            <a:ext cx="6400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68360" y="1878120"/>
            <a:ext cx="8064360" cy="56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2800" spc="-1" strike="noStrike">
                <a:solidFill>
                  <a:srgbClr val="000066"/>
                </a:solidFill>
                <a:latin typeface="Arial Unicode MS"/>
              </a:rPr>
              <a:t>European Regions Knowledge-bas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66"/>
                </a:solidFill>
                <a:latin typeface="Arial Unicode MS"/>
              </a:rPr>
              <a:t>in the laboratory of the ERDF Innovative Ac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66"/>
                </a:solidFill>
                <a:latin typeface="Tahoma"/>
              </a:rPr>
              <a:t>Michal Miedzinsk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RIK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ERIK Conference/Workshop &amp; Study T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egional Successes in Creating and Connecting Companies – EU Perspec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oventry, 9-11 June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74280" y="404640"/>
            <a:ext cx="369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6600"/>
                </a:solidFill>
                <a:latin typeface="Tahoma"/>
              </a:rPr>
              <a:t>ERIK Net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063880" y="475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6600"/>
                </a:solidFill>
                <a:latin typeface="Tahoma"/>
              </a:rPr>
              <a:t>ERIK good practice database</a:t>
            </a:r>
            <a:br>
              <a:rPr sz="2800"/>
            </a:br>
            <a:r>
              <a:rPr b="0" lang="en-GB" sz="2800" spc="-1" strike="noStrike">
                <a:solidFill>
                  <a:srgbClr val="cc6600"/>
                </a:solidFill>
                <a:latin typeface="Tahoma"/>
              </a:rPr>
              <a:t>General assumption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10920" y="2149560"/>
            <a:ext cx="72738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elf-evaluation approach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regions choose what to share – ERIK provides framewor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open and participatory proces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rimary and secondary sources of dat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urvey on good practice covering member regions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regional RTDI indicators from existing databases</a:t>
            </a:r>
            <a:r>
              <a:rPr b="0" lang="en-GB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ore and thematic indicator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Thematic Working Groups suggest indicators for sub-them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framework condi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level of analysis: programs, actions, projec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68000" y="404280"/>
            <a:ext cx="5472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Regional networking</a:t>
            </a:r>
            <a:br>
              <a:rPr sz="2800"/>
            </a:b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RIK -</a:t>
            </a: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olicy learning in practice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11280" y="2197080"/>
            <a:ext cx="6408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xchange of practical information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know-what, know-who, know-whe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exchange of good practic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know-how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cus on specific areas of interes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trategies and specific policy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ctors, technologies and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pecific regional pro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joint events and other initiativ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forming stable partnerships for futur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6211800" y="2276640"/>
            <a:ext cx="304920" cy="4105080"/>
          </a:xfrm>
          <a:custGeom>
            <a:avLst/>
            <a:gdLst>
              <a:gd name="textAreaLeft" fmla="*/ 0 w 304920"/>
              <a:gd name="textAreaRight" fmla="*/ 213840 w 304920"/>
              <a:gd name="textAreaTop" fmla="*/ 171000 h 4105080"/>
              <a:gd name="textAreaBottom" fmla="*/ 3934080 h 41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516720" y="3352680"/>
            <a:ext cx="2232000" cy="6426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KEY ROLE: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coord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04000" y="4581360"/>
            <a:ext cx="2340000" cy="13107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ahoma"/>
              </a:rPr>
              <a:t>Shaping regional, national and European economic development polici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35160" y="43920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6600"/>
                </a:solidFill>
                <a:latin typeface="Tahoma"/>
              </a:rPr>
              <a:t>ERIK Network</a:t>
            </a:r>
            <a:br>
              <a:rPr sz="3200"/>
            </a:br>
            <a:r>
              <a:rPr b="0" lang="it-IT" sz="2800" spc="-1" strike="noStrike">
                <a:solidFill>
                  <a:srgbClr val="cc6600"/>
                </a:solidFill>
                <a:latin typeface="Tahoma"/>
              </a:rPr>
              <a:t>Future events (confirmed)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11280" y="248292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nferenc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Florence, final conference, 25-26 November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tudy visit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Goteborg, 29 September - 1 October (</a:t>
            </a: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tart-ups and Spin-offs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35160" y="29484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00"/>
                </a:solidFill>
                <a:latin typeface="Tahoma"/>
              </a:rPr>
              <a:t>More information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632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Tahoma"/>
              </a:rPr>
              <a:t>http://www.eriknetwork.n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fo@eriknetwork.ne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Brussels office: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6 Rond Point Schuman – 6th floor</a:t>
            </a:r>
            <a:r>
              <a:rPr b="0" lang="en-GB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el. +32 2 235 7366/67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Fax +32 2 235 7368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9502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upport to Regional Programs of Innovative Act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focus on “regional economies based on knowledge and technological innovation” (one of Innovative Actions themes)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sustain and further develop inter-regional networking (sharing  information, experience and good practice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enhance regional innovative potential and knowledge-oriented regional policies and strategi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total budget 1,2 million euro (50% ERDF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participating region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piloted by Toscana and Emilia-Romagn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13 partner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21 associate region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Tahoma"/>
              </a:rPr>
              <a:t>open for new associate regions!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279160" y="43920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ERIK network</a:t>
            </a:r>
            <a:br>
              <a:rPr sz="2800"/>
            </a:br>
            <a:r>
              <a:rPr b="1" lang="en-US" sz="2200" spc="-1" strike="noStrike">
                <a:solidFill>
                  <a:srgbClr val="cc6600"/>
                </a:solidFill>
                <a:latin typeface="Tahoma"/>
              </a:rPr>
              <a:t>Introduction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8604360" y="2492280"/>
            <a:ext cx="215640" cy="57636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576360"/>
              <a:gd name="textAreaBottom" fmla="*/ 562680 h 576360"/>
            </a:gdLst>
            <a:ahLst/>
            <a:rect l="textAreaLeft" t="textAreaTop" r="textAreaRight" b="textAreaBottom"/>
            <a:pathLst>
              <a:path w="21600" h="57672">
                <a:moveTo>
                  <a:pt x="0" y="0"/>
                </a:moveTo>
                <a:lnTo>
                  <a:pt x="21600" y="0"/>
                </a:lnTo>
                <a:lnTo>
                  <a:pt x="21600" y="57672"/>
                </a:lnTo>
                <a:lnTo>
                  <a:pt x="0" y="57672"/>
                </a:lnTo>
                <a:close/>
              </a:path>
              <a:path fill="lightenLess" w="21600" h="576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7672">
                <a:moveTo>
                  <a:pt x="21600" y="0"/>
                </a:moveTo>
                <a:lnTo>
                  <a:pt x="21600" y="57672"/>
                </a:lnTo>
                <a:lnTo>
                  <a:pt x="20200" y="56272"/>
                </a:lnTo>
                <a:lnTo>
                  <a:pt x="20200" y="1400"/>
                </a:lnTo>
                <a:close/>
              </a:path>
              <a:path fill="darkenLess" w="21600" h="57672">
                <a:moveTo>
                  <a:pt x="21600" y="57672"/>
                </a:moveTo>
                <a:lnTo>
                  <a:pt x="0" y="57672"/>
                </a:lnTo>
                <a:lnTo>
                  <a:pt x="1400" y="56272"/>
                </a:lnTo>
                <a:lnTo>
                  <a:pt x="20200" y="56272"/>
                </a:lnTo>
                <a:close/>
              </a:path>
              <a:path fill="lighten" w="21600" h="57672">
                <a:moveTo>
                  <a:pt x="0" y="57672"/>
                </a:moveTo>
                <a:lnTo>
                  <a:pt x="0" y="0"/>
                </a:lnTo>
                <a:lnTo>
                  <a:pt x="1400" y="1400"/>
                </a:lnTo>
                <a:lnTo>
                  <a:pt x="1400" y="56272"/>
                </a:lnTo>
                <a:close/>
              </a:path>
              <a:path fill="darken" w="21600" h="57672">
                <a:moveTo>
                  <a:pt x="3794" y="21830"/>
                </a:moveTo>
                <a:lnTo>
                  <a:pt x="17806" y="28836"/>
                </a:lnTo>
                <a:lnTo>
                  <a:pt x="3794" y="35842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2" action="ppaction://hlinksldjump"/>
          </p:cNvPr>
          <p:cNvSpPr/>
          <p:nvPr/>
        </p:nvSpPr>
        <p:spPr>
          <a:xfrm>
            <a:off x="8604360" y="5229360"/>
            <a:ext cx="215640" cy="1008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1008000"/>
              <a:gd name="textAreaBottom" fmla="*/ 994320 h 1008000"/>
            </a:gdLst>
            <a:ahLst/>
            <a:rect l="textAreaLeft" t="textAreaTop" r="textAreaRight" b="textAreaBottom"/>
            <a:pathLst>
              <a:path w="21600" h="100836">
                <a:moveTo>
                  <a:pt x="0" y="0"/>
                </a:moveTo>
                <a:lnTo>
                  <a:pt x="21600" y="0"/>
                </a:lnTo>
                <a:lnTo>
                  <a:pt x="21600" y="100836"/>
                </a:lnTo>
                <a:lnTo>
                  <a:pt x="0" y="100836"/>
                </a:lnTo>
                <a:close/>
              </a:path>
              <a:path fill="lightenLess" w="21600" h="1008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100836">
                <a:moveTo>
                  <a:pt x="21600" y="0"/>
                </a:moveTo>
                <a:lnTo>
                  <a:pt x="21600" y="100836"/>
                </a:lnTo>
                <a:lnTo>
                  <a:pt x="20200" y="99436"/>
                </a:lnTo>
                <a:lnTo>
                  <a:pt x="20200" y="1400"/>
                </a:lnTo>
                <a:close/>
              </a:path>
              <a:path fill="darkenLess" w="21600" h="100836">
                <a:moveTo>
                  <a:pt x="21600" y="100836"/>
                </a:moveTo>
                <a:lnTo>
                  <a:pt x="0" y="100836"/>
                </a:lnTo>
                <a:lnTo>
                  <a:pt x="1400" y="99436"/>
                </a:lnTo>
                <a:lnTo>
                  <a:pt x="20200" y="99436"/>
                </a:lnTo>
                <a:close/>
              </a:path>
              <a:path fill="lighten" w="21600" h="100836">
                <a:moveTo>
                  <a:pt x="0" y="100836"/>
                </a:moveTo>
                <a:lnTo>
                  <a:pt x="0" y="0"/>
                </a:lnTo>
                <a:lnTo>
                  <a:pt x="1400" y="1400"/>
                </a:lnTo>
                <a:lnTo>
                  <a:pt x="1400" y="99436"/>
                </a:lnTo>
                <a:close/>
              </a:path>
              <a:path fill="darken" w="21600" h="100836">
                <a:moveTo>
                  <a:pt x="3794" y="43412"/>
                </a:moveTo>
                <a:lnTo>
                  <a:pt x="17806" y="50418"/>
                </a:lnTo>
                <a:lnTo>
                  <a:pt x="3794" y="57424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0920" y="43920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ERDF Innovative Actions</a:t>
            </a:r>
            <a:br>
              <a:rPr sz="28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Main themes (% budget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528200" y="1928880"/>
            <a:ext cx="6371640" cy="4701240"/>
            <a:chOff x="1528200" y="1928880"/>
            <a:chExt cx="6371640" cy="4701240"/>
          </a:xfrm>
        </p:grpSpPr>
        <p:sp>
          <p:nvSpPr>
            <p:cNvPr id="87" name=""/>
            <p:cNvSpPr/>
            <p:nvPr/>
          </p:nvSpPr>
          <p:spPr>
            <a:xfrm>
              <a:off x="3040200" y="3024360"/>
              <a:ext cx="3611160" cy="351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48" y="0"/>
                  </a:moveTo>
                  <a:arcTo wR="10800" hR="10800" stAng="-5416438" swAng="96991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48" y="0"/>
                  </a:moveTo>
                  <a:arcTo wR="10800" hR="10800" stAng="-5416438" swAng="9699123"/>
                </a:path>
              </a:pathLst>
            </a:custGeom>
            <a:solidFill>
              <a:srgbClr val="ff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39840" y="3024720"/>
              <a:ext cx="3611520" cy="35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49" y="21035"/>
                  </a:moveTo>
                  <a:arcTo wR="10800" hR="10800" stAng="4282685" swAng="8042390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49" y="21035"/>
                  </a:moveTo>
                  <a:arcTo wR="10800" hR="10800" stAng="4282685" swAng="8042390"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0200" y="3024720"/>
              <a:ext cx="3611520" cy="351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5" y="6164"/>
                  </a:moveTo>
                  <a:arcTo wR="10800" hR="10800" stAng="-9274925" swAng="265763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5" y="6164"/>
                  </a:moveTo>
                  <a:arcTo wR="10800" hR="10800" stAng="-9274925" swAng="2657634"/>
                </a:path>
              </a:pathLst>
            </a:custGeom>
            <a:solidFill>
              <a:srgbClr val="008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39480" y="3025440"/>
              <a:ext cx="3612600" cy="3517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055" y="670"/>
                  </a:moveTo>
                  <a:arcTo wR="10800" hR="10800" stAng="-6617291" swAng="913965"/>
                  <a:lnTo>
                    <a:pt x="10800" y="10800"/>
                  </a:lnTo>
                  <a:close/>
                </a:path>
                <a:path fill="none" w="21600" h="21600">
                  <a:moveTo>
                    <a:pt x="7055" y="670"/>
                  </a:moveTo>
                  <a:arcTo wR="10800" hR="10800" stAng="-6617291" swAng="913965"/>
                </a:path>
              </a:pathLst>
            </a:custGeom>
            <a:solidFill>
              <a:srgbClr val="ccff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028680" y="3024360"/>
              <a:ext cx="3635280" cy="352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48" y="42"/>
                  </a:moveTo>
                  <a:arcTo wR="10800" hR="10800" stAng="-5703326" swAng="286888"/>
                  <a:lnTo>
                    <a:pt x="10800" y="10800"/>
                  </a:lnTo>
                  <a:close/>
                </a:path>
                <a:path fill="none" w="21600" h="21600">
                  <a:moveTo>
                    <a:pt x="9848" y="42"/>
                  </a:moveTo>
                  <a:arcTo wR="10800" hR="10800" stAng="-5703326" swAng="286888"/>
                </a:path>
              </a:pathLst>
            </a:custGeom>
            <a:solidFill>
              <a:srgbClr val="00008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15360" y="4336200"/>
              <a:ext cx="129600" cy="128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1" y="0"/>
                  </a:lnTo>
                  <a:lnTo>
                    <a:pt x="0" y="7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20400" y="5941080"/>
              <a:ext cx="488160" cy="147240"/>
            </a:xfrm>
            <a:custGeom>
              <a:avLst/>
              <a:gdLst/>
              <a:ahLst/>
              <a:rect l="l" t="t" r="r" b="b"/>
              <a:pathLst>
                <a:path w="26" h="8">
                  <a:moveTo>
                    <a:pt x="0" y="8"/>
                  </a:moveTo>
                  <a:lnTo>
                    <a:pt x="0" y="2"/>
                  </a:lnTo>
                  <a:lnTo>
                    <a:pt x="26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28120" y="3498120"/>
              <a:ext cx="392760" cy="54360"/>
            </a:xfrm>
            <a:custGeom>
              <a:avLst/>
              <a:gdLst/>
              <a:ahLst/>
              <a:rect l="l" t="t" r="r" b="b"/>
              <a:pathLst>
                <a:path w="21" h="3">
                  <a:moveTo>
                    <a:pt x="0" y="3"/>
                  </a:moveTo>
                  <a:lnTo>
                    <a:pt x="6" y="3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31640" y="2840760"/>
              <a:ext cx="393120" cy="21852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0" y="0"/>
                  </a:moveTo>
                  <a:lnTo>
                    <a:pt x="0" y="6"/>
                  </a:lnTo>
                  <a:lnTo>
                    <a:pt x="21" y="1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42280" y="2621880"/>
              <a:ext cx="263520" cy="402480"/>
            </a:xfrm>
            <a:custGeom>
              <a:avLst/>
              <a:gdLst/>
              <a:ahLst/>
              <a:rect l="l" t="t" r="r" b="b"/>
              <a:pathLst>
                <a:path w="14" h="22">
                  <a:moveTo>
                    <a:pt x="14" y="0"/>
                  </a:moveTo>
                  <a:lnTo>
                    <a:pt x="8" y="0"/>
                  </a:lnTo>
                  <a:lnTo>
                    <a:pt x="0" y="22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92840" y="4045320"/>
              <a:ext cx="1107000" cy="2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a21b13"/>
                  </a:solidFill>
                  <a:latin typeface="Arial"/>
                </a:rPr>
                <a:t>Technologic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ts val="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a21b13"/>
                  </a:solidFill>
                  <a:latin typeface="Arial"/>
                </a:rPr>
                <a:t>innova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65360" y="4336200"/>
              <a:ext cx="466920" cy="2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5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a21b13"/>
                  </a:solidFill>
                  <a:latin typeface="Arial"/>
                </a:rPr>
                <a:t>44,6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46480" y="2183760"/>
              <a:ext cx="1198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accompanying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87680" y="247644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measure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585040" y="276732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1,3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54560" y="6143040"/>
              <a:ext cx="732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E-Europ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22320" y="643176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37,2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28200" y="3259800"/>
              <a:ext cx="1271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regional ident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68560" y="3552480"/>
              <a:ext cx="466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12,5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67600" y="1928880"/>
              <a:ext cx="7596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technical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54560" y="2221560"/>
              <a:ext cx="8420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assist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7000" y="2512440"/>
              <a:ext cx="375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spcAft>
                  <a:spcPts val="975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300" spc="-1" strike="noStrike">
                  <a:solidFill>
                    <a:srgbClr val="5e1115"/>
                  </a:solidFill>
                  <a:latin typeface="Arial"/>
                </a:rPr>
                <a:t>4,3%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5160" y="40428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ERDF Innovative Actions</a:t>
            </a:r>
            <a:br>
              <a:rPr sz="28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Main themes by country (% budget)</a:t>
            </a:r>
            <a:endParaRPr b="0" lang="en-US" sz="2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8820000" y="6524640"/>
            <a:ext cx="216000" cy="2174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7440"/>
              <a:gd name="textAreaBottom" fmla="*/ 203760 h 217440"/>
            </a:gdLst>
            <a:ahLst/>
            <a:rect l="textAreaLeft" t="textAreaTop" r="textAreaRight" b="textAreaBottom"/>
            <a:pathLst>
              <a:path w="21600" h="21744">
                <a:moveTo>
                  <a:pt x="0" y="0"/>
                </a:moveTo>
                <a:lnTo>
                  <a:pt x="21600" y="0"/>
                </a:lnTo>
                <a:lnTo>
                  <a:pt x="21600" y="21744"/>
                </a:lnTo>
                <a:lnTo>
                  <a:pt x="0" y="21744"/>
                </a:lnTo>
                <a:close/>
              </a:path>
              <a:path fill="lightenLess" w="21600" h="217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44">
                <a:moveTo>
                  <a:pt x="21600" y="0"/>
                </a:moveTo>
                <a:lnTo>
                  <a:pt x="21600" y="21744"/>
                </a:lnTo>
                <a:lnTo>
                  <a:pt x="20200" y="20344"/>
                </a:lnTo>
                <a:lnTo>
                  <a:pt x="20200" y="1400"/>
                </a:lnTo>
                <a:close/>
              </a:path>
              <a:path fill="darkenLess" w="21600" h="21744">
                <a:moveTo>
                  <a:pt x="21600" y="21744"/>
                </a:moveTo>
                <a:lnTo>
                  <a:pt x="0" y="21744"/>
                </a:lnTo>
                <a:lnTo>
                  <a:pt x="1400" y="20344"/>
                </a:lnTo>
                <a:lnTo>
                  <a:pt x="20200" y="20344"/>
                </a:lnTo>
                <a:close/>
              </a:path>
              <a:path fill="lighten" w="21600" h="21744">
                <a:moveTo>
                  <a:pt x="0" y="217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44"/>
                </a:lnTo>
                <a:close/>
              </a:path>
              <a:path fill="darken" w="21600" h="21744">
                <a:moveTo>
                  <a:pt x="3794" y="10872"/>
                </a:moveTo>
                <a:lnTo>
                  <a:pt x="17806" y="3865"/>
                </a:lnTo>
                <a:lnTo>
                  <a:pt x="17806" y="17878"/>
                </a:lnTo>
                <a:close/>
              </a:path>
            </a:pathLst>
          </a:cu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08000" y="1814400"/>
          <a:ext cx="8748720" cy="485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814400"/>
                    <a:ext cx="8748720" cy="48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0" y="1676520"/>
            <a:ext cx="4572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0" y="29484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00"/>
                </a:solidFill>
                <a:latin typeface="Tahoma"/>
              </a:rPr>
              <a:t>ERIK Partner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0" y="1701720"/>
            <a:ext cx="91440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9600" y="1735200"/>
            <a:ext cx="4611600" cy="51228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648320" y="1828800"/>
            <a:ext cx="35179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1.  Emilia Romagna (Ita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2.  Toscana (Ita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</a:rPr>
              <a:t>3.</a:t>
            </a:r>
            <a:r>
              <a:rPr b="1" lang="de-DE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de-DE" sz="1400" spc="-1" strike="noStrike">
                <a:solidFill>
                  <a:srgbClr val="000066"/>
                </a:solidFill>
                <a:latin typeface="Tahoma"/>
              </a:rPr>
              <a:t>Nieder Österreich (Austri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Tahoma"/>
              </a:rPr>
              <a:t>4. 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Wallonie (Belgiu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ahoma"/>
              </a:rPr>
              <a:t>5.  Basse Normandie (Fr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ahoma"/>
              </a:rPr>
              <a:t>6.  Lorraine (Fran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66"/>
                </a:solidFill>
                <a:latin typeface="Tahoma"/>
              </a:rPr>
              <a:t>7. 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Bremen (Germany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8.  Lombardia (Italy)</a:t>
            </a:r>
            <a:r>
              <a:rPr b="1" i="1" lang="it-IT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9.  Thessaly (Gree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10. Alentejo (Portug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66"/>
                </a:solidFill>
                <a:latin typeface="Tahoma"/>
              </a:rPr>
              <a:t>11.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Aragon (Spa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12. Murcia (Spai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13. West Midlands (United Kingdom)</a:t>
            </a: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0" y="1703520"/>
            <a:ext cx="4572000" cy="518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63880" y="25992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6600"/>
                </a:solidFill>
                <a:latin typeface="Tahoma"/>
              </a:rPr>
              <a:t>New Associate Region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7960" y="1887480"/>
            <a:ext cx="3276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Balearic Islands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Castilla y Leon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Catalunya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Crete Region (Greec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Epirus (Greec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Extremadura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Flanders (Belgium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Gelderland (Netherlands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Ionian Islands (Greec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Kalmar County (Swede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Liguria (Ital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North-Brabant (the Netherlands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Piemonte (Ital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Rioja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achsen (Germany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outh Holland (the Netherlands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terea Ellada (Greece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tockholm County (Swede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Storstrom County (Denmark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Valencia (Spai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148320" indent="-14832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Vastra Gotaland (Sweden)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0" y="1700280"/>
            <a:ext cx="91440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-39600" y="1735200"/>
            <a:ext cx="461160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08240" y="366480"/>
            <a:ext cx="6324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00"/>
                </a:solidFill>
                <a:latin typeface="Tahoma"/>
              </a:rPr>
              <a:t>ERIK actions</a:t>
            </a:r>
            <a:endParaRPr b="0" lang="en-US" sz="32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280" y="2421000"/>
            <a:ext cx="802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Innovative Regions Policy Forum and the conference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Thematic Working Group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Workshops and study visits exchange programm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ERIK Website and Newsletter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Database of good practic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6324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6600"/>
                </a:solidFill>
                <a:latin typeface="Tahoma"/>
              </a:rPr>
              <a:t>ERIK actions</a:t>
            </a:r>
            <a:br>
              <a:rPr sz="2800"/>
            </a:br>
            <a:r>
              <a:rPr b="0" lang="en-GB" sz="2800" spc="-1" strike="noStrike">
                <a:solidFill>
                  <a:srgbClr val="cc6600"/>
                </a:solidFill>
                <a:latin typeface="Tahoma"/>
              </a:rPr>
              <a:t>Thematic Working Groups</a:t>
            </a:r>
            <a:endParaRPr b="0" lang="en-US" sz="2800" spc="-1" strike="noStrike">
              <a:solidFill>
                <a:srgbClr val="cc66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9640" y="227808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Clusters and business networks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ervices and support to start-up and spin-off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Science and industry relationships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Regional innovation benchmarking and foresight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4800" y="439200"/>
            <a:ext cx="700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Tahoma"/>
              </a:rPr>
              <a:t>ERDF Innovative Actions</a:t>
            </a:r>
            <a:br>
              <a:rPr sz="28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Technological Innovation theme by measure</a:t>
            </a:r>
            <a:br>
              <a:rPr sz="2200"/>
            </a:br>
            <a:r>
              <a:rPr b="1" lang="en-GB" sz="2200" spc="-1" strike="noStrike">
                <a:solidFill>
                  <a:srgbClr val="cc6600"/>
                </a:solidFill>
                <a:latin typeface="Tahoma"/>
              </a:rPr>
              <a:t>(</a:t>
            </a:r>
            <a:r>
              <a:rPr b="1" lang="en-GB" sz="2000" spc="-1" strike="noStrike">
                <a:solidFill>
                  <a:srgbClr val="cc6600"/>
                </a:solidFill>
                <a:latin typeface="Tahoma"/>
              </a:rPr>
              <a:t>% budget)</a:t>
            </a:r>
            <a:endParaRPr b="0" lang="en-US" sz="2000" spc="-1" strike="noStrike">
              <a:solidFill>
                <a:srgbClr val="cc6600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396720" y="1432080"/>
          <a:ext cx="10009080" cy="5668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6720" y="1432080"/>
                    <a:ext cx="10009080" cy="566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4:05:15Z</dcterms:created>
  <dc:creator>elisabetta toschi</dc:creator>
  <dc:description/>
  <dc:language>en-US</dc:language>
  <cp:lastModifiedBy>miedzinski</cp:lastModifiedBy>
  <dcterms:modified xsi:type="dcterms:W3CDTF">2004-06-07T16:18:20Z</dcterms:modified>
  <cp:revision>111</cp:revision>
  <dc:subject/>
  <dc:title>Presentazione di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71456818</vt:r8>
  </property>
  <property fmtid="{D5CDD505-2E9C-101B-9397-08002B2CF9AE}" pid="3" name="_AuthorEmail">
    <vt:lpwstr>m.miedzinski@regionicentroitalia.org</vt:lpwstr>
  </property>
  <property fmtid="{D5CDD505-2E9C-101B-9397-08002B2CF9AE}" pid="4" name="_AuthorEmailDisplayName">
    <vt:lpwstr>Michal Miedzinski</vt:lpwstr>
  </property>
  <property fmtid="{D5CDD505-2E9C-101B-9397-08002B2CF9AE}" pid="5" name="_EmailSubject">
    <vt:lpwstr>presentation for Patras</vt:lpwstr>
  </property>
</Properties>
</file>