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0840" y="3872160"/>
            <a:ext cx="8494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360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0840" y="387216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3600" y="387216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2920" y="152352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000" y="152352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0840" y="387216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2920" y="387216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000" y="387216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414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73600" y="1523520"/>
            <a:ext cx="414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4360" y="326520"/>
            <a:ext cx="85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3600" y="1523520"/>
            <a:ext cx="414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20840" y="387216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414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60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73600" y="387216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60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0840" y="3872160"/>
            <a:ext cx="8494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0840" y="3872160"/>
            <a:ext cx="8494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360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0840" y="387216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73600" y="387216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52352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5000" y="152352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0840" y="387216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87216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5000" y="3872160"/>
            <a:ext cx="2734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414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3600" y="1523520"/>
            <a:ext cx="414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14360" y="326520"/>
            <a:ext cx="85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3600" y="1523520"/>
            <a:ext cx="414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0840" y="387216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414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360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3600" y="387216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3600" y="1523520"/>
            <a:ext cx="41450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0840" y="3872160"/>
            <a:ext cx="8494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38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443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  <a:p>
            <a:pPr lvl="1" marL="682560" indent="-220680">
              <a:spcBef>
                <a:spcPts val="601"/>
              </a:spcBef>
              <a:buClr>
                <a:srgbClr val="e23818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443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  <a:p>
            <a:pPr lvl="2" marL="1144440" indent="-231480">
              <a:spcBef>
                <a:spcPts val="601"/>
              </a:spcBef>
              <a:buClr>
                <a:srgbClr val="e23818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443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  <a:p>
            <a:pPr lvl="3" marL="1595520" indent="-220680">
              <a:spcBef>
                <a:spcPts val="601"/>
              </a:spcBef>
              <a:buClr>
                <a:srgbClr val="e23818"/>
              </a:buClr>
              <a:buSzPct val="5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443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  <a:p>
            <a:pPr lvl="4" marL="2057400" indent="-231840">
              <a:spcBef>
                <a:spcPts val="601"/>
              </a:spcBef>
              <a:buClr>
                <a:srgbClr val="e23818"/>
              </a:buClr>
              <a:buSzPct val="5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443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  <a:p>
            <a:pPr lvl="5" marL="2057400" indent="-231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443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  <a:p>
            <a:pPr lvl="6" marL="2057400" indent="-231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443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1219320"/>
            <a:ext cx="9140760" cy="0"/>
          </a:xfrm>
          <a:prstGeom prst="line">
            <a:avLst/>
          </a:prstGeom>
          <a:ln w="9360">
            <a:solidFill>
              <a:srgbClr val="e23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2280" y="391680"/>
            <a:ext cx="84931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381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23818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19320"/>
            <a:ext cx="9140760" cy="0"/>
          </a:xfrm>
          <a:prstGeom prst="line">
            <a:avLst/>
          </a:prstGeom>
          <a:ln w="9360">
            <a:solidFill>
              <a:srgbClr val="e23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4435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644e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6644e"/>
              </a:solidFill>
              <a:latin typeface="Arial"/>
            </a:endParaRPr>
          </a:p>
          <a:p>
            <a:pPr lvl="2" marL="912960" algn="ctr">
              <a:spcBef>
                <a:spcPts val="499"/>
              </a:spcBef>
              <a:buClr>
                <a:srgbClr val="e23818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8c6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8c6d"/>
              </a:solidFill>
              <a:latin typeface="Arial"/>
            </a:endParaRPr>
          </a:p>
          <a:p>
            <a:pPr lvl="3" marL="1371600" indent="3240" algn="ctr">
              <a:spcBef>
                <a:spcPts val="451"/>
              </a:spcBef>
              <a:buClr>
                <a:srgbClr val="e23818"/>
              </a:buClr>
              <a:buSzPct val="5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5560" algn="ctr">
              <a:spcBef>
                <a:spcPts val="400"/>
              </a:spcBef>
              <a:buClr>
                <a:srgbClr val="e23818"/>
              </a:buClr>
              <a:buSzPct val="50000"/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989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989898"/>
              </a:solidFill>
              <a:latin typeface="Arial"/>
            </a:endParaRPr>
          </a:p>
          <a:p>
            <a:pPr lvl="5" marL="182556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989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989898"/>
              </a:solidFill>
              <a:latin typeface="Arial"/>
            </a:endParaRPr>
          </a:p>
          <a:p>
            <a:pPr lvl="6" marL="182556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989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98989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ST MIDLANDS APPROACH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ARTNERSHIP WORK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28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4435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44435"/>
                </a:solidFill>
                <a:latin typeface="Arial"/>
              </a:rPr>
              <a:t>‘</a:t>
            </a:r>
            <a:r>
              <a:rPr b="1" lang="en-GB" sz="3600" spc="-1" strike="noStrike">
                <a:solidFill>
                  <a:srgbClr val="044435"/>
                </a:solidFill>
                <a:latin typeface="Arial"/>
              </a:rPr>
              <a:t>MAKING EUROPE WORK </a:t>
            </a:r>
            <a:endParaRPr b="0" lang="en-US" sz="3600" spc="-1" strike="noStrike">
              <a:solidFill>
                <a:srgbClr val="044435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44435"/>
                </a:solidFill>
                <a:latin typeface="Arial"/>
              </a:rPr>
              <a:t>FOR THE WEST MIDLANDS’</a:t>
            </a:r>
            <a:endParaRPr b="0" lang="en-US" sz="3600" spc="-1" strike="noStrike">
              <a:solidFill>
                <a:srgbClr val="04443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44435"/>
                </a:solidFill>
                <a:latin typeface="Arial"/>
              </a:rPr>
              <a:t>John Finney</a:t>
            </a:r>
            <a:endParaRPr b="0" lang="en-US" sz="2000" spc="-1" strike="noStrike">
              <a:solidFill>
                <a:srgbClr val="044435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44435"/>
                </a:solidFill>
                <a:latin typeface="Arial"/>
              </a:rPr>
              <a:t>Advantage West Midlands</a:t>
            </a:r>
            <a:endParaRPr b="0" lang="en-US" sz="2000" spc="-1" strike="noStrike">
              <a:solidFill>
                <a:srgbClr val="044435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44435"/>
                </a:solidFill>
                <a:latin typeface="Arial"/>
              </a:rPr>
              <a:t>Head of European</a:t>
            </a:r>
            <a:endParaRPr b="0" lang="en-US" sz="2000" spc="-1" strike="noStrike">
              <a:solidFill>
                <a:srgbClr val="044435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44435"/>
                </a:solidFill>
                <a:latin typeface="Arial"/>
              </a:rPr>
              <a:t>Strategy Secretariat</a:t>
            </a:r>
            <a:endParaRPr b="0" lang="en-US" sz="20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2381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1" lang="en-GB" sz="3200" spc="-1" strike="noStrike">
                <a:solidFill>
                  <a:srgbClr val="e23818"/>
                </a:solidFill>
                <a:latin typeface="Arial"/>
              </a:rPr>
              <a:t> ‘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e23818"/>
                </a:solidFill>
                <a:latin typeface="Arial"/>
              </a:rPr>
              <a:t>’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1" lang="en-US" sz="32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rogrammes – Structural Funds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ost 2006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reparation 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MIER LEAGUE</a:t>
            </a:r>
            <a:endParaRPr b="1" lang="en-US" sz="32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artnership i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lace- Region &amp; Brussels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lanning for the Premiership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aul Harris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rogramme- interim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ORITIES</a:t>
            </a:r>
            <a:endParaRPr b="1" lang="en-US" sz="32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owerful Voice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olicy Development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romoting in Europe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artnerships – other regions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RTNERSHIP RESULTS</a:t>
            </a:r>
            <a:endParaRPr b="1" lang="en-US" sz="32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athways – groups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ro-active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rojects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rogrammes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RTNERSHIP DEVELOPMENT</a:t>
            </a:r>
            <a:endParaRPr b="1" lang="en-US" sz="32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erceptions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rogression – Highbury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rojects an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ilots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owerfu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artnerships - Brussels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MP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MING</a:t>
            </a:r>
            <a:endParaRPr b="1" lang="en-US" sz="32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riestley Wharf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athway secondments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oland 1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oland 2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ULTIMATE SLIDE</a:t>
            </a:r>
            <a:endParaRPr b="1" lang="en-US" sz="32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(Action)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lan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(Business)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lan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artnership responsibility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artnership commitment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4360" y="3265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STSCRIPT</a:t>
            </a:r>
            <a:endParaRPr b="1" lang="en-US" sz="3200" spc="-1" strike="noStrike">
              <a:solidFill>
                <a:srgbClr val="e2381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0840" y="1523520"/>
            <a:ext cx="8494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e23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Cunning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44435"/>
                </a:solidFill>
                <a:latin typeface="Arial"/>
              </a:rPr>
              <a:t>lan:</a:t>
            </a:r>
            <a:endParaRPr b="0" lang="en-US" sz="2800" spc="-1" strike="noStrike">
              <a:solidFill>
                <a:srgbClr val="044435"/>
              </a:solidFill>
              <a:latin typeface="Arial"/>
            </a:endParaRPr>
          </a:p>
          <a:p>
            <a:pPr lvl="1" marL="68256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6644e"/>
              </a:solidFill>
              <a:latin typeface="Arial"/>
            </a:endParaRPr>
          </a:p>
          <a:p>
            <a:pPr lvl="1" marL="682560" indent="-220680">
              <a:spcBef>
                <a:spcPts val="774"/>
              </a:spcBef>
              <a:buClr>
                <a:srgbClr val="e23818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6644e"/>
                </a:solidFill>
                <a:latin typeface="Arial"/>
              </a:rPr>
              <a:t>Making EUROPE work for the WEST MIDLANDS</a:t>
            </a:r>
            <a:endParaRPr b="0" lang="en-US" sz="3100" spc="-1" strike="noStrike">
              <a:solidFill>
                <a:srgbClr val="06644e"/>
              </a:solidFill>
              <a:latin typeface="Arial"/>
            </a:endParaRPr>
          </a:p>
          <a:p>
            <a:pPr lvl="1" marL="682560" indent="-220680">
              <a:spcBef>
                <a:spcPts val="774"/>
              </a:spcBef>
              <a:buClr>
                <a:srgbClr val="e23818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6644e"/>
                </a:solidFill>
                <a:latin typeface="Arial"/>
              </a:rPr>
              <a:t>How the WEST MIDLANDS can work in EUROPE</a:t>
            </a:r>
            <a:endParaRPr b="0" lang="en-US" sz="3100" spc="-1" strike="noStrike">
              <a:solidFill>
                <a:srgbClr val="06644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3:12:51Z</dcterms:created>
  <dc:creator>michael Balenski</dc:creator>
  <dc:description/>
  <dc:language>en-US</dc:language>
  <cp:lastModifiedBy>michael Balenski</cp:lastModifiedBy>
  <dcterms:modified xsi:type="dcterms:W3CDTF">2004-06-09T16:14:15Z</dcterms:modified>
  <cp:revision>7</cp:revision>
  <dc:subject/>
  <dc:title>WEST MIDLANDS APPROACH TO PARTNERSHIP WORK IN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7650485</vt:r8>
  </property>
  <property fmtid="{D5CDD505-2E9C-101B-9397-08002B2CF9AE}" pid="3" name="_AuthorEmail">
    <vt:lpwstr>MichaelBalenski@ADVANTAGEWM.CO.UK</vt:lpwstr>
  </property>
  <property fmtid="{D5CDD505-2E9C-101B-9397-08002B2CF9AE}" pid="4" name="_AuthorEmailDisplayName">
    <vt:lpwstr>Michael Balenski</vt:lpwstr>
  </property>
  <property fmtid="{D5CDD505-2E9C-101B-9397-08002B2CF9AE}" pid="5" name="_EmailSubject">
    <vt:lpwstr>power point2</vt:lpwstr>
  </property>
</Properties>
</file>